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  <p:custShowLst>
    <p:custShow name="обратимые" id="0">
      <p:sldLst>
        <p:sld r:id="rId9"/>
      </p:sldLst>
    </p:custShow>
    <p:custShow name="необратимые" id="1">
      <p:sldLst>
        <p:sld r:id="rId10"/>
      </p:sldLst>
    </p:custShow>
    <p:custShow name="график" id="2">
      <p:sldLst>
        <p:sld r:id="rId12"/>
      </p:sldLst>
    </p:custShow>
    <p:custShow name="Ле Шателье" id="3">
      <p:sldLst>
        <p:sld r:id="rId14"/>
      </p:sldLst>
    </p:custShow>
    <p:custShow name="эндотермическая реакция" id="4">
      <p:sldLst>
        <p:sld r:id="rId18"/>
      </p:sldLst>
    </p:custShow>
    <p:custShow name="экзотермическая реакция" id="5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63C-CA18-427A-B7B6-1241307C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3BF-D6ED-4912-95FF-34079592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3C7-995F-4FA2-B880-97FBFEA0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54-75A9-4E06-8BE6-69E1B52A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234-48E5-421C-A440-1D16FD2E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094C-D132-4232-A57F-000FAE4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FEC-F65C-471D-8791-D18B987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24FB-9B52-4B42-8A68-D12B03A8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2FD5-FC45-42F3-9E2A-8F5080AB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B2B2-4BE7-44EA-AEE4-A8A52A0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7C88-E575-4D3C-9A4D-0AA1A27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BF6-DB87-412A-976E-F3A0AC7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BE0A-D618-432A-A44B-FE9BEFA7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570F-A233-4C3F-B140-C918EFB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0BCE-EF66-4065-AA01-B412B933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2CF1-21B0-4ADF-894F-3B50F7D3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5F26-7F05-43D0-91F3-78A1982C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95F-9B15-4602-A35F-587ADA4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6B3-5519-4835-AA55-42DC2C0B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32B-BED9-4396-A461-DEDBE82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596-E0F4-44B6-A189-B9344665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A04-EC17-4B79-B19C-9D847599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897-46C9-40C1-9E69-F717254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A78-E30F-482C-833C-BCF763D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6EDA-A826-46F4-96DB-45F5550F80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CCE8-77C9-4D49-9455-E83932FB07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116000" y="1268280"/>
            <a:ext cx="668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РАВНОВЕС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РИРОД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РАВНОВЕС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941"/>
                </a:solidFill>
                <a:latin typeface="Arial"/>
              </a:rPr>
              <a:t>ПРИНЦИП</a:t>
            </a:r>
            <a:r>
              <a:rPr b="0" lang="en-US" sz="3600" spc="-1" strike="noStrike">
                <a:solidFill>
                  <a:srgbClr val="ecf941"/>
                </a:solidFill>
                <a:latin typeface="Arial"/>
              </a:rPr>
              <a:t>  ЛЕ ШАТЕЛЬ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ли на систем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ходящуюся в состоянии равнове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извести внешнее воздейств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изменить давление, температуру, концентрацию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 равновесие сместитс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сторон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меньшения данного воз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884 г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Ле Шателье 2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2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858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79280" y="476280"/>
            <a:ext cx="8785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cf941"/>
                </a:solidFill>
                <a:latin typeface="Tahoma"/>
              </a:rPr>
              <a:t>Анри Луи Ле Шател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cf941"/>
                </a:solidFill>
                <a:latin typeface="Tahoma"/>
              </a:rPr>
              <a:t>(8. 10. 1850 – 17. 09. 193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Французский физикохимик и металловед, чле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Парижской академии наук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с 1907).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Родился в Париж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Учился в Политехнической школе и Высшей гор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школе в Париже. Затем был горным инженер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в Алжире и Безансоне.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878 – 1919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профессо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Высшей горной школы. В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07 – 1925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работал в Парижск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университе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Исследования относятся к физической хим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Предложил оригинальный способ определения теплоемкост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газов при высоких температурах. Сформулировал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1884)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общий закон смещения химического равнове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(принцип Ле Шателье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Изучал химические процессы в металлургии. Изучал свой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и способы приготовления цементов. Создал металлографиче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микроскоп и усовершенствовал методику исследования стро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металлов и сплавов. Нашел условия синтеза аммиа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Президент Французского химического общества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1931).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Иностранный член – корреспондент Петербург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академии наук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с 1913)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cc00"/>
                </a:solidFill>
                <a:latin typeface="Tahoma"/>
              </a:rPr>
              <a:t>и почетный член АН СССР</a:t>
            </a: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с 1926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Ле Шателье"/>
          <p:cNvPicPr/>
          <p:nvPr/>
        </p:nvPicPr>
        <p:blipFill>
          <a:blip r:embed="rId1"/>
          <a:stretch/>
        </p:blipFill>
        <p:spPr>
          <a:xfrm>
            <a:off x="611280" y="549360"/>
            <a:ext cx="1584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612360" y="257040"/>
            <a:ext cx="36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f941"/>
                </a:solidFill>
                <a:latin typeface="Arial"/>
              </a:rPr>
              <a:t>1. Концентр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65080" y="1125360"/>
            <a:ext cx="3276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896040" y="227664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Реагирующие вещ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5145480" y="225108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Продукты реа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756720" y="2997360"/>
            <a:ext cx="682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РЕАГИРУЮЩИХ ВЕЩЕСТ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ПРАВ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821160" y="4581360"/>
            <a:ext cx="65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ПРОДУКТОВ РЕАКЦИИ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ЛЕВО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168880" y="1125360"/>
            <a:ext cx="21621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 N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140360" y="1341360"/>
            <a:ext cx="71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4284720" y="1484280"/>
            <a:ext cx="57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4284720" y="1628640"/>
            <a:ext cx="57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468360" y="3284280"/>
            <a:ext cx="0" cy="93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27"/>
          <p:cNvSpPr/>
          <p:nvPr/>
        </p:nvSpPr>
        <p:spPr>
          <a:xfrm flipV="1">
            <a:off x="468360" y="4941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78920" y="2602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f941"/>
                </a:solidFill>
                <a:latin typeface="Arial"/>
              </a:rPr>
              <a:t>2. Темп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50200" y="11592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ндотермическая реак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849840" y="6206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кзотермическая реак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05640" y="3429000"/>
            <a:ext cx="34970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141440" y="321300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+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212360" y="4218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- 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61600" y="5081760"/>
            <a:ext cx="45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t</a:t>
            </a:r>
            <a:r>
              <a:rPr b="1" lang="en-US" sz="40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 равновесие сместитс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вле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61960" y="580536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t</a:t>
            </a:r>
            <a:r>
              <a:rPr b="1" lang="en-US" sz="40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 равновесие смести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в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4140360" y="3860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4140000" y="414972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5454720" y="3425760"/>
            <a:ext cx="36237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 N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+ Q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738720" y="17002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= -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5171040" y="1700280"/>
            <a:ext cx="30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c= + Q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1"/>
          <p:cNvSpPr/>
          <p:nvPr/>
        </p:nvSpPr>
        <p:spPr>
          <a:xfrm flipV="1">
            <a:off x="395280" y="1844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4788000" y="1844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468360" y="5229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468360" y="595008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317080" y="6165720"/>
            <a:ext cx="588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40920" y="1052640"/>
            <a:ext cx="8427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f941"/>
                </a:solidFill>
                <a:latin typeface="Tahoma"/>
              </a:rPr>
              <a:t>Экзотермические реакции –</a:t>
            </a:r>
            <a:r>
              <a:rPr b="1" lang="en-US" sz="3200" spc="-1" strike="noStrike">
                <a:solidFill>
                  <a:srgbClr val="ecf94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реакции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текающие с выделением теп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 ним обычно относятся в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акции соеди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личество выделившейся тепл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змеряется в кДж/мол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5"/>
          <p:cNvGraphicFramePr/>
          <p:nvPr/>
        </p:nvGraphicFramePr>
        <p:xfrm>
          <a:off x="468360" y="549360"/>
          <a:ext cx="8064360" cy="575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06436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664560" y="1792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f941"/>
                </a:solidFill>
                <a:latin typeface="Arial"/>
              </a:rPr>
              <a:t>3.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44800" y="836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вление применяется только дл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газов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16720" y="4365720"/>
            <a:ext cx="4447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Arial"/>
              </a:rPr>
              <a:t>2(г)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+ 3 H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Arial"/>
              </a:rPr>
              <a:t>2(г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181080" y="3860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1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205440" y="3860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3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805800" y="3357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941"/>
                </a:solidFill>
                <a:latin typeface="Arial"/>
              </a:rPr>
              <a:t>2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1621080" y="3357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941"/>
                </a:solidFill>
                <a:latin typeface="Arial"/>
              </a:rPr>
              <a:t>4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105120" y="5491080"/>
            <a:ext cx="48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равновесие сместит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4424040" y="6138720"/>
            <a:ext cx="46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равновесие сместит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ле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5003640" y="4724280"/>
            <a:ext cx="865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Line 23"/>
          <p:cNvSpPr/>
          <p:nvPr/>
        </p:nvSpPr>
        <p:spPr>
          <a:xfrm flipH="1">
            <a:off x="5003640" y="4941720"/>
            <a:ext cx="865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303240" y="4292640"/>
            <a:ext cx="258408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2NH</a:t>
            </a:r>
            <a:r>
              <a:rPr b="1" lang="ru-RU" sz="6000" spc="-1" strike="noStrike" baseline="-25000">
                <a:solidFill>
                  <a:srgbClr val="ffffff"/>
                </a:solidFill>
                <a:latin typeface="Tahoma"/>
              </a:rPr>
              <a:t>3(г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848520" y="1773360"/>
            <a:ext cx="179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 -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6336720" y="1700280"/>
            <a:ext cx="194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 -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30"/>
          <p:cNvSpPr/>
          <p:nvPr/>
        </p:nvSpPr>
        <p:spPr>
          <a:xfrm flipV="1">
            <a:off x="755640" y="1915920"/>
            <a:ext cx="0" cy="50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31"/>
          <p:cNvSpPr/>
          <p:nvPr/>
        </p:nvSpPr>
        <p:spPr>
          <a:xfrm>
            <a:off x="2124000" y="198900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32"/>
          <p:cNvSpPr/>
          <p:nvPr/>
        </p:nvSpPr>
        <p:spPr>
          <a:xfrm flipV="1">
            <a:off x="7596360" y="1844640"/>
            <a:ext cx="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33"/>
          <p:cNvSpPr/>
          <p:nvPr/>
        </p:nvSpPr>
        <p:spPr>
          <a:xfrm>
            <a:off x="6227640" y="1916280"/>
            <a:ext cx="0" cy="50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1521000" y="270828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м твердых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жидких веществ равен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у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35"/>
          <p:cNvSpPr/>
          <p:nvPr/>
        </p:nvSpPr>
        <p:spPr>
          <a:xfrm flipV="1">
            <a:off x="108000" y="5589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36"/>
          <p:cNvSpPr/>
          <p:nvPr/>
        </p:nvSpPr>
        <p:spPr>
          <a:xfrm>
            <a:off x="4427640" y="623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50920" y="333360"/>
            <a:ext cx="85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какую сторону сместится равновес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обратимом процессе, уравнение  котор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 N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(г)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+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(г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2 N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(г)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+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4000" y="3429000"/>
          <a:ext cx="3911400" cy="217008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А. увеличить д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Б. увеличить температу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В. Увеличить концентрацию     кисл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643280" y="2708280"/>
          <a:ext cx="3961080" cy="173664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64"/>
          <p:cNvSpPr/>
          <p:nvPr/>
        </p:nvSpPr>
        <p:spPr>
          <a:xfrm>
            <a:off x="4919400" y="3213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пра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4925880" y="393372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ле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66"/>
          <p:cNvSpPr/>
          <p:nvPr/>
        </p:nvSpPr>
        <p:spPr>
          <a:xfrm>
            <a:off x="4919400" y="4869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пра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260280"/>
            <a:ext cx="914400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a5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Как известно, в воздухе содержится 21</a:t>
            </a:r>
            <a:r>
              <a:rPr b="1" lang="en-US" sz="2800" spc="-1" strike="noStrike">
                <a:solidFill>
                  <a:srgbClr val="ecf941"/>
                </a:solidFill>
                <a:latin typeface="Arial"/>
              </a:rPr>
              <a:t>%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кислорода (по массе).</a:t>
            </a:r>
            <a:r>
              <a:rPr b="0" lang="ru-RU" sz="2800" spc="-1" strike="noStrike">
                <a:solidFill>
                  <a:srgbClr val="ecf94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Такое колич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необходимо для поддерж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cf941"/>
                </a:solidFill>
                <a:latin typeface="Arial"/>
              </a:rPr>
              <a:t>естественного равновесия</a:t>
            </a:r>
            <a:r>
              <a:rPr b="0" lang="ru-RU" sz="2800" spc="-1" strike="noStrike">
                <a:solidFill>
                  <a:srgbClr val="ecf94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О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Arial"/>
              </a:rPr>
              <a:t>2(г)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2O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Arial"/>
              </a:rPr>
              <a:t>3(г)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цируйте данную реак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значение имеет озон для планеты Земл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принцип Ле Шателье предложи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ловия, при которых равновесие буд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щаться в сторону образования оз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165680" y="395280"/>
            <a:ext cx="41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941"/>
                </a:solidFill>
                <a:latin typeface="Arial"/>
              </a:rPr>
              <a:t>Домашнее задани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8280" y="1484280"/>
            <a:ext cx="899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Ле Шателье широко используется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мической техн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повышения выхода продукта производ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гласуется ли процесс переноса кислор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рганизме с принципом Ле Шател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ответ обоснуйте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                    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Hb + O</a:t>
            </a:r>
            <a:r>
              <a:rPr b="1" lang="ru-RU" sz="5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ffff"/>
                </a:solidFill>
                <a:latin typeface="Wingdings"/>
                <a:ea typeface="Wingdings"/>
              </a:rPr>
              <a:t>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 HbO</a:t>
            </a:r>
            <a:r>
              <a:rPr b="1" lang="ru-RU" sz="5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2631240" y="18900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941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8280" y="1268280"/>
            <a:ext cx="78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становление взаимосвязи между состояни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вновесия системы и способа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го регул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415600" y="2997360"/>
            <a:ext cx="43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950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-56520" y="4292640"/>
            <a:ext cx="908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мотреть равновесие в приро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Актуализировать, расширить и углубить знания 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имическом равновесии и его смещ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Научиться использовать принцип Ле Шатель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решения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175320" y="404640"/>
            <a:ext cx="870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 – таки стран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существует слово для обознач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ого, чего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рого говоря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 существует в природе, - именно поко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.Бор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25280" y="450864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вечный бо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кой нам только снит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Б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838800" y="11592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941"/>
                </a:solidFill>
                <a:latin typeface="Arial"/>
              </a:rPr>
              <a:t>СОСТОЯНИЕ РАВНОВЕСИЯ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80960" y="765000"/>
            <a:ext cx="81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Постоянство внутренней сред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    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организм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95280" y="227664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003280" y="2276640"/>
            <a:ext cx="37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ИССИМИ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81320" y="2997360"/>
            <a:ext cx="81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Постоянство численности особ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         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в популя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50560" y="4316400"/>
            <a:ext cx="419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92720" y="43164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БЫЛЬ ОС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22800" y="5394240"/>
            <a:ext cx="80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Круговорот элементов и веществ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20640" y="5899320"/>
            <a:ext cx="846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Уравновешены потоки энергии в экосистем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разного уровня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-66240" y="4437000"/>
            <a:ext cx="90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 … равновесием мы понимаем состояние, в котором свой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стемы, определенные экспериментально, не претерпеваю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льнейшего изменения даже по истечении … времени. Одна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о не значит, что отдельные частицы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илберт Ньютон Лью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82040" y="404640"/>
            <a:ext cx="8073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Равновеси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ояние покоя, в котором находи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кое – нибудь тело под воздействием равных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тивоположно направленных и потому взаим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ничтожающихся си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Состояние спокойствия, уравновешенности, отсутств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начительных колебаний в настроениях, отноше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. И. Оже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Словарь русского язы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549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941"/>
                </a:solidFill>
                <a:latin typeface="Arial"/>
              </a:rPr>
              <a:t>По направленност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941"/>
                </a:solidFill>
                <a:latin typeface="Arial"/>
              </a:rPr>
              <a:t>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96160" y="3357720"/>
            <a:ext cx="346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ОБРАТИМ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576680" y="3357720"/>
            <a:ext cx="42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НЕОБРАТИМ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508720" y="1916280"/>
            <a:ext cx="718920" cy="93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2842920" y="1989000"/>
            <a:ext cx="79380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68580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464400" y="404640"/>
            <a:ext cx="8294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cf941"/>
                </a:solidFill>
                <a:latin typeface="Tahoma"/>
              </a:rPr>
              <a:t>Обратимые реакции – это реакц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cf941"/>
                </a:solidFill>
                <a:latin typeface="Tahoma"/>
              </a:rPr>
              <a:t>протекающие в данных условиях одновременно 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cf941"/>
                </a:solidFill>
                <a:latin typeface="Tahoma"/>
              </a:rPr>
              <a:t>двух противоположных направл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аких реакций подавляющее большин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рганической химии признак обратим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ажают названия – антонимы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*Гидрирование – дегидр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          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*Гидратация – дегидрат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              </a:t>
            </a:r>
            <a:r>
              <a:rPr b="1" lang="ru-RU" sz="2400" spc="-1" strike="noStrike">
                <a:solidFill>
                  <a:srgbClr val="00cc00"/>
                </a:solidFill>
                <a:latin typeface="Tahoma"/>
              </a:rPr>
              <a:t>*Полимеризация – деполимер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тимы все реакции этерифи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противоположный процесс носит наз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идролиза)и гидролиза белков, сложных эфи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глеводов, полинуклеотидов. Обратимость эт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ссов лежит в основе важнейшего свойст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го организма – обмена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18880" y="836640"/>
            <a:ext cx="838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cf941"/>
                </a:solidFill>
                <a:latin typeface="Tahoma"/>
              </a:rPr>
              <a:t>НЕОБРАТИМЫЕ РЕАКЦИ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cf941"/>
                </a:solidFill>
                <a:latin typeface="Tahoma"/>
              </a:rPr>
              <a:t>ЭТО РЕАКЦИИ, ПРОТЕКАЮЩ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cf941"/>
                </a:solidFill>
                <a:latin typeface="Tahoma"/>
              </a:rPr>
              <a:t>В ДАННЫХ УСЛОВИЯХ ТОЛЬКО В ОД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cf941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ecf941"/>
                </a:solidFill>
                <a:latin typeface="Tahoma"/>
              </a:rPr>
              <a:t>НАПРАВЛ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ним можно отнести все реакции обме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провождающиеся образованием осад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аза 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лодиссоциирующего вещества (вод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все реакции гор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577440" y="692280"/>
            <a:ext cx="3799440" cy="14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608520" y="1052640"/>
            <a:ext cx="21621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 NH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717440" y="76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502160" y="19890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т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4500720" y="1413000"/>
            <a:ext cx="165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4500360" y="1700280"/>
            <a:ext cx="165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601920" y="3573360"/>
            <a:ext cx="82227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стояние систем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котором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скорость прямой реакци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ВНА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скорости обратной реа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химическим равновеси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539640" y="263700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ф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388360" y="6093000"/>
            <a:ext cx="58896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зависимость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7:07:08Z</dcterms:created>
  <dc:creator>alex</dc:creator>
  <dc:description/>
  <dc:language>en-US</dc:language>
  <cp:lastModifiedBy>alex</cp:lastModifiedBy>
  <dcterms:modified xsi:type="dcterms:W3CDTF">2012-02-17T14:18:30Z</dcterms:modified>
  <cp:revision>118</cp:revision>
  <dc:subject/>
  <dc:title>Слайд 1</dc:title>
</cp:coreProperties>
</file>