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69D-68BF-4D4F-816D-31989D2D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BA0-B996-45BB-AA4A-AC64570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487-2849-468C-A3E9-EEEAFE01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6EC-2064-457B-888B-55414588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1DD-59DF-4881-BC52-3BED889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B77-8F81-450E-AE03-3C56670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8A6-4502-480F-9B72-E61E012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45B-2B0C-4649-A559-4C181621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0B0-186B-4358-AAE5-54D476F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B29-4B27-443F-BD7E-CB64376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CE-9A91-441B-BE88-1B03D69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10F-EF56-468D-AAF4-C867C95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7C0-6A2D-488B-BD29-53453AA40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14240" y="857160"/>
            <a:ext cx="8072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00"/>
                </a:solidFill>
                <a:latin typeface="Arial"/>
              </a:rPr>
              <a:t>СОЗДАНИЕ УСЛОВИЙ В ДОУ ДЛЯ ПОРОЖДЕНИЯ ПЕДАГОГИЧЕСКИХ ИНИЦИАТИ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Е. Л. Каза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8640720" cy="2087640"/>
            <a:chOff x="0" y="0"/>
            <a:chExt cx="8640720" cy="2087640"/>
          </a:xfrm>
        </p:grpSpPr>
        <p:grpSp>
          <p:nvGrpSpPr>
            <p:cNvPr id="44" name="Group 5"/>
            <p:cNvGrpSpPr/>
            <p:nvPr/>
          </p:nvGrpSpPr>
          <p:grpSpPr>
            <a:xfrm>
              <a:off x="7200" y="146160"/>
              <a:ext cx="1624680" cy="1832400"/>
              <a:chOff x="7200" y="146160"/>
              <a:chExt cx="1624680" cy="1832400"/>
            </a:xfrm>
          </p:grpSpPr>
          <p:sp>
            <p:nvSpPr>
              <p:cNvPr id="45" name="Rectangle 6" hidden="1"/>
              <p:cNvSpPr/>
              <p:nvPr/>
            </p:nvSpPr>
            <p:spPr>
              <a:xfrm>
                <a:off x="7200" y="146160"/>
                <a:ext cx="1624680" cy="18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654840" y="915840"/>
                <a:ext cx="977040" cy="1062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339120" y="146160"/>
                <a:ext cx="773280" cy="7970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7200" y="838440"/>
                <a:ext cx="651240" cy="70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Line 10"/>
            <p:cNvSpPr/>
            <p:nvPr/>
          </p:nvSpPr>
          <p:spPr>
            <a:xfrm>
              <a:off x="1221480" y="0"/>
              <a:ext cx="0" cy="208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H="1">
              <a:off x="0" y="1755000"/>
              <a:ext cx="864072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6948360" y="4941720"/>
            <a:ext cx="1927440" cy="1619280"/>
            <a:chOff x="6948360" y="4941720"/>
            <a:chExt cx="1927440" cy="1619280"/>
          </a:xfrm>
        </p:grpSpPr>
        <p:sp>
          <p:nvSpPr>
            <p:cNvPr id="52" name="Line 13"/>
            <p:cNvSpPr/>
            <p:nvPr/>
          </p:nvSpPr>
          <p:spPr>
            <a:xfrm>
              <a:off x="8633160" y="4941720"/>
              <a:ext cx="0" cy="161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 flipH="1">
              <a:off x="6948360" y="6365880"/>
              <a:ext cx="192744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84360" y="836280"/>
            <a:ext cx="511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Актуа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-360" y="0"/>
            <a:ext cx="8893080" cy="1620720"/>
            <a:chOff x="-360" y="0"/>
            <a:chExt cx="8893080" cy="1620720"/>
          </a:xfrm>
        </p:grpSpPr>
        <p:grpSp>
          <p:nvGrpSpPr>
            <p:cNvPr id="57" name="Group 8"/>
            <p:cNvGrpSpPr/>
            <p:nvPr/>
          </p:nvGrpSpPr>
          <p:grpSpPr>
            <a:xfrm>
              <a:off x="7200" y="113400"/>
              <a:ext cx="1672200" cy="1422720"/>
              <a:chOff x="7200" y="113400"/>
              <a:chExt cx="1672200" cy="1422720"/>
            </a:xfrm>
          </p:grpSpPr>
          <p:sp>
            <p:nvSpPr>
              <p:cNvPr id="58" name="Rectangle 9" hidden="1"/>
              <p:cNvSpPr/>
              <p:nvPr/>
            </p:nvSpPr>
            <p:spPr>
              <a:xfrm>
                <a:off x="7200" y="113400"/>
                <a:ext cx="167220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673920" y="711000"/>
                <a:ext cx="100548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348840" y="113400"/>
                <a:ext cx="79596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7200" y="650880"/>
                <a:ext cx="6703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13"/>
            <p:cNvSpPr/>
            <p:nvPr/>
          </p:nvSpPr>
          <p:spPr>
            <a:xfrm>
              <a:off x="125712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 flipH="1">
              <a:off x="-360" y="1362600"/>
              <a:ext cx="889308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16"/>
          <p:cNvSpPr/>
          <p:nvPr/>
        </p:nvSpPr>
        <p:spPr>
          <a:xfrm>
            <a:off x="6143760" y="1714680"/>
            <a:ext cx="2520720" cy="306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Управленческое содействие: помощь и поддержка педагогам в достижении результата в инновацион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357120" y="1714680"/>
            <a:ext cx="2521080" cy="3058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Государственная образовательная политика: обеспечение современного качества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203640" y="1700280"/>
            <a:ext cx="2663640" cy="3058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бразовательная практика современных ДОУ: освоение, внедрение и (или) разработка иннов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5840" y="5072040"/>
            <a:ext cx="850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При высоком потенциале педагогического коллектива ДОУ - низкая степень проявления педагогических инициат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39640" y="764640"/>
            <a:ext cx="441324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856944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зработка управленческого проекта по созданию условий в ДОУ для порождения педагогических иници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-360" y="0"/>
            <a:ext cx="8604360" cy="1620720"/>
            <a:chOff x="-360" y="0"/>
            <a:chExt cx="8604360" cy="1620720"/>
          </a:xfrm>
        </p:grpSpPr>
        <p:grpSp>
          <p:nvGrpSpPr>
            <p:cNvPr id="72" name="Group 5"/>
            <p:cNvGrpSpPr/>
            <p:nvPr/>
          </p:nvGrpSpPr>
          <p:grpSpPr>
            <a:xfrm>
              <a:off x="7200" y="113400"/>
              <a:ext cx="1617840" cy="1422720"/>
              <a:chOff x="7200" y="113400"/>
              <a:chExt cx="1617840" cy="1422720"/>
            </a:xfrm>
          </p:grpSpPr>
          <p:sp>
            <p:nvSpPr>
              <p:cNvPr id="73" name="Rectangle 6" hidden="1"/>
              <p:cNvSpPr/>
              <p:nvPr/>
            </p:nvSpPr>
            <p:spPr>
              <a:xfrm>
                <a:off x="7200" y="113400"/>
                <a:ext cx="161784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"/>
              <p:cNvSpPr/>
              <p:nvPr/>
            </p:nvSpPr>
            <p:spPr>
              <a:xfrm>
                <a:off x="652320" y="711000"/>
                <a:ext cx="97272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8"/>
              <p:cNvSpPr/>
              <p:nvPr/>
            </p:nvSpPr>
            <p:spPr>
              <a:xfrm>
                <a:off x="337680" y="113400"/>
                <a:ext cx="77004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9"/>
              <p:cNvSpPr/>
              <p:nvPr/>
            </p:nvSpPr>
            <p:spPr>
              <a:xfrm>
                <a:off x="7200" y="650880"/>
                <a:ext cx="64836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Line 10"/>
            <p:cNvSpPr/>
            <p:nvPr/>
          </p:nvSpPr>
          <p:spPr>
            <a:xfrm>
              <a:off x="121644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 flipH="1">
              <a:off x="-360" y="1362600"/>
              <a:ext cx="860436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5"/>
          <p:cNvSpPr/>
          <p:nvPr/>
        </p:nvSpPr>
        <p:spPr>
          <a:xfrm>
            <a:off x="2411280" y="2708280"/>
            <a:ext cx="4413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1"/>
          <p:cNvSpPr/>
          <p:nvPr/>
        </p:nvSpPr>
        <p:spPr>
          <a:xfrm>
            <a:off x="6286680" y="3357720"/>
            <a:ext cx="2519280" cy="3058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89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Разработать управленческий проект по созданию условий  в ДОУ для порождения педагогических инициат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/>
          <p:cNvSpPr/>
          <p:nvPr/>
        </p:nvSpPr>
        <p:spPr>
          <a:xfrm>
            <a:off x="3286080" y="3357720"/>
            <a:ext cx="2798640" cy="3058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Разработать исследовательский кейс по ДОУ с описанием  прецедентов проявления и осуществления инициатив педаго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357120" y="3357720"/>
            <a:ext cx="2519280" cy="3058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существить теоретический анализ современных подходов к организации инновационной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8000" y="476280"/>
            <a:ext cx="5770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Современные подх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0" y="0"/>
            <a:ext cx="8748720" cy="1620720"/>
            <a:chOff x="0" y="0"/>
            <a:chExt cx="8748720" cy="1620720"/>
          </a:xfrm>
        </p:grpSpPr>
        <p:grpSp>
          <p:nvGrpSpPr>
            <p:cNvPr id="86" name="Group 5"/>
            <p:cNvGrpSpPr/>
            <p:nvPr/>
          </p:nvGrpSpPr>
          <p:grpSpPr>
            <a:xfrm>
              <a:off x="7200" y="113400"/>
              <a:ext cx="1645200" cy="1422720"/>
              <a:chOff x="7200" y="113400"/>
              <a:chExt cx="1645200" cy="1422720"/>
            </a:xfrm>
          </p:grpSpPr>
          <p:sp>
            <p:nvSpPr>
              <p:cNvPr id="87" name="Rectangle 6" hidden="1"/>
              <p:cNvSpPr/>
              <p:nvPr/>
            </p:nvSpPr>
            <p:spPr>
              <a:xfrm>
                <a:off x="7200" y="113400"/>
                <a:ext cx="164520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7"/>
              <p:cNvSpPr/>
              <p:nvPr/>
            </p:nvSpPr>
            <p:spPr>
              <a:xfrm>
                <a:off x="663120" y="711000"/>
                <a:ext cx="98928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8"/>
              <p:cNvSpPr/>
              <p:nvPr/>
            </p:nvSpPr>
            <p:spPr>
              <a:xfrm>
                <a:off x="343440" y="113400"/>
                <a:ext cx="78300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"/>
              <p:cNvSpPr/>
              <p:nvPr/>
            </p:nvSpPr>
            <p:spPr>
              <a:xfrm>
                <a:off x="7200" y="650880"/>
                <a:ext cx="6595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10"/>
            <p:cNvSpPr/>
            <p:nvPr/>
          </p:nvSpPr>
          <p:spPr>
            <a:xfrm>
              <a:off x="123660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 flipH="1">
              <a:off x="0" y="1362600"/>
              <a:ext cx="874872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AutoShape 13"/>
          <p:cNvSpPr/>
          <p:nvPr/>
        </p:nvSpPr>
        <p:spPr>
          <a:xfrm>
            <a:off x="285840" y="1643040"/>
            <a:ext cx="2520720" cy="3873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Сластёнин В.А.: Инновация – это деятельность, направленная на разработку, создание и внедрение новых видов технологий, организационны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143160" y="1643040"/>
            <a:ext cx="2521080" cy="3873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Хуторский А.В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Arial"/>
              </a:rPr>
              <a:t>Инновация – это нововведения, целенаправленные изменения, вносящие в образование новые элементы, и вызывающие его переход из одного состояния в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6072120" y="1643040"/>
            <a:ext cx="2521080" cy="3873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Прозументова Г.Н.: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Инновация – это новое качество образовательного взаимодействия взрослого и ребёнка, становление субъектной позиции в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85840" y="5572080"/>
            <a:ext cx="8429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Инновационный процесс в образовани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процесс совершенствования образовательной практики на основе новов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8820000" cy="1620720"/>
            <a:chOff x="0" y="0"/>
            <a:chExt cx="8820000" cy="1620720"/>
          </a:xfrm>
        </p:grpSpPr>
        <p:grpSp>
          <p:nvGrpSpPr>
            <p:cNvPr id="99" name="Group 5"/>
            <p:cNvGrpSpPr/>
            <p:nvPr/>
          </p:nvGrpSpPr>
          <p:grpSpPr>
            <a:xfrm>
              <a:off x="7200" y="113400"/>
              <a:ext cx="1658520" cy="1422720"/>
              <a:chOff x="7200" y="113400"/>
              <a:chExt cx="1658520" cy="1422720"/>
            </a:xfrm>
          </p:grpSpPr>
          <p:sp>
            <p:nvSpPr>
              <p:cNvPr id="100" name="Rectangle 6" hidden="1"/>
              <p:cNvSpPr/>
              <p:nvPr/>
            </p:nvSpPr>
            <p:spPr>
              <a:xfrm>
                <a:off x="7200" y="113400"/>
                <a:ext cx="165852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7"/>
              <p:cNvSpPr/>
              <p:nvPr/>
            </p:nvSpPr>
            <p:spPr>
              <a:xfrm>
                <a:off x="668520" y="711000"/>
                <a:ext cx="99720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8"/>
              <p:cNvSpPr/>
              <p:nvPr/>
            </p:nvSpPr>
            <p:spPr>
              <a:xfrm>
                <a:off x="345960" y="113400"/>
                <a:ext cx="78948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9"/>
              <p:cNvSpPr/>
              <p:nvPr/>
            </p:nvSpPr>
            <p:spPr>
              <a:xfrm>
                <a:off x="7200" y="650880"/>
                <a:ext cx="6649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Line 10"/>
            <p:cNvSpPr/>
            <p:nvPr/>
          </p:nvSpPr>
          <p:spPr>
            <a:xfrm>
              <a:off x="124668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 flipH="1">
              <a:off x="0" y="1362600"/>
              <a:ext cx="882000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8520" y="428400"/>
            <a:ext cx="5770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Разработка управленческого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643040"/>
            <a:ext cx="85694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1. Анализ организационного дизайна МДОУ «Детский сад №17» компенсирующе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2. Качественный анализ педагогического колле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6"/>
          <p:cNvCxnSpPr/>
          <p:nvPr/>
        </p:nvCxnSpPr>
        <p:spPr>
          <a:xfrm flipH="1">
            <a:off x="2785680" y="3571920"/>
            <a:ext cx="861120" cy="714960"/>
          </a:xfrm>
          <a:prstGeom prst="straightConnector1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09" name="Прямая со стрелкой 18"/>
          <p:cNvCxnSpPr/>
          <p:nvPr/>
        </p:nvCxnSpPr>
        <p:spPr>
          <a:xfrm flipH="1">
            <a:off x="4428360" y="3571920"/>
            <a:ext cx="2520" cy="721440"/>
          </a:xfrm>
          <a:prstGeom prst="straightConnector1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10" name="Прямая со стрелкой 20"/>
          <p:cNvCxnSpPr/>
          <p:nvPr/>
        </p:nvCxnSpPr>
        <p:spPr>
          <a:xfrm>
            <a:off x="5500800" y="3571920"/>
            <a:ext cx="714960" cy="714960"/>
          </a:xfrm>
          <a:prstGeom prst="straightConnector1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</p:cxnSp>
      <p:pic>
        <p:nvPicPr>
          <p:cNvPr id="111" name="Рисунок 31" descr=""/>
          <p:cNvPicPr/>
          <p:nvPr/>
        </p:nvPicPr>
        <p:blipFill>
          <a:blip r:embed="rId1"/>
          <a:stretch/>
        </p:blipFill>
        <p:spPr>
          <a:xfrm>
            <a:off x="1428840" y="4357800"/>
            <a:ext cx="2181240" cy="1622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2" descr=""/>
          <p:cNvPicPr/>
          <p:nvPr/>
        </p:nvPicPr>
        <p:blipFill>
          <a:blip r:embed="rId2"/>
          <a:stretch/>
        </p:blipFill>
        <p:spPr>
          <a:xfrm>
            <a:off x="3357720" y="4429080"/>
            <a:ext cx="2360520" cy="1622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3" descr=""/>
          <p:cNvPicPr/>
          <p:nvPr/>
        </p:nvPicPr>
        <p:blipFill>
          <a:blip r:embed="rId3"/>
          <a:stretch/>
        </p:blipFill>
        <p:spPr>
          <a:xfrm>
            <a:off x="5429160" y="4357800"/>
            <a:ext cx="26560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0" y="0"/>
            <a:ext cx="8820000" cy="1620720"/>
            <a:chOff x="0" y="0"/>
            <a:chExt cx="8820000" cy="1620720"/>
          </a:xfrm>
        </p:grpSpPr>
        <p:grpSp>
          <p:nvGrpSpPr>
            <p:cNvPr id="116" name="Group 5"/>
            <p:cNvGrpSpPr/>
            <p:nvPr/>
          </p:nvGrpSpPr>
          <p:grpSpPr>
            <a:xfrm>
              <a:off x="7200" y="113400"/>
              <a:ext cx="1658520" cy="1422720"/>
              <a:chOff x="7200" y="113400"/>
              <a:chExt cx="1658520" cy="1422720"/>
            </a:xfrm>
          </p:grpSpPr>
          <p:sp>
            <p:nvSpPr>
              <p:cNvPr id="117" name="Rectangle 6" hidden="1"/>
              <p:cNvSpPr/>
              <p:nvPr/>
            </p:nvSpPr>
            <p:spPr>
              <a:xfrm>
                <a:off x="7200" y="113400"/>
                <a:ext cx="165852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668520" y="711000"/>
                <a:ext cx="99720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345960" y="113400"/>
                <a:ext cx="78948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7200" y="650880"/>
                <a:ext cx="6649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Line 10"/>
            <p:cNvSpPr/>
            <p:nvPr/>
          </p:nvSpPr>
          <p:spPr>
            <a:xfrm>
              <a:off x="124668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>
              <a:off x="0" y="1362600"/>
              <a:ext cx="882000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28520" y="428400"/>
            <a:ext cx="5770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Метод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14200" y="1643040"/>
            <a:ext cx="8569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1. Анкетирование «Барьеры в педагогической деятель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2. Тестирование «Ваш творческий потенци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3. Технология «Мой са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4. Деловая игра «Компетенции воспитателя нашего ДО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5. Реконструкция опыта инновационной деятельности – заполнение карты иннов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-360" y="0"/>
            <a:ext cx="8893080" cy="1620720"/>
            <a:chOff x="-360" y="0"/>
            <a:chExt cx="8893080" cy="1620720"/>
          </a:xfrm>
        </p:grpSpPr>
        <p:grpSp>
          <p:nvGrpSpPr>
            <p:cNvPr id="127" name="Group 5"/>
            <p:cNvGrpSpPr/>
            <p:nvPr/>
          </p:nvGrpSpPr>
          <p:grpSpPr>
            <a:xfrm>
              <a:off x="7200" y="113400"/>
              <a:ext cx="1672200" cy="1422720"/>
              <a:chOff x="7200" y="113400"/>
              <a:chExt cx="1672200" cy="1422720"/>
            </a:xfrm>
          </p:grpSpPr>
          <p:sp>
            <p:nvSpPr>
              <p:cNvPr id="128" name="Rectangle 6" hidden="1"/>
              <p:cNvSpPr/>
              <p:nvPr/>
            </p:nvSpPr>
            <p:spPr>
              <a:xfrm>
                <a:off x="7200" y="113400"/>
                <a:ext cx="167220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673920" y="711000"/>
                <a:ext cx="100548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348840" y="113400"/>
                <a:ext cx="79596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7200" y="650880"/>
                <a:ext cx="6703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10"/>
            <p:cNvSpPr/>
            <p:nvPr/>
          </p:nvSpPr>
          <p:spPr>
            <a:xfrm>
              <a:off x="125712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H="1">
              <a:off x="-360" y="1362600"/>
              <a:ext cx="889308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8520" y="428400"/>
            <a:ext cx="5770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Этапы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95280" y="1989000"/>
            <a:ext cx="2521080" cy="3543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овлечение педагогов в анализ потенциала через проведение иссле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3276720" y="1989000"/>
            <a:ext cx="2520720" cy="3543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овлечение педагогов в анализ образовательной среды нашего Д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6227640" y="1989000"/>
            <a:ext cx="2521080" cy="3543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овлечение педагогов в разработку форм проявления инициати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-360" y="0"/>
            <a:ext cx="8893080" cy="1620720"/>
            <a:chOff x="-360" y="0"/>
            <a:chExt cx="8893080" cy="1620720"/>
          </a:xfrm>
        </p:grpSpPr>
        <p:grpSp>
          <p:nvGrpSpPr>
            <p:cNvPr id="140" name="Group 5"/>
            <p:cNvGrpSpPr/>
            <p:nvPr/>
          </p:nvGrpSpPr>
          <p:grpSpPr>
            <a:xfrm>
              <a:off x="7200" y="113400"/>
              <a:ext cx="1672200" cy="1422720"/>
              <a:chOff x="7200" y="113400"/>
              <a:chExt cx="1672200" cy="1422720"/>
            </a:xfrm>
          </p:grpSpPr>
          <p:sp>
            <p:nvSpPr>
              <p:cNvPr id="141" name="Rectangle 6" hidden="1"/>
              <p:cNvSpPr/>
              <p:nvPr/>
            </p:nvSpPr>
            <p:spPr>
              <a:xfrm>
                <a:off x="7200" y="113400"/>
                <a:ext cx="167220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"/>
              <p:cNvSpPr/>
              <p:nvPr/>
            </p:nvSpPr>
            <p:spPr>
              <a:xfrm>
                <a:off x="673920" y="711000"/>
                <a:ext cx="100548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348840" y="113400"/>
                <a:ext cx="79596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7200" y="650880"/>
                <a:ext cx="6703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Line 10"/>
            <p:cNvSpPr/>
            <p:nvPr/>
          </p:nvSpPr>
          <p:spPr>
            <a:xfrm>
              <a:off x="125712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H="1">
              <a:off x="-360" y="1362600"/>
              <a:ext cx="889308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1928880" y="428760"/>
            <a:ext cx="57704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Подходы  к созданию усло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14200" y="1643040"/>
            <a:ext cx="85694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87200">
              <a:lnSpc>
                <a:spcPct val="20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о отношению к  конкретному педаг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0">
              <a:lnSpc>
                <a:spcPct val="20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о отношению к педагогическому колл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0" y="0"/>
            <a:ext cx="8820000" cy="1620720"/>
            <a:chOff x="0" y="0"/>
            <a:chExt cx="8820000" cy="1620720"/>
          </a:xfrm>
        </p:grpSpPr>
        <p:grpSp>
          <p:nvGrpSpPr>
            <p:cNvPr id="151" name="Group 5"/>
            <p:cNvGrpSpPr/>
            <p:nvPr/>
          </p:nvGrpSpPr>
          <p:grpSpPr>
            <a:xfrm>
              <a:off x="7200" y="113400"/>
              <a:ext cx="1658520" cy="1422720"/>
              <a:chOff x="7200" y="113400"/>
              <a:chExt cx="1658520" cy="1422720"/>
            </a:xfrm>
          </p:grpSpPr>
          <p:sp>
            <p:nvSpPr>
              <p:cNvPr id="152" name="Rectangle 6" hidden="1"/>
              <p:cNvSpPr/>
              <p:nvPr/>
            </p:nvSpPr>
            <p:spPr>
              <a:xfrm>
                <a:off x="7200" y="113400"/>
                <a:ext cx="1658520" cy="14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7"/>
              <p:cNvSpPr/>
              <p:nvPr/>
            </p:nvSpPr>
            <p:spPr>
              <a:xfrm>
                <a:off x="668520" y="711000"/>
                <a:ext cx="997200" cy="825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8"/>
              <p:cNvSpPr/>
              <p:nvPr/>
            </p:nvSpPr>
            <p:spPr>
              <a:xfrm>
                <a:off x="345960" y="113400"/>
                <a:ext cx="789480" cy="6188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9"/>
              <p:cNvSpPr/>
              <p:nvPr/>
            </p:nvSpPr>
            <p:spPr>
              <a:xfrm>
                <a:off x="7200" y="650880"/>
                <a:ext cx="664920" cy="550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Line 10"/>
            <p:cNvSpPr/>
            <p:nvPr/>
          </p:nvSpPr>
          <p:spPr>
            <a:xfrm>
              <a:off x="1246680" y="0"/>
              <a:ext cx="0" cy="16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 flipH="1">
              <a:off x="0" y="1362600"/>
              <a:ext cx="8820000" cy="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28520" y="428400"/>
            <a:ext cx="5770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Результаты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24000" y="2133720"/>
            <a:ext cx="2520720" cy="3543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величение количества педагогов, вовлеченных в инновационную деятель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3276720" y="2133720"/>
            <a:ext cx="2520720" cy="3543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Рост числа педагогических инициатив по разным направле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227640" y="2133720"/>
            <a:ext cx="2521080" cy="3543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Расширение круга вовлеченных в инновации субъ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9:56:09Z</dcterms:created>
  <dc:creator>оксана</dc:creator>
  <dc:description/>
  <dc:language>en-US</dc:language>
  <cp:lastModifiedBy>user</cp:lastModifiedBy>
  <dcterms:modified xsi:type="dcterms:W3CDTF">2012-02-17T14:32:54Z</dcterms:modified>
  <cp:revision>60</cp:revision>
  <dc:subject/>
  <dc:title>Слайд 1</dc:title>
</cp:coreProperties>
</file>