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8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11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2FC-3284-460C-ADD2-158C060E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BBF-81D8-4E7E-9BF4-81FC456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6D5-53AC-4B0A-9E94-27A76676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373-453C-4762-A784-9BCEA195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661-5BEC-4F65-AB46-82355C54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DE8-CE3F-4152-AA8E-577C6215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CED-AE41-4BC4-AF97-74CB090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F99-079E-48E6-913E-44BFD1C2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2F8-709B-4111-9D7E-333F961C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5DB-3D95-432B-AC61-DEE3CF7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D3D-8009-4218-B2EE-577C279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125-171B-48F3-95D6-CFE2178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660-3EF3-4432-8E49-8DAC5BC9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Базы Данных (БД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12000" y="3645000"/>
            <a:ext cx="2679480" cy="273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Bookman Old Style"/>
              </a:rPr>
              <a:t>Сетевая БД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Всемирная паутина глобальной сети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(гиперссыл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212400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76720" y="3860640"/>
            <a:ext cx="2736720" cy="235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0" t="3485" r="0" b="83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3485" r="0" b="7926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Bookman Old Style"/>
              </a:rPr>
              <a:t>Система управления базами данных (СУБД)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Bookman Old Style"/>
              </a:rPr>
              <a:t>программа, позволяющая создавать базы данных, а также обеспечивать обработку (сортировку) и поиск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Bookman Old Style"/>
              </a:rPr>
              <a:t>(</a:t>
            </a:r>
            <a:r>
              <a:rPr b="1" i="1" lang="en-US" sz="4000" spc="-1" strike="noStrike">
                <a:solidFill>
                  <a:srgbClr val="009900"/>
                </a:solidFill>
                <a:latin typeface="Bookman Old Style"/>
              </a:rPr>
              <a:t>MS Access</a:t>
            </a:r>
            <a:r>
              <a:rPr b="1" i="1" lang="ru-RU" sz="4000" spc="-1" strike="noStrike">
                <a:solidFill>
                  <a:srgbClr val="009900"/>
                </a:solidFill>
                <a:latin typeface="Bookman Old Style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6840360" cy="509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84360" y="1628640"/>
            <a:ext cx="1944720" cy="2178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376200" y="128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2880" y="9079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516720" y="404640"/>
            <a:ext cx="719280" cy="4320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16688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олов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16360" y="1196640"/>
            <a:ext cx="2880000" cy="576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7349760" y="155736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мент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76280"/>
            <a:ext cx="1656000" cy="576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829800" y="11592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изонталь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194360" y="308916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ее поле Б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276720" y="5734080"/>
            <a:ext cx="7128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2126520" y="61657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База данных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информационная модель, позволяющая в упорядоченном виде хранить данные о группе объектов, обладающих одинаковым набором свой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16720" y="4292640"/>
            <a:ext cx="2160720" cy="203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95640" y="4869000"/>
            <a:ext cx="1873440" cy="117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1722240" cy="215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31484" t="9658" r="28355" b="0"/>
          <a:stretch/>
        </p:blipFill>
        <p:spPr>
          <a:xfrm>
            <a:off x="2484360" y="0"/>
            <a:ext cx="390996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33"/>
                </a:solidFill>
                <a:latin typeface="Bookman Old Style"/>
              </a:rPr>
              <a:t>Типы Б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532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Табли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Иерарх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етев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2373120" cy="225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Bookman Old Style"/>
              </a:rPr>
              <a:t>Табличные Б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2332" t="52579" r="31835" b="1739"/>
          <a:stretch/>
        </p:blipFill>
        <p:spPr>
          <a:xfrm>
            <a:off x="1258920" y="1341360"/>
            <a:ext cx="5905440" cy="3571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1197000"/>
            <a:ext cx="865080" cy="3384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763640" y="4365360"/>
            <a:ext cx="287280" cy="8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693800" y="522756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е Б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1341360"/>
            <a:ext cx="4105080" cy="142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866920" y="1413000"/>
            <a:ext cx="15130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7351920" y="11253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ись Б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537372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ое по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2924280"/>
            <a:ext cx="649080" cy="1800000"/>
          </a:xfrm>
          <a:prstGeom prst="ellipse">
            <a:avLst/>
          </a:prstGeom>
          <a:noFill/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84720" y="4365720"/>
            <a:ext cx="719280" cy="1008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33"/>
                </a:solidFill>
                <a:latin typeface="Bookman Old Style"/>
              </a:rPr>
              <a:t>Типы поле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четчик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автоматичес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кстовы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текс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ислово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т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рем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дата и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нежны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числа в денежном форма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огически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Истина, Лож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иперссылка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ссылки на ресурс в Интерне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24753" t="46440" r="24626" b="32865"/>
          <a:stretch/>
        </p:blipFill>
        <p:spPr>
          <a:xfrm>
            <a:off x="179280" y="1773360"/>
            <a:ext cx="8353440" cy="2663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Bookman Old Style"/>
              </a:rPr>
              <a:t>Иерархические БД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561440" cy="5665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8569080" cy="6418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9:47:12Z</dcterms:created>
  <dc:creator>tanya</dc:creator>
  <dc:description/>
  <dc:language>en-US</dc:language>
  <cp:lastModifiedBy>Таня</cp:lastModifiedBy>
  <dcterms:modified xsi:type="dcterms:W3CDTF">2009-01-14T11:08:52Z</dcterms:modified>
  <cp:revision>4</cp:revision>
  <dc:subject/>
  <dc:title>Базы Данных (БД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