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0F5-6EC0-42B5-BD07-50A77EAC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850-F71D-4ACE-886B-ACBC55D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007-12D3-44D1-A3D1-EA250FF1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0AA-9856-4A70-8209-F214485B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5C55-C7C2-4A32-8915-AE583B89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F902-E408-46B0-B395-A0074CE8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2804-9966-48AE-8395-43D52217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FA7B-32D8-4EFF-9022-FF0E466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797A-AEFD-4AD8-980D-7C3DD260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287E-849D-4DE6-9C5D-AAA6795E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C543-9663-4C76-BAE6-A7523AB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855-8B06-45EF-8678-7C35C6A6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08F3-F29C-4435-A681-E78B6F1C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B30C-3474-4358-82EE-5D832E98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00ED-DD77-4370-9C2F-A7062124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69D2-986A-4AE7-9B62-E38C613E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0F1D-2698-436F-8814-A3F44969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D92-2AD3-44F0-97E3-775594D2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64A-883D-42FC-AE01-CE2063B8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5FE-D0BF-42D0-BB0D-CF6C5346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FEE-EC5F-4294-9E25-6F2F0476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2D6-B98D-4329-8B44-60FC3167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1B6-4C79-4B77-AF3C-B2382B0D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4DC-B874-4642-A007-810FA92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78CC-4A08-460A-852E-E55FD2A956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D8BE-97D7-428F-B202-81BAF32D15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76124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Цели и задачи интегрированных занят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ль данных занятий – объединить различные виды художественной деятельности детей в целостный педагогический процесс формирования у воспитанников представлений об окружающем мире, эстетической культуре и развития средствами искусства творческих способностей (музыкальных, сценических, литературных, к изобразительной деятельност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6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88000" y="152280"/>
            <a:ext cx="2768400" cy="60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общение дошкольников к музыкальной культуре, развитие у них способности эмоционально воспринимать мелодию возможно на основе интеграции музыки и музыкальной деятельности. Для этого педагог рассказывает детям о различных музыкальных жанрах, развивает у них желание слушать музыку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4114800" cy="5535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бъединение театра и театрализованной деятельности способствует формированию у детей устойчивого интереса к этому виду искусства, разнообразным формам сценических действий, а также представлений об особенностях различных видов театра. Для этого важно развивать исполнительские умения дошкольников, учить их через интонацию, мимику, движения и жесты передавать состояние художественных образов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174920" cy="3313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003640" y="263700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интез литературы и художественно-речевой деятельности преследует цель формирования у детей интереса и потребности в чтении (восприятии) книг. Для ее воплощения следует приобщать воспитанников к художественной литературе, формировать запас художественных впечатлений, развивать литературную речь, учить эмоционально и выразительно передавать содержание произведени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62120" y="2060640"/>
            <a:ext cx="3449520" cy="3908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10160" y="2128680"/>
            <a:ext cx="3771720" cy="3056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нтеграция живописи, графики, скульптуры и изобразительной деятельности в одном занятии способствует приобщению детей к изобразительному искусству, развитию у них эмоционально-личностного отношения к произведениям искусства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224316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6720" y="980640"/>
            <a:ext cx="3167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еключение на разнообразные виды деятельности помогает удерживать внимание детей, что повышает эффективность занятия, снимает утомляемость и перенапряжение. Объединение различных областей знаний на одном занятии позволяет сэкономить время для игры, прогулок, самостоятельной деятельности дошкольников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032360" cy="3743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05:27:01Z</dcterms:created>
  <dc:creator>Вичка</dc:creator>
  <dc:description/>
  <dc:language>en-US</dc:language>
  <cp:lastModifiedBy>Вичка</cp:lastModifiedBy>
  <dcterms:modified xsi:type="dcterms:W3CDTF">2012-02-18T05:51:43Z</dcterms:modified>
  <cp:revision>2</cp:revision>
  <dc:subject/>
  <dc:title>Цели и задачи интегрированных занятий  Цель данных занятий – объединить различные виды художественной деятельности детей в целостный педагогический процесс формирования у воспитанников представлений об окружающем мире, эстетической культуре и развития средствами искусства творческих способностей (музыкальных, сценических, литературных, к изобразительной деятельности).</dc:title>
</cp:coreProperties>
</file>