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16.gif" ContentType="image/gif"/>
  <Override PartName="/ppt/media/image15.gif" ContentType="image/gif"/>
  <Override PartName="/ppt/media/image1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BF1B-482C-47A1-BE99-E66BFC1E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3D1-6F0B-4762-8E2A-DD0A31B8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2F61-F8FE-4FEC-86CA-B3B83332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4BF3-0C7B-4183-BD3C-2ACED2CA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4A0A-908E-4FAF-BEAD-35A47CB6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DC3A-D36B-4BC7-AD0C-EDB14D76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6EEE-D89C-45AD-A607-54D971D4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00B4-987F-4684-9ECC-9951B926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604E-AC9A-4F27-B075-622CCBC2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B433-12C8-43BA-A2B1-BDD6D38F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5776-5863-4E97-8822-707D0964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F492-CCBE-49A1-A222-9DB4375F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B6B5-B047-4D4E-B0D3-B1CD41C7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2122-9BDA-4753-A13A-E8CEA06F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A7EB-930F-4667-982D-423DEC8F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2FBE-69B3-47B8-974A-B05576F3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C091-758A-40D8-B051-502F9B78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8D1EF-1E63-4170-8957-97A3A72A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6494E-3FC7-4C68-A132-F05444EC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11455-F20B-4071-A5AD-E3CB3921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45C5C-37E2-4C96-B288-9F57CB26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40DAF-EEC3-4451-A63A-6477A055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483B-2F59-423F-A648-940E48D4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3FF9A-3601-476D-86FD-941BBE08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A5EE8-CAD5-4504-AC7F-14534943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D61E2-49F9-458D-8556-5D228495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63813-A9F1-4A32-BE95-F19098B0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7558B-8FEC-432A-8748-3A621E1E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02941-AC38-46C3-BAF2-902476E7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0F348-EC80-4AC6-8C37-83F06974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F2F7F-BD70-4529-9588-C67B1FBD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B4E0D-23E7-4F3E-8C42-FF0FA427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2CFF1-2946-4702-A8B8-906B7688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DC6-DE09-4E0E-BAA2-46A9B4AA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2B8AA-7ACA-4C70-A201-FD363DE0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D4AA3-CA0F-4D7A-A554-D2F5F6A0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59253-428A-439D-9CDC-C3A42821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A2076-399F-45FD-8CE7-A94B7ACA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06358-4845-4440-84FA-C963935F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A87DD-3CE8-40FA-BB44-42C40E6B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8C6F5-BE29-4703-A948-C4743122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865E6-0FAF-485A-8F2F-39B763EE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63FEA-ABD4-4CF8-8A22-D6B8006A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195F3-35DE-4EA8-BE85-8483832B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FF6-B8C6-4EA4-8CAB-84F63BD5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759DA-1200-46DC-B468-371E1E50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081B6-362B-4F72-962C-1C3A8572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F49CC-E5D7-4BCE-8C75-09E571B7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AA742-23E7-439C-A987-08353950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5BBF4-F266-4056-9138-97E2B777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4814D-44E4-4DBB-B31F-DC38FD08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EC781-4728-4EE6-824D-8207186B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B08A3-B47C-46FE-B703-F4BA90DB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75277-CE51-4EDB-AEBB-63DDB342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5B934-2F42-46E2-A7D3-95D32716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F43B-D2B9-4C94-8637-625C2F3B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CBD1F-C5B6-4767-88E9-7109EDFB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1FD6F-9D9E-40D0-9F3E-9BD43B3B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85F60-880C-4764-9717-B624AC98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C9DD9-6B08-49DF-A9EA-F6330C4A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67466-1665-4605-A987-1352125B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E6209-00D6-4302-AED4-0B81E9A6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C848D-716C-4C70-94DD-0D3EC258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AD74A-68BB-4CE5-9C9C-8523EC99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D14E1-6940-46C0-90DD-3B903596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0CE40-03DF-4D93-B7C8-6AE6A319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2DFD-15F4-4520-9E14-BEE5F474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8EA64-26C1-4313-8B3E-4037A879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AE33A-C74B-4B81-ACC0-3AEFE728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F1BB5-3A4A-46F1-80B9-02B0DBDD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D929-EE0E-4163-9EE8-272E6827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2F12-26FA-4DC4-B574-4C133C9F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6123-32CC-42D3-895B-C619F20837A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DA64-AD2A-40B3-BA4A-D8BB263543E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0278-962C-4FCA-8FFC-D94DE3AFC59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961E-A095-4BCE-8102-06BFD9C17BD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720C-7E87-4C71-B21B-0578569C4FE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8FC1-52E9-4FAC-97FA-6E7B394A078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706320" y="-6480"/>
            <a:ext cx="8029800" cy="16225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571840" y="4928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а: Курдачева Екатерина Олег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ница 10 «Б» класса МОУ СОШ №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6858000" cy="50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Отчет по заболеваниям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00040" y="857160"/>
          <a:ext cx="6000840" cy="5951520"/>
        </p:xfrm>
        <a:graphic>
          <a:graphicData uri="http://schemas.openxmlformats.org/drawingml/2006/table">
            <a:tbl>
              <a:tblPr/>
              <a:tblGrid>
                <a:gridCol w="550800"/>
                <a:gridCol w="1849680"/>
                <a:gridCol w="1199880"/>
                <a:gridCol w="1200240"/>
                <a:gridCol w="1200240"/>
              </a:tblGrid>
              <a:tr h="93240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№   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П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/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П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                  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болеваемость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 г.               910 уч-ся            Кол-в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 г.               960 уч-ся           Кол-в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 г.                    966 уч-ся           Кол-в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рвной систем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                   3,9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                     3,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                     5,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Р орган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                      1,9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                    1,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                       1,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р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                   10,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9                    14,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                     14,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орно-двигательного аппара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                     4,8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                             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                     4,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ов дыха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                       2,9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                    3,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                          2,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ов пищевар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                     2,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                      2,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                    2,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е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                          2,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                         3,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                          2,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ндокринны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                         8,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                            5,9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                       5,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ж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                          2,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                          2,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                            1,8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ожденный поро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                         0,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                       0,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                            0,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714240" y="356760"/>
            <a:ext cx="7072560" cy="4210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дители оппонентов имеют, в основном, среднее образование и, как следствие – работают инженерами, строителями, продавц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 % опрошенных ведут здоровый образ жизни, посещают какие- либо спортивные се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и будущих специальностей респондентов преобладают следующие профессии: врач, экономист, бухгалтер, юри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536400" y="324000"/>
            <a:ext cx="6467760" cy="8013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96000" cy="165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бор данной темы обусловлен тем, что решение проблем демографии РФ, и, в частности, города Сасово, является одной из главных проблем на сегодняшний день. Я думаю, что решение демографических проблем неблагополучия нашего района очень актуально сегодня, и поэтому решила привлечь внимание других людей к этой пробл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5000760" y="4143240"/>
            <a:ext cx="3357360" cy="2502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50920" y="3357720"/>
            <a:ext cx="387648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ать характеристи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мографической ситуац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городе Сасов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важном фактор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вития экономики рай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920" y="907920"/>
            <a:ext cx="8362800" cy="2487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И: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1. </a:t>
            </a: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Проследить динамику численности населения города Сасово, и причин обусловивших ее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2. </a:t>
            </a: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Выяснить естественный и механический прирост в районе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3. </a:t>
            </a: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Выяснить самую престижную профессию среди школьников.</a:t>
            </a:r>
            <a:br>
              <a:rPr sz="1800"/>
            </a:br>
            <a:br>
              <a:rPr sz="3100"/>
            </a:b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о численности населения Рязанская область является относительно небольшим регионом нашей страны, занимая 45-ое место в России и 7-е место среди областей ЦФО.</a:t>
            </a:r>
            <a:br>
              <a:rPr sz="1800"/>
            </a:br>
            <a:br>
              <a:rPr sz="4100"/>
            </a:b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1" name="Рисунок 2" descr="623581111Big.JPG"/>
          <p:cNvPicPr/>
          <p:nvPr/>
        </p:nvPicPr>
        <p:blipFill>
          <a:blip r:embed="rId1"/>
          <a:stretch/>
        </p:blipFill>
        <p:spPr>
          <a:xfrm>
            <a:off x="357120" y="3398760"/>
            <a:ext cx="3422880" cy="256716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3" descr="409911_393133.jpg"/>
          <p:cNvPicPr/>
          <p:nvPr/>
        </p:nvPicPr>
        <p:blipFill>
          <a:blip r:embed="rId2"/>
          <a:stretch/>
        </p:blipFill>
        <p:spPr>
          <a:xfrm>
            <a:off x="6138720" y="3141720"/>
            <a:ext cx="27162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241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Эти прогнозы я взяла с официального сайта ГТРК «Ока»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Сайт: </a:t>
            </a: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http</a:t>
            </a: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\\ryazan.ru\news </a:t>
            </a: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и </a:t>
            </a: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http</a:t>
            </a: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\mediaryazan.ru\new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http</a:t>
            </a: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\sasovo.com.ru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Так же с этого сайта я узнала, что наша область по демографическим показателям считается старой. Я заинтересовалась этим вопросом и стала изучать статистику, касающуюся г. Сасова и Сасовского района.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4" name="Рисунок 2" descr="X_4373f3e1.jpg"/>
          <p:cNvPicPr/>
          <p:nvPr/>
        </p:nvPicPr>
        <p:blipFill>
          <a:blip r:embed="rId1"/>
          <a:stretch/>
        </p:blipFill>
        <p:spPr>
          <a:xfrm>
            <a:off x="2071800" y="2892600"/>
            <a:ext cx="528624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На территории города Сасова проживает около 2,5 % населения Рязанской области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инамика численности населения города Сасово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Диаграмма 3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4248360" cy="2305080"/>
          </a:xfrm>
          <a:prstGeom prst="rect">
            <a:avLst/>
          </a:prstGeom>
          <a:ln w="0">
            <a:noFill/>
          </a:ln>
        </p:spPr>
      </p:pic>
      <p:pic>
        <p:nvPicPr>
          <p:cNvPr id="268" name="Диаграмма 3" descr=""/>
          <p:cNvPicPr/>
          <p:nvPr/>
        </p:nvPicPr>
        <p:blipFill>
          <a:blip r:embed="rId2"/>
          <a:stretch/>
        </p:blipFill>
        <p:spPr>
          <a:xfrm>
            <a:off x="4211640" y="2708280"/>
            <a:ext cx="3960720" cy="30798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553480" y="5516640"/>
            <a:ext cx="65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Динамика численности населения Рязанской области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987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Franklin Gothic Book"/>
              </a:rPr>
              <a:t>Возрастная структура населения города Сасово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1" name="Диаграмма 4" descr=""/>
          <p:cNvPicPr/>
          <p:nvPr/>
        </p:nvPicPr>
        <p:blipFill>
          <a:blip r:embed="rId1"/>
          <a:stretch/>
        </p:blipFill>
        <p:spPr>
          <a:xfrm>
            <a:off x="1066680" y="2139840"/>
            <a:ext cx="601056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234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На основе сравнительных данных мы увидели, что в г. Сасово рождается детей больше , чем детей в целом по России на 2%, а в Рязанской области на 5 %. Но трудоспособного населения меньше, чем в целом по России на 18,8%, а по Рязанской области на 13,8%. А вот доля пенсионеров выше, чем в целом по России на 14,8%, а по Рязанской области на 8,8%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          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          </a:t>
            </a:r>
            <a:r>
              <a:rPr b="1" i="1" lang="ru-RU" sz="1800" spc="-1" strike="noStrike">
                <a:solidFill>
                  <a:srgbClr val="ffffff"/>
                </a:solidFill>
                <a:latin typeface="Franklin Gothic Book"/>
              </a:rPr>
              <a:t>Россия                                                                           Рязанская область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3" name="Диаграмма 2" descr=""/>
          <p:cNvPicPr/>
          <p:nvPr/>
        </p:nvPicPr>
        <p:blipFill>
          <a:blip r:embed="rId1"/>
          <a:stretch/>
        </p:blipFill>
        <p:spPr>
          <a:xfrm>
            <a:off x="420840" y="2639880"/>
            <a:ext cx="4017960" cy="2297160"/>
          </a:xfrm>
          <a:prstGeom prst="rect">
            <a:avLst/>
          </a:prstGeom>
          <a:ln w="0">
            <a:noFill/>
          </a:ln>
        </p:spPr>
      </p:pic>
      <p:pic>
        <p:nvPicPr>
          <p:cNvPr id="274" name="Диаграмма 3" descr=""/>
          <p:cNvPicPr/>
          <p:nvPr/>
        </p:nvPicPr>
        <p:blipFill>
          <a:blip r:embed="rId2"/>
          <a:stretch/>
        </p:blipFill>
        <p:spPr>
          <a:xfrm>
            <a:off x="4853160" y="2419200"/>
            <a:ext cx="3724200" cy="2401920"/>
          </a:xfrm>
          <a:prstGeom prst="rect">
            <a:avLst/>
          </a:prstGeom>
          <a:ln w="0">
            <a:noFill/>
          </a:ln>
        </p:spPr>
      </p:pic>
      <p:pic>
        <p:nvPicPr>
          <p:cNvPr id="275" name="Диаграмма 4" descr=""/>
          <p:cNvPicPr/>
          <p:nvPr/>
        </p:nvPicPr>
        <p:blipFill>
          <a:blip r:embed="rId3"/>
          <a:stretch/>
        </p:blipFill>
        <p:spPr>
          <a:xfrm>
            <a:off x="993600" y="4925880"/>
            <a:ext cx="3724560" cy="1938600"/>
          </a:xfrm>
          <a:prstGeom prst="rect">
            <a:avLst/>
          </a:prstGeom>
          <a:ln w="0">
            <a:noFill/>
          </a:ln>
        </p:spPr>
      </p:pic>
      <p:sp>
        <p:nvSpPr>
          <p:cNvPr id="276" name="TextBox 5"/>
          <p:cNvSpPr/>
          <p:nvPr/>
        </p:nvSpPr>
        <p:spPr>
          <a:xfrm>
            <a:off x="5429160" y="550080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d4d2d0"/>
                </a:solidFill>
                <a:uFillTx/>
                <a:latin typeface="Arial"/>
              </a:rPr>
              <a:t>Г. Сасо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Стрелка влево 6"/>
          <p:cNvGrpSpPr/>
          <p:nvPr/>
        </p:nvGrpSpPr>
        <p:grpSpPr>
          <a:xfrm>
            <a:off x="4846680" y="5486400"/>
            <a:ext cx="523800" cy="438120"/>
            <a:chOff x="4846680" y="5486400"/>
            <a:chExt cx="523800" cy="438120"/>
          </a:xfrm>
        </p:grpSpPr>
        <p:pic>
          <p:nvPicPr>
            <p:cNvPr id="278" name="Стрелка влево 6" descr=""/>
            <p:cNvPicPr/>
            <p:nvPr/>
          </p:nvPicPr>
          <p:blipFill>
            <a:blip r:embed="rId4"/>
            <a:stretch/>
          </p:blipFill>
          <p:spPr>
            <a:xfrm>
              <a:off x="4846680" y="5486400"/>
              <a:ext cx="52380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4997520" y="5640480"/>
              <a:ext cx="28872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742932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Так же в г. Сасово зафиксирована большая смертность населения( по данным ЗАГСА 2005 г. 32,1 человек на 1000 жителей)                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                               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                            Продолжительность жизни.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1" name="Содержимое 3" descr=""/>
          <p:cNvPicPr/>
          <p:nvPr/>
        </p:nvPicPr>
        <p:blipFill>
          <a:blip r:embed="rId1"/>
          <a:stretch/>
        </p:blipFill>
        <p:spPr>
          <a:xfrm>
            <a:off x="420840" y="1779480"/>
            <a:ext cx="751680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Book"/>
              </a:rPr>
              <a:t>Анкетирование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928440"/>
            <a:ext cx="91440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С целью выяснения показателей рождаемости был проведен социологический опрос среди учащихся 9 – 11 классов. Участники опроса рассказали о своих семьях, мечтах, привычках.</a:t>
            </a: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На основании данного опроса мы можем судить о следующих веща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Среднее кол-во детей в семьях прабабушек, прадедушек – 5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Среднее кол-во детей в семьях бабушки, дедушки – 3 реб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Среднее кол-во детей в семьях родителей – 2 реб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5" descr="BABY8"/>
          <p:cNvPicPr/>
          <p:nvPr/>
        </p:nvPicPr>
        <p:blipFill>
          <a:blip r:embed="rId1"/>
          <a:stretch/>
        </p:blipFill>
        <p:spPr>
          <a:xfrm>
            <a:off x="7772400" y="5591160"/>
            <a:ext cx="1371600" cy="12668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Малыш 2"/>
          <p:cNvPicPr/>
          <p:nvPr/>
        </p:nvPicPr>
        <p:blipFill>
          <a:blip r:embed="rId2"/>
          <a:stretch/>
        </p:blipFill>
        <p:spPr>
          <a:xfrm>
            <a:off x="0" y="5742000"/>
            <a:ext cx="11160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0:26:02Z</dcterms:created>
  <dc:creator>Admin</dc:creator>
  <dc:description/>
  <dc:language>en-US</dc:language>
  <cp:lastModifiedBy>Admin</cp:lastModifiedBy>
  <dcterms:modified xsi:type="dcterms:W3CDTF">2012-02-18T11:36:40Z</dcterms:modified>
  <cp:revision>38</cp:revision>
  <dc:subject/>
  <dc:title>Демографическая ситуация в городе Сасово </dc:title>
</cp:coreProperties>
</file>