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0FD9-1D60-4080-B3BF-332A32E8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0A3-1230-481B-8FAF-371CB178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0AD-D4BC-4DF2-91C7-B3F9F3DA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CCC2-2C43-4976-8722-C16DA259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1060-B1BA-47CA-BB16-5733734D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535A-33AF-40DE-848A-0FB7ED7B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3D02-8158-4152-AB0C-3C74AAFD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2849-B72E-4C1F-B311-237EBBA9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0DDE-7A4D-4EDA-ABB7-628B9784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83DE-A5AB-4564-9558-D9133525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1CE2-E19A-4ED6-8DD5-58C63991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949-0D45-43ED-8083-56C9A4D4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EC4D-83EA-45D7-A310-1BF3ACEA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ECC3-F30E-4EFF-89CD-5D07626A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3E00-D35E-45DC-AE33-6B897C31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2A0F-4673-47C6-9753-A2473113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DFC3-0657-4D2E-AA4D-63E1F368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2348-0A17-4AAC-9DA3-D2048D36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F9E-41AD-4A39-BE4B-2CEB5796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20B-8D2D-4794-9751-13136E90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14A5-6A7E-4F59-B106-334EF140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540-6686-43F8-8E30-D03D0DEA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459-8B18-489D-A76D-C94383EA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C1D-0961-4E41-9800-FE75E413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A06B-9133-4A9D-866E-37233E25B88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F916-0CE3-4046-B922-64F42C732E8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160" y="2927520"/>
            <a:ext cx="4219560" cy="18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ила: Балуева Елена, ученица 6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Воронцова Ю. Н., учитель истории, 1 кв. катег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 Окунувшись в памяти страницы...»</a:t>
            </a:r>
            <a:br>
              <a:rPr sz="4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(исследовательский проект)</a:t>
            </a:r>
            <a:br>
              <a:rPr sz="5400"/>
            </a:br>
            <a:br>
              <a:rPr sz="5400"/>
            </a:br>
            <a:br>
              <a:rPr sz="54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48280" y="640080"/>
            <a:ext cx="2826000" cy="12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итанники Павдинского детского дом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Содержимое 4" descr="5A6239A8.jpg"/>
          <p:cNvPicPr/>
          <p:nvPr/>
        </p:nvPicPr>
        <p:blipFill>
          <a:blip r:embed="rId1"/>
          <a:stretch/>
        </p:blipFill>
        <p:spPr>
          <a:xfrm>
            <a:off x="3575160" y="360360"/>
            <a:ext cx="5111640" cy="5678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916280"/>
            <a:ext cx="2925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за Кригер, Алексей Люманов, Ваня Моров, Альбина Стадулит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70760" y="635760"/>
            <a:ext cx="2777400" cy="119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тдомовские мальчиш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Содержимое 4" descr="13 08 52г.jpg"/>
          <p:cNvPicPr/>
          <p:nvPr/>
        </p:nvPicPr>
        <p:blipFill>
          <a:blip r:embed="rId1"/>
          <a:stretch/>
        </p:blipFill>
        <p:spPr>
          <a:xfrm>
            <a:off x="4017960" y="272880"/>
            <a:ext cx="4226040" cy="58532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55280" y="2420640"/>
            <a:ext cx="309564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имир Арент, Иван Абибулаев, Михаил Усей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4600" y="698040"/>
            <a:ext cx="2853360" cy="106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спитанницы детского дом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4" descr="18 07 53г.jpg"/>
          <p:cNvPicPr/>
          <p:nvPr/>
        </p:nvPicPr>
        <p:blipFill>
          <a:blip r:embed="rId1"/>
          <a:stretch/>
        </p:blipFill>
        <p:spPr>
          <a:xfrm>
            <a:off x="3564000" y="1557360"/>
            <a:ext cx="5400720" cy="42148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280" y="2276280"/>
            <a:ext cx="27097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ра Вернер, Ира Бредина, Мария Анкуш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30280" y="765000"/>
            <a:ext cx="2862000" cy="100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спитанницы детского дом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Содержимое 4" descr="281688.jpg"/>
          <p:cNvPicPr/>
          <p:nvPr/>
        </p:nvPicPr>
        <p:blipFill>
          <a:blip r:embed="rId1"/>
          <a:stretch/>
        </p:blipFill>
        <p:spPr>
          <a:xfrm>
            <a:off x="3575160" y="907920"/>
            <a:ext cx="5111640" cy="45831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55280" y="2133720"/>
            <a:ext cx="2709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ня Исмаилова, Аделина Стадулитте, Галя Бык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25040" y="1175760"/>
            <a:ext cx="3507840" cy="335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им из недостатков детдомовской жизни была нехватка одежды, одно пальто носили на двоих. За отличную учебу Нина Алексеевна была награждена шерстяным платьем.</a:t>
            </a:r>
            <a:br>
              <a:rPr sz="20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Содержимое 4" descr="AC4BEEB8.jpg"/>
          <p:cNvPicPr/>
          <p:nvPr/>
        </p:nvPicPr>
        <p:blipFill>
          <a:blip r:embed="rId1"/>
          <a:stretch/>
        </p:blipFill>
        <p:spPr>
          <a:xfrm>
            <a:off x="4716360" y="476280"/>
            <a:ext cx="4017960" cy="5853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4437000"/>
            <a:ext cx="4248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фото: Роза Кригер, Альбина Стадулитте, Фрида Балько, Эмма Балько, Нина Стадулит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30640" y="346320"/>
            <a:ext cx="2861280" cy="101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воспоминаний Нины Алексеевн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Содержимое 4" descr="8F6A9B3.jpg"/>
          <p:cNvPicPr/>
          <p:nvPr/>
        </p:nvPicPr>
        <p:blipFill>
          <a:blip r:embed="rId1"/>
          <a:stretch/>
        </p:blipFill>
        <p:spPr>
          <a:xfrm>
            <a:off x="3780000" y="1268280"/>
            <a:ext cx="5111640" cy="4265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11280" y="1434600"/>
            <a:ext cx="2854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спитанники участвовали в спортивных соревнова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овогодние праздник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268280"/>
            <a:ext cx="404028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а Стадулитте, Владимир Сур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4720" y="1341360"/>
            <a:ext cx="404172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анники детского д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Содержимое 9" descr="88B7255C.jpg"/>
          <p:cNvPicPr/>
          <p:nvPr/>
        </p:nvPicPr>
        <p:blipFill>
          <a:blip r:embed="rId1"/>
          <a:stretch/>
        </p:blipFill>
        <p:spPr>
          <a:xfrm>
            <a:off x="4284720" y="2438280"/>
            <a:ext cx="4402080" cy="3870360"/>
          </a:xfrm>
          <a:prstGeom prst="rect">
            <a:avLst/>
          </a:prstGeom>
          <a:ln w="0">
            <a:noFill/>
          </a:ln>
        </p:spPr>
      </p:pic>
      <p:pic>
        <p:nvPicPr>
          <p:cNvPr id="137" name="Содержимое 8" descr="4D944C45.jpg"/>
          <p:cNvPicPr/>
          <p:nvPr/>
        </p:nvPicPr>
        <p:blipFill>
          <a:blip r:embed="rId2"/>
          <a:stretch/>
        </p:blipFill>
        <p:spPr>
          <a:xfrm>
            <a:off x="900000" y="2421000"/>
            <a:ext cx="309564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удни и праздники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Содержимое 4" descr="2EFD0B84.jpg"/>
          <p:cNvPicPr/>
          <p:nvPr/>
        </p:nvPicPr>
        <p:blipFill>
          <a:blip r:embed="rId1"/>
          <a:stretch/>
        </p:blipFill>
        <p:spPr>
          <a:xfrm>
            <a:off x="838080" y="2755800"/>
            <a:ext cx="3915000" cy="3049560"/>
          </a:xfrm>
          <a:prstGeom prst="rect">
            <a:avLst/>
          </a:prstGeom>
          <a:ln w="0">
            <a:noFill/>
          </a:ln>
        </p:spPr>
      </p:pic>
      <p:pic>
        <p:nvPicPr>
          <p:cNvPr id="140" name="Содержимое 5" descr="BE7BD458.jpg"/>
          <p:cNvPicPr/>
          <p:nvPr/>
        </p:nvPicPr>
        <p:blipFill>
          <a:blip r:embed="rId2"/>
          <a:stretch/>
        </p:blipFill>
        <p:spPr>
          <a:xfrm>
            <a:off x="4788000" y="2708280"/>
            <a:ext cx="3770280" cy="303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28080" y="4836240"/>
            <a:ext cx="5415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д получением паспорта 1953 го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4" descr="53г перед получением паспорта Андрей Клара Антон Аня Нина Валя Петя Соня Рая Маруся.jpg"/>
          <p:cNvPicPr/>
          <p:nvPr/>
        </p:nvPicPr>
        <p:blipFill>
          <a:blip r:embed="rId1"/>
          <a:srcRect l="3647" t="0" r="364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58920" y="5366880"/>
            <a:ext cx="684216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к Андрей, Вернер Клара, Целлер Антон, Арент Анна, Стадулитте Нина, Майер Мая, Пейчев Петя, Исмаилова Соня, Люманова Рая, Девяртикава Маш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з воспоминаний участников событий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зован (Балуева) Анастасия Федоро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ель дошкольной группы детского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Содержимое 4" descr="SAM_2381.JPG"/>
          <p:cNvPicPr/>
          <p:nvPr/>
        </p:nvPicPr>
        <p:blipFill>
          <a:blip r:embed="rId1"/>
          <a:stretch/>
        </p:blipFill>
        <p:spPr>
          <a:xfrm>
            <a:off x="4761000" y="2565360"/>
            <a:ext cx="4059000" cy="338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ть историю образовательных учреждений, в поселке Павда, а в частности детского д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61240" y="376560"/>
            <a:ext cx="2800080" cy="143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школьная групп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уппа Анастасии Федоровны состояла из 20 человек  1953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одержимое 6" descr="B1684DC8.jpg"/>
          <p:cNvPicPr/>
          <p:nvPr/>
        </p:nvPicPr>
        <p:blipFill>
          <a:blip r:embed="rId1"/>
          <a:stretch/>
        </p:blipFill>
        <p:spPr>
          <a:xfrm>
            <a:off x="3575160" y="1413000"/>
            <a:ext cx="5389560" cy="431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иректора детского до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ым директором детского дома был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дин Павел Васильеви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вернувшийся после ранения с войны в 1944году. Вторым директором был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рославцев Алесей Гаврилови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под его руководством детский дом работал примерно с 1949 – 50г. Третий директо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рославцев Владимир Федорови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возглавил детдом после 1950года. Далее директорами бы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онов Алексей Петрович, Леонтьева Надежда Петров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она была последним дирек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25600" y="617760"/>
            <a:ext cx="2871360" cy="94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спитатели детского дом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одержимое 4" descr="2FF78EA0.jpg"/>
          <p:cNvPicPr/>
          <p:nvPr/>
        </p:nvPicPr>
        <p:blipFill>
          <a:blip r:embed="rId1"/>
          <a:stretch/>
        </p:blipFill>
        <p:spPr>
          <a:xfrm>
            <a:off x="3780000" y="1341360"/>
            <a:ext cx="5111640" cy="4006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55280" y="1434600"/>
            <a:ext cx="3095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нова Валентина Петровна, Лозован Анастасия Федоровна, Мелехина Дина Ивановна.   Молодые целеустремленные педагоги все силы и знания отдавали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удни и праздники детского до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40402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атель Никонова Таисья Яковлевна (в центре) и ее воспитанники 1953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3280" y="1196640"/>
            <a:ext cx="4042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озован Анастасия Федоровна провожает своих воспитанников в 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Содержимое 11" descr="71CD9212.bmp"/>
          <p:cNvPicPr/>
          <p:nvPr/>
        </p:nvPicPr>
        <p:blipFill>
          <a:blip r:embed="rId1"/>
          <a:stretch/>
        </p:blipFill>
        <p:spPr>
          <a:xfrm>
            <a:off x="5003640" y="2276640"/>
            <a:ext cx="2988000" cy="4035240"/>
          </a:xfrm>
          <a:prstGeom prst="rect">
            <a:avLst/>
          </a:prstGeom>
          <a:ln w="0">
            <a:noFill/>
          </a:ln>
        </p:spPr>
      </p:pic>
      <p:pic>
        <p:nvPicPr>
          <p:cNvPr id="159" name="Содержимое 10" descr="15CA831D.bmp"/>
          <p:cNvPicPr/>
          <p:nvPr/>
        </p:nvPicPr>
        <p:blipFill>
          <a:blip r:embed="rId2"/>
          <a:stretch/>
        </p:blipFill>
        <p:spPr>
          <a:xfrm>
            <a:off x="817560" y="2421000"/>
            <a:ext cx="3610080" cy="38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828080" y="4836240"/>
            <a:ext cx="5415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ллектив детского дома 1951го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4" descr="158C61C1.bmp"/>
          <p:cNvPicPr/>
          <p:nvPr/>
        </p:nvPicPr>
        <p:blipFill>
          <a:blip r:embed="rId1"/>
          <a:srcRect l="0" t="1782" r="0" b="1782"/>
          <a:stretch/>
        </p:blipFill>
        <p:spPr>
          <a:xfrm>
            <a:off x="755640" y="612720"/>
            <a:ext cx="6985080" cy="4114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71280" y="5367240"/>
            <a:ext cx="7993080" cy="12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фото: Попова Екатерина Александровна – няня, Никонова Валентина Петровна – воспитатель, Ярославцев Гаврил Васильевич, Лобанова Мария Петровна- няня, Ярославцев Алексей Гаврилович (1884г.рожд.), Попова Людмила Петровна – медицинская сестра, Никонова Анна Петровна – воспитатель, Никонова Таисия  Яковлевна – воспитатель, Балуева Анастасия Апполосо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едя исследование, мы пришли к выводу что, выдвинутая нами гипотеза подтверждается очевидцами тех событий. И мы можем с уверенностью сказать, что  детский дом, открытый в Павде, помог многим сиротам, попавшим на Урал по воле судьбы оставшимся без родителей, и просто маленьким павдинцам выжить в «лихую годину». И пусть в памяти наших предков навсегда останутся те имена и лица, которые отдали свои лучшие годы детям – сиротам той страшн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агодарю за предоставленные сведения и фотодокументы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дрианову Нину Алексеев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зован Анастасию Федоров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дину Марию Константинов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друсишину Нину Витальев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953640" y="953640"/>
            <a:ext cx="754092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следнее время уделяется мало внимания изучению истории родного края, а в частности истории образования в поселке Павда. Я попыталась найти сведения о дошкольных образовательных учреждениях и детском доме моего посел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ипотез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гу предположить, что история детского дома берет свое начало в период Великой Отечественной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обрать материал и фотодокументы о детском доме в муз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следовать историю возникновения детского дома в посел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рать факты об истории этих учреждений из уст очевидц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основе собранных и изученных документов создать проек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ос очевидце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ение и анализ необходимых краеведческих материалов об истории посел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авнительно-хронологический метод (деятельность учреждений в разные год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з воспоминаний участников событ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15640" y="234936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дрианова (Стадулитте) Нина Алексеевн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ница Павдинского детского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одержимое 4" descr="F2A93CE.jpg"/>
          <p:cNvPicPr/>
          <p:nvPr/>
        </p:nvPicPr>
        <p:blipFill>
          <a:blip r:embed="rId1"/>
          <a:stretch/>
        </p:blipFill>
        <p:spPr>
          <a:xfrm>
            <a:off x="5629320" y="2421000"/>
            <a:ext cx="263052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0640" y="346320"/>
            <a:ext cx="2861280" cy="101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воспоминаний Нины Алексеевны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…в детском доме проживало 109 человек. Воспитанники были разных национальностей: немцы, крымские татары, литовцы, русск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6" descr="179AE607.jpg"/>
          <p:cNvPicPr/>
          <p:nvPr/>
        </p:nvPicPr>
        <p:blipFill>
          <a:blip r:embed="rId1"/>
          <a:stretch/>
        </p:blipFill>
        <p:spPr>
          <a:xfrm>
            <a:off x="3575160" y="1300320"/>
            <a:ext cx="5173560" cy="436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51640" y="834120"/>
            <a:ext cx="86407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тмосфера в детском доме была дружеская,  воспитанники и воспитатели были как одна семь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5" descr="84B2E5E1.jpg"/>
          <p:cNvPicPr/>
          <p:nvPr/>
        </p:nvPicPr>
        <p:blipFill>
          <a:blip r:embed="rId1"/>
          <a:stretch/>
        </p:blipFill>
        <p:spPr>
          <a:xfrm>
            <a:off x="2206800" y="2362320"/>
            <a:ext cx="4956120" cy="3724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6:54:19Z</dcterms:created>
  <dc:creator>Вика</dc:creator>
  <dc:description/>
  <dc:language>en-US</dc:language>
  <cp:lastModifiedBy>юля</cp:lastModifiedBy>
  <dcterms:modified xsi:type="dcterms:W3CDTF">2012-01-30T15:24:12Z</dcterms:modified>
  <cp:revision>86</cp:revision>
  <dc:subject/>
  <dc:title>Семья в жизни и творчестве Л.Н. Толстого </dc:title>
</cp:coreProperties>
</file>