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72A-BADB-46A3-8792-01F56358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F9E-5924-4698-BA71-2940C9F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D3-A2EB-4C50-A5CC-637753C5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F8A-B234-4AEF-B3DA-42F3A61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A956-A685-4D5A-9E6B-357C79A5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7810-49E2-40C8-8229-B7A7971F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86495-011C-4D86-8471-1CC4D65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69121-C155-4BD9-AA28-4BFB4D10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1B46A-60B1-4B36-A0B6-9CE8012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158CB-BD44-42F4-BECF-7FA0CDB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2CF6-54EE-44AB-B1A8-FCA3402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3C4-6282-49F7-93C8-6BE7A926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C948-359C-4E7A-87E8-93B3EDC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1E24E-30E8-415F-A0F0-3833B8DF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5BC1-7F10-48B1-AE0E-7A46EA7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D9C4-D161-4B07-B607-1045433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6A8B-6176-4D1C-9A95-9DD7C6F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39A-052A-4237-9376-508FEDD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F0C-9B85-49B2-AA9D-63775BB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2D9-AF1A-4067-BADE-FDE73A0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A16-D9EC-461C-905F-C5A9865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76C-5582-45D3-A9AB-F94A2F7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605-B447-4FAD-A6D8-07D8930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D8E-B848-4F4B-BC1A-3A62404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8AD6-8BCE-439A-9EA4-2A56D51C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7C28-16F3-4213-BFF6-BDEC49B61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85920" y="1214280"/>
            <a:ext cx="640080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Исследование качества питьевой воды 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селе Ростош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86240" y="5000760"/>
            <a:ext cx="32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ководитель проекта: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физик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ебунова Ольга Анатольев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714920" y="435780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142920" y="52149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 проекта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ванов Дмитрий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еник 11клас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Ростошинской СОШ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ределение химических показателей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Содержимое 3" descr="2.bmp"/>
          <p:cNvPicPr/>
          <p:nvPr/>
        </p:nvPicPr>
        <p:blipFill>
          <a:blip r:embed="rId2"/>
          <a:stretch/>
        </p:blipFill>
        <p:spPr>
          <a:xfrm>
            <a:off x="142920" y="185724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Дмитрий\Desktop\Демо версии\3.bmp"/>
          <p:cNvPicPr/>
          <p:nvPr/>
        </p:nvPicPr>
        <p:blipFill>
          <a:blip r:embed="rId3"/>
          <a:stretch/>
        </p:blipFill>
        <p:spPr>
          <a:xfrm>
            <a:off x="5715000" y="185724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Дмитрий\Desktop\Демо версии\4.bmp"/>
          <p:cNvPicPr/>
          <p:nvPr/>
        </p:nvPicPr>
        <p:blipFill>
          <a:blip r:embed="rId4"/>
          <a:stretch/>
        </p:blipFill>
        <p:spPr>
          <a:xfrm>
            <a:off x="2928960" y="4286160"/>
            <a:ext cx="2786040" cy="2428920"/>
          </a:xfrm>
          <a:prstGeom prst="rect">
            <a:avLst/>
          </a:prstGeom>
          <a:ln w="0">
            <a:noFill/>
          </a:ln>
        </p:spPr>
      </p:pic>
    </p:spTree>
  </p:cSld>
  <p:transition advTm="240000">
    <p:pull dir="l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зультаты исследования оказались интересным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85840" y="2786040"/>
          <a:ext cx="8572320" cy="3643200"/>
        </p:xfrm>
        <a:graphic>
          <a:graphicData uri="http://schemas.openxmlformats.org/drawingml/2006/table">
            <a:tbl>
              <a:tblPr/>
              <a:tblGrid>
                <a:gridCol w="1928880"/>
                <a:gridCol w="2528640"/>
                <a:gridCol w="1185840"/>
                <a:gridCol w="1928880"/>
                <a:gridCol w="1000080"/>
              </a:tblGrid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 вод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взвешенных частиц (мг.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зрачность (см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одников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8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-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6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_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лодез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7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-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_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допровод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езначительный  оттено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4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_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571680" y="207180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олептические показатели питьевой в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pull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зультаты исследования оказались интересным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2928960"/>
          <a:ext cx="8215200" cy="3643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 вод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ородный показатель,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бонатная жесткость вод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еза,(мг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одников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-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-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лодез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бнаружены карбонат-ион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0,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допровод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6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бнаружены карбонат-ионы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более 0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4"/>
          <p:cNvSpPr/>
          <p:nvPr/>
        </p:nvSpPr>
        <p:spPr>
          <a:xfrm>
            <a:off x="428760" y="20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Химические показатели питьевой воды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comb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зультаты исследован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одников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никовая вода содержит наименьшее число взвешенных частиц, не имеет цвета и запаха, приближенное значение pH чуть ниже нормы, карбонат-ионы и ионы железа отсутству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исследования колодезн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колодезной воды выявлен наибольший показатель взвешенных частиц и pH среды (в пределах нормы). Она жесткая, наиболее прозрачная, цвета и запаха не обнаружено. Содержание ионов железа – в норме. Выявлено небольшое содержание ионов сереб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cover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исследования водопроводн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проводная вода наименее  прозрачная, жесткая, количество взвешенных частиц наименьшее, оптимальный показатель pH, но данный образец имеет незначительный оттенок и содержит самое большое количество общего желе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split dir="in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проведенного исследования органолептических показателей и химического анализа проб питьевой воды на территории села Ростоши Эртильского района Воронежской области я выяснил, что все источники являются пригодными для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newsflash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о исследовано только три источника, но на территории села их много. Следовательно, можно исследовать их все, привлекая не только школу, но и другие организации, ведь грязная вода – источник многих заболе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circl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исок использованной литерату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ьковская Н.Л., Асеева З.Г. Анализ воды из природных источников// Химия в школе. – 2007. - №3. – С. 7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аев Д.С. Анализ загрязнений воды// Химия в школе. – 2001. - №5 – С. 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брева Е.В. Современные экологические проблемы с точки зрения химика// Химия в школе. – 2007. - №1. – С.1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randomBa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Цели проект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ние у молодежи бережного отношения к природе родного края, доброты к окружающему нас мир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и проек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учение водных ресурсов родного кра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внительный химический анализ трех источников подземных во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 заботы о природе родного кр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окончании средней школы я планирую поступить в медицинский институт. Хочу стать врачом. Поэтому в своем исследовании я хотел выяснить, является ли качественной во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мая жителями села Ростоши, т.к. от этого напрямую зависи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моей работы вы узнаете, какой должна быть чистая во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ли ее употреблять,  если она не соответствует нормам, как неочищенная вода влияет на наше здоров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сследователь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еле Ростоши и близлежащих населенных пунктах недостаточное количество качественной питьев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им исследованием я хотел выясни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вляется ли качественной вода, которую употребляют жители села Ростош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5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Для исследования были взяты пробы из  родника Ступин , из Святого  колодезя и водопровода сел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G:\Проект\Фото\S8001528.JPG"/>
          <p:cNvPicPr/>
          <p:nvPr/>
        </p:nvPicPr>
        <p:blipFill>
          <a:blip r:embed="rId2"/>
          <a:stretch/>
        </p:blipFill>
        <p:spPr>
          <a:xfrm>
            <a:off x="4929120" y="2571840"/>
            <a:ext cx="3214800" cy="359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mhtml:file://C:\Users\Дмитрий\Desktop\Демо%20версии\Анализ%20питьевой%20воды.mht!http://www.nikolcoh.narod.ru/opit20.JPG"/>
          <p:cNvPicPr/>
          <p:nvPr/>
        </p:nvPicPr>
        <p:blipFill>
          <a:blip r:embed="rId3"/>
          <a:stretch/>
        </p:blipFill>
        <p:spPr>
          <a:xfrm>
            <a:off x="500040" y="2571840"/>
            <a:ext cx="4048200" cy="3571920"/>
          </a:xfrm>
          <a:prstGeom prst="rect">
            <a:avLst/>
          </a:prstGeom>
          <a:ln w="0">
            <a:noFill/>
          </a:ln>
        </p:spPr>
      </p:pic>
    </p:spTree>
  </p:cSld>
  <p:transition advTm="240000">
    <p:wheel spokes="1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ой должна быть чистая     вод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основным требованиям физических свойств питьевой воды относятся отсутствие неприятного запаха, вкуса и цвета. Минерализация питьевой воды не должна превышать 1 г/л, жесткость питьевой воды (содержание в воде ионов кальция и магния) не должна превышать 7 мг-экв/л, а содержание железа в питьевой воде не должно превышать 0,3 мг/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рязную воду пить нельз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данным ВОЗ, около 80% всех инфекционных болезней в мире связано с низким качеством питьевой 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C:\Users\Дмитрий\Desktop\Демо версии\photo_big.jpg"/>
          <p:cNvPicPr/>
          <p:nvPr/>
        </p:nvPicPr>
        <p:blipFill>
          <a:blip r:embed="rId2"/>
          <a:stretch/>
        </p:blipFill>
        <p:spPr>
          <a:xfrm>
            <a:off x="1714680" y="3643200"/>
            <a:ext cx="500040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абораторный анализ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G:\Проект\Фото\S8003306.JPG"/>
          <p:cNvPicPr/>
          <p:nvPr/>
        </p:nvPicPr>
        <p:blipFill>
          <a:blip r:embed="rId2"/>
          <a:stretch/>
        </p:blipFill>
        <p:spPr>
          <a:xfrm>
            <a:off x="214200" y="1571760"/>
            <a:ext cx="264348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G:\Проект\Фото\S8003307.JPG"/>
          <p:cNvPicPr/>
          <p:nvPr/>
        </p:nvPicPr>
        <p:blipFill>
          <a:blip r:embed="rId3"/>
          <a:stretch/>
        </p:blipFill>
        <p:spPr>
          <a:xfrm>
            <a:off x="2143080" y="378612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:\Проект\Фото\S8003308.JPG"/>
          <p:cNvPicPr/>
          <p:nvPr/>
        </p:nvPicPr>
        <p:blipFill>
          <a:blip r:embed="rId4"/>
          <a:stretch/>
        </p:blipFill>
        <p:spPr>
          <a:xfrm>
            <a:off x="3714840" y="157176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G:\Проект\Фото\S8003309.JPG"/>
          <p:cNvPicPr/>
          <p:nvPr/>
        </p:nvPicPr>
        <p:blipFill>
          <a:blip r:embed="rId5"/>
          <a:stretch/>
        </p:blipFill>
        <p:spPr>
          <a:xfrm>
            <a:off x="6143760" y="378612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p:transition advTm="240000">
    <p:push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ределение органолептических показателей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Содержимое 3" descr="untitled.bmp"/>
          <p:cNvPicPr/>
          <p:nvPr/>
        </p:nvPicPr>
        <p:blipFill>
          <a:blip r:embed="rId2"/>
          <a:stretch/>
        </p:blipFill>
        <p:spPr>
          <a:xfrm>
            <a:off x="571680" y="2357280"/>
            <a:ext cx="357156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Дмитрий\Desktop\Демо версии\1.bmp"/>
          <p:cNvPicPr/>
          <p:nvPr/>
        </p:nvPicPr>
        <p:blipFill>
          <a:blip r:embed="rId3"/>
          <a:stretch/>
        </p:blipFill>
        <p:spPr>
          <a:xfrm>
            <a:off x="4572000" y="2214720"/>
            <a:ext cx="390528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571680" y="521496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ение прозрачност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од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714920" y="52862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ение интенсивности запаха вод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0">
    <p:cover dir="r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13:29Z</dcterms:created>
  <dc:creator/>
  <dc:description/>
  <dc:language>en-US</dc:language>
  <cp:lastModifiedBy>Юлечка</cp:lastModifiedBy>
  <dcterms:modified xsi:type="dcterms:W3CDTF">2012-02-18T15:58:53Z</dcterms:modified>
  <cp:revision>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