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E68-527E-4785-859D-A9A6F84E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777-9BCD-4FB8-AD54-3B36444F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3FF-F3F1-48CC-AC0D-04E86B81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9AA-7285-42DC-A9F3-6EE01DAB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1F0-52D2-437F-98A1-6B4A2B7F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653-7ECF-4857-959F-70062AEF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D38-6D73-4B2F-9121-47E2AF4A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113-E447-4E27-88B3-CC8901A2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D75-654E-4EDD-91BE-43C1B1A6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FDD-CD5B-47DF-B140-8C20CFA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30D-14FF-41FE-8051-30441BB3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8EB-2927-40F9-869A-B486840B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2A3B-AF32-4C34-AB1B-8274C2F39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2133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шебный  крючок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523880" y="3049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676520" y="152280"/>
            <a:ext cx="571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о-исследовательская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городскую конферен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лодых исследов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828800" y="3962520"/>
            <a:ext cx="541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косырская Анастасия Игор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ца 7-А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редней общеобразовательной школы №5»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Школа здоровья и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торические све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9520" y="137160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начально вязание крючком было исключительно мужским ремеслом, но постепенно стало типично женским занятие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России вязание крючком получило распространение с конца XIX века и заниматься им стали женщины, которые собирались на посиделки. Мастерицы вязали преимущественно кружева, заимствуя для них узоры из народной вышивки крестом и ткачества.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да на некоторое время вытеснила этот вид декоративно-прикладного искусства.  Но  в  последние  три   десятилетия  интерес  к  вязанию  крючком  возродился. Вязание крючком  актуально и сейча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C:\Documents and Settings\Гузял\Рабочий стол\вязакние крючком\волшебный крючок скосырская\IMG_3858.jpg"/>
          <p:cNvPicPr/>
          <p:nvPr/>
        </p:nvPicPr>
        <p:blipFill>
          <a:blip r:embed="rId1"/>
          <a:stretch/>
        </p:blipFill>
        <p:spPr>
          <a:xfrm>
            <a:off x="533520" y="4038480"/>
            <a:ext cx="2997000" cy="224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Documents and Settings\Гузял\Рабочий стол\вязакние крючком\волшебный крючок скосырская\v3.gif"/>
          <p:cNvPicPr/>
          <p:nvPr/>
        </p:nvPicPr>
        <p:blipFill>
          <a:blip r:embed="rId2"/>
          <a:stretch/>
        </p:blipFill>
        <p:spPr>
          <a:xfrm>
            <a:off x="152280" y="1447920"/>
            <a:ext cx="1981440" cy="155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Documents and Settings\Гузял\Рабочий стол\вязакние крючком\волшебный крючок скосырская\salvetka3.jpg"/>
          <p:cNvPicPr/>
          <p:nvPr/>
        </p:nvPicPr>
        <p:blipFill>
          <a:blip r:embed="rId3"/>
          <a:stretch/>
        </p:blipFill>
        <p:spPr>
          <a:xfrm>
            <a:off x="2209680" y="1447920"/>
            <a:ext cx="1600200" cy="1568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3276720" y="160020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вние римляне носили тунику; да и не только они- тунику носили в Византии, и на Руси, и в других странах… : ведь туника- это всякая одежда, похожая на букву «Т». Это мужская и женская одежда Рим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Она была легкой и удоб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уника была похожа на греческий хитон и доходила до икр, но она стягивалась поясом в талии. Сначала она была без рукавов или с короткими рукавами; к концу второго века нашей эры стали носить туники с длинными рукавами. Туники с широкой полосой- носили сенаторы, с узкой- римские полководц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1523880" y="32004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C:\Documents and Settings\Гузял\Мои документы\Мои рисунки\древние туники.jpg"/>
          <p:cNvPicPr/>
          <p:nvPr/>
        </p:nvPicPr>
        <p:blipFill>
          <a:blip r:embed="rId1"/>
          <a:stretch/>
        </p:blipFill>
        <p:spPr>
          <a:xfrm>
            <a:off x="304920" y="1676520"/>
            <a:ext cx="2381040" cy="3467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2"/>
          <p:cNvSpPr/>
          <p:nvPr/>
        </p:nvSpPr>
        <p:spPr>
          <a:xfrm>
            <a:off x="4114800" y="6094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торически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Н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4" descr="C:\Documents and Settings\Гузял\Мои документы\Мои рисунки\1_39205.jpg"/>
          <p:cNvPicPr/>
          <p:nvPr/>
        </p:nvPicPr>
        <p:blipFill>
          <a:blip r:embed="rId1"/>
          <a:stretch/>
        </p:blipFill>
        <p:spPr>
          <a:xfrm>
            <a:off x="1447920" y="1523880"/>
            <a:ext cx="213336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C:\Documents and Settings\Гузял\Мои документы\Мои рисунки\robe_03.jpg"/>
          <p:cNvPicPr/>
          <p:nvPr/>
        </p:nvPicPr>
        <p:blipFill>
          <a:blip r:embed="rId2"/>
          <a:stretch/>
        </p:blipFill>
        <p:spPr>
          <a:xfrm>
            <a:off x="5029200" y="990720"/>
            <a:ext cx="3171960" cy="5562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9"/>
          <p:cNvSpPr/>
          <p:nvPr/>
        </p:nvSpPr>
        <p:spPr>
          <a:xfrm>
            <a:off x="762120" y="365760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- это главный вид одежды у представителей государственного суда, где строго соблюдается корпоративная куль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ор ц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http://www.sovaru.com/data/interesno/threecircles.jpg"/>
          <p:cNvPicPr/>
          <p:nvPr/>
        </p:nvPicPr>
        <p:blipFill>
          <a:blip r:embed="rId1"/>
          <a:stretch/>
        </p:blipFill>
        <p:spPr>
          <a:xfrm>
            <a:off x="380880" y="2209680"/>
            <a:ext cx="4038840" cy="4077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1295280" y="1295280"/>
            <a:ext cx="7010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304920" y="13716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ые многих стран изучают воздействие цвета на психику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4724280" y="2209680"/>
            <a:ext cx="4191120" cy="403884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зовый цвет любят женственные натуры, чтобы произвести впечатление хрупкости и нежности.. Те, кто носит на себе слишком много розового, может подолгу «парить в облака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. Розовый создает легкомысленное настроение, если обратить внимание на яркость цвета, то можно заметить следующую закономерность: яркие оттенки бодрят, наполняют  энерг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912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radley Hand ITC"/>
              </a:rPr>
              <a:t>Изготовление ту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38080" y="3886200"/>
            <a:ext cx="79200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ологическая последова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язание полочек и спинки (схеме №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готовление цветов по схеме (схема №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формление линии горловины полоч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единение полочек и спинки по боковым ш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единение дета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язание пояса и оформ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Documents and Settings\Гузял\Рабочий стол\волшебный крючок скосырская\IMG_3859.jpg"/>
          <p:cNvPicPr/>
          <p:nvPr/>
        </p:nvPicPr>
        <p:blipFill>
          <a:blip r:embed="rId1"/>
          <a:stretch/>
        </p:blipFill>
        <p:spPr>
          <a:xfrm>
            <a:off x="533520" y="9144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MG_3880"/>
          <p:cNvPicPr/>
          <p:nvPr/>
        </p:nvPicPr>
        <p:blipFill>
          <a:blip r:embed="rId2"/>
          <a:stretch/>
        </p:blipFill>
        <p:spPr>
          <a:xfrm>
            <a:off x="4800600" y="838080"/>
            <a:ext cx="35305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хема вязания цве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61" descr="C:\Documents and Settings\Гузял\Рабочий стол\исследовательская работа\img245.bmp"/>
          <p:cNvPicPr/>
          <p:nvPr/>
        </p:nvPicPr>
        <p:blipFill>
          <a:blip r:embed="rId1"/>
          <a:stretch/>
        </p:blipFill>
        <p:spPr>
          <a:xfrm>
            <a:off x="4419720" y="1981080"/>
            <a:ext cx="3971880" cy="339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IMG_3882"/>
          <p:cNvPicPr/>
          <p:nvPr/>
        </p:nvPicPr>
        <p:blipFill>
          <a:blip r:embed="rId2"/>
          <a:stretch/>
        </p:blipFill>
        <p:spPr>
          <a:xfrm>
            <a:off x="304920" y="40384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Documents and Settings\Гузял\Рабочий стол\волшебный крючок скосырская\IMG_3859.jpg"/>
          <p:cNvPicPr/>
          <p:nvPr/>
        </p:nvPicPr>
        <p:blipFill>
          <a:blip r:embed="rId3"/>
          <a:stretch/>
        </p:blipFill>
        <p:spPr>
          <a:xfrm>
            <a:off x="304920" y="990720"/>
            <a:ext cx="3454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712a6"/>
                </a:solidFill>
                <a:latin typeface="Bradley Hand ITC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76720" y="1493640"/>
            <a:ext cx="5486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Я впервые связала изделие для себя, хотя крючком вяжу  не давно. Эта работа  доставила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не большое удовольствие, особенно когда я увидела свой результа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сихологи утверждают: вязание не только позволяет сосредоточиться, но и имеет успокаивающий эффект. Спицы, крючок, немного фантазии - и из рук рукодельниц выходят чудесные изделия. Тем, кто еще не владеет техникой вязания крючком, я посоветовала бы поскорее этому научи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C:\Documents and Settings\Гузял\Рабочий стол\волшебный крючок скосырская\IMG_3865.jpg"/>
          <p:cNvPicPr/>
          <p:nvPr/>
        </p:nvPicPr>
        <p:blipFill>
          <a:blip r:embed="rId1"/>
          <a:stretch/>
        </p:blipFill>
        <p:spPr>
          <a:xfrm>
            <a:off x="152280" y="1295280"/>
            <a:ext cx="2925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7"/>
          <p:cNvSpPr/>
          <p:nvPr/>
        </p:nvSpPr>
        <p:spPr>
          <a:xfrm>
            <a:off x="304920" y="609480"/>
            <a:ext cx="487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ир будет счастлив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гда, когда у каждого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ет душа художника, иначе гово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каждый будет находить рад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воем тру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. Ро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Гузял\Рабочий стол\волшебный крючок скосырская\цветы.jpg"/>
          <p:cNvPicPr/>
          <p:nvPr/>
        </p:nvPicPr>
        <p:blipFill>
          <a:blip r:embed="rId1"/>
          <a:stretch/>
        </p:blipFill>
        <p:spPr>
          <a:xfrm>
            <a:off x="5715000" y="3505320"/>
            <a:ext cx="2971800" cy="312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Гузял\Рабочий стол\волшебный крючок скосырская\e2688aa265e2.jpg"/>
          <p:cNvPicPr/>
          <p:nvPr/>
        </p:nvPicPr>
        <p:blipFill>
          <a:blip r:embed="rId2"/>
          <a:stretch/>
        </p:blipFill>
        <p:spPr>
          <a:xfrm>
            <a:off x="838080" y="4038480"/>
            <a:ext cx="3019680" cy="252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Documents and Settings\Гузял\Рабочий стол\волшебный крючок скосырская\IMG_3860.jpg"/>
          <p:cNvPicPr/>
          <p:nvPr/>
        </p:nvPicPr>
        <p:blipFill>
          <a:blip r:embed="rId3"/>
          <a:stretch/>
        </p:blipFill>
        <p:spPr>
          <a:xfrm>
            <a:off x="5486400" y="3049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Разработать и изготовить, декоративно оформив изделие в технике вязание крюч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09480" y="289548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 и изучение исторического материала о декоративно-прикладном искусстве «вязание крюч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вида одежд и исторические сведения о тун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оложительных и отрицательных факторов, влияющих на возможности  изготовления  туники своими руками, составив дизайн-анали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зайнерское решение  придуманного мною изделия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схемы и выбор техники для создания изделия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ние своих навыков в данной техн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технологической документации на проектируемое изде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762120" y="2514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ъект исследо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зайнерский проект для создания оригинального современного вида одеж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09480" y="152280"/>
            <a:ext cx="7620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ка вязания крюч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ение издел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457200" y="17524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отез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работке дизайна  современного изделия можно использовать старинные методы искусства рукоделия и создать уникальную  вещь для 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оинств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ого изделия является доступность используемых материалов, средств, времени, развитие моих способностей, оригинальность  и неповторимость издели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57200" y="5029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ь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ей работы заключается в том, что скоро лето и данное изделие я буду носить сама, и оно будет в единственном экземпляре, так как является моей фантазией воплощенной  в жизнь, и подчеркнет мою индивидуаль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ыбор модел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4"/>
          <p:cNvCxnSpPr/>
          <p:nvPr/>
        </p:nvCxnSpPr>
        <p:spPr>
          <a:xfrm flipH="1">
            <a:off x="2666520" y="1143000"/>
            <a:ext cx="1372320" cy="8388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5"/>
          <p:cNvCxnSpPr/>
          <p:nvPr/>
        </p:nvCxnSpPr>
        <p:spPr>
          <a:xfrm flipH="1">
            <a:off x="3504600" y="1218960"/>
            <a:ext cx="991080" cy="19054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6"/>
          <p:cNvCxnSpPr/>
          <p:nvPr/>
        </p:nvCxnSpPr>
        <p:spPr>
          <a:xfrm>
            <a:off x="5104440" y="1218960"/>
            <a:ext cx="686520" cy="19818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7"/>
          <p:cNvCxnSpPr/>
          <p:nvPr/>
        </p:nvCxnSpPr>
        <p:spPr>
          <a:xfrm>
            <a:off x="5410080" y="1218960"/>
            <a:ext cx="915120" cy="686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Rectangle 9"/>
          <p:cNvSpPr/>
          <p:nvPr/>
        </p:nvSpPr>
        <p:spPr>
          <a:xfrm>
            <a:off x="3848400" y="1354680"/>
            <a:ext cx="2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9"/>
          <p:cNvCxnSpPr/>
          <p:nvPr/>
        </p:nvCxnSpPr>
        <p:spPr>
          <a:xfrm flipH="1">
            <a:off x="2626920" y="1143000"/>
            <a:ext cx="1372320" cy="8388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 flipH="1">
            <a:off x="3465000" y="1218960"/>
            <a:ext cx="991440" cy="19054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1"/>
          <p:cNvCxnSpPr/>
          <p:nvPr/>
        </p:nvCxnSpPr>
        <p:spPr>
          <a:xfrm>
            <a:off x="5064480" y="1218960"/>
            <a:ext cx="686520" cy="19818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12"/>
          <p:cNvCxnSpPr/>
          <p:nvPr/>
        </p:nvCxnSpPr>
        <p:spPr>
          <a:xfrm>
            <a:off x="5370480" y="1218960"/>
            <a:ext cx="915120" cy="686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6" name="Рисунок 47" descr="http://vayjem.com/content/sub54/foto/small/7.jpg"/>
          <p:cNvPicPr/>
          <p:nvPr/>
        </p:nvPicPr>
        <p:blipFill>
          <a:blip r:embed="rId1"/>
          <a:stretch/>
        </p:blipFill>
        <p:spPr>
          <a:xfrm>
            <a:off x="685800" y="990720"/>
            <a:ext cx="1612800" cy="36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жилет"/>
          <p:cNvPicPr/>
          <p:nvPr/>
        </p:nvPicPr>
        <p:blipFill>
          <a:blip r:embed="rId2"/>
          <a:stretch/>
        </p:blipFill>
        <p:spPr>
          <a:xfrm>
            <a:off x="6934320" y="838080"/>
            <a:ext cx="1809720" cy="24195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1" descr="http://vayjem.com/content/sub54/foto/small/21.jpg"/>
          <p:cNvPicPr/>
          <p:nvPr/>
        </p:nvPicPr>
        <p:blipFill>
          <a:blip r:embed="rId3"/>
          <a:stretch/>
        </p:blipFill>
        <p:spPr>
          <a:xfrm>
            <a:off x="2475000" y="3429000"/>
            <a:ext cx="2057400" cy="3171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52293286-1"/>
          <p:cNvPicPr/>
          <p:nvPr/>
        </p:nvPicPr>
        <p:blipFill>
          <a:blip r:embed="rId4"/>
          <a:stretch/>
        </p:blipFill>
        <p:spPr>
          <a:xfrm>
            <a:off x="5334120" y="3429000"/>
            <a:ext cx="23986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снование выбора модели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066680"/>
          <a:ext cx="7924680" cy="4802400"/>
        </p:xfrm>
        <a:graphic>
          <a:graphicData uri="http://schemas.openxmlformats.org/drawingml/2006/table">
            <a:tbl>
              <a:tblPr/>
              <a:tblGrid>
                <a:gridCol w="534960"/>
                <a:gridCol w="1360440"/>
                <a:gridCol w="1552680"/>
                <a:gridCol w="2239920"/>
                <a:gridCol w="2236680"/>
              </a:tblGrid>
              <a:tr h="130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ды издел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ды техники выполнения изде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акти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ряд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лат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Вязание крюч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лишком облегает, нет свободы движ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лишком вызывающе наря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ил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Вязание крюч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гая 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трастность ц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у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вейное издел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Комфортна и современ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Необычно, привлек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олст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Вязание крюч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пло, ую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лишком яр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AutoShape 5"/>
          <p:cNvCxnSpPr/>
          <p:nvPr/>
        </p:nvCxnSpPr>
        <p:spPr>
          <a:xfrm>
            <a:off x="4814640" y="2668320"/>
            <a:ext cx="69552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4"/>
          <p:cNvCxnSpPr/>
          <p:nvPr/>
        </p:nvCxnSpPr>
        <p:spPr>
          <a:xfrm flipH="1">
            <a:off x="3328560" y="2668320"/>
            <a:ext cx="820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Rectangle 6"/>
          <p:cNvSpPr/>
          <p:nvPr/>
        </p:nvSpPr>
        <p:spPr>
          <a:xfrm>
            <a:off x="3809880" y="20138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libri"/>
                <a:ea typeface="Times New Roman"/>
              </a:rPr>
              <a:t>ту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28600" y="2437560"/>
            <a:ext cx="86868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24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24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упить:                                                       изготовить само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24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можность переплаты -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оригинально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24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отипно -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качественно +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24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легко +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дешево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24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быстро +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долго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24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доброкачественно -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развитие способностей +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24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интересно -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красиво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24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ожно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C:\Documents and Settings\Гузял\Мои документы\Мои рисунки\туника в стиле ампир.jpg"/>
          <p:cNvPicPr/>
          <p:nvPr/>
        </p:nvPicPr>
        <p:blipFill>
          <a:blip r:embed="rId1"/>
          <a:stretch/>
        </p:blipFill>
        <p:spPr>
          <a:xfrm>
            <a:off x="609480" y="304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:\Documents and Settings\Гузял\Мои документы\Мои рисунки\туника на бретелях.jpg"/>
          <p:cNvPicPr/>
          <p:nvPr/>
        </p:nvPicPr>
        <p:blipFill>
          <a:blip r:embed="rId2"/>
          <a:stretch/>
        </p:blipFill>
        <p:spPr>
          <a:xfrm>
            <a:off x="7242120" y="228600"/>
            <a:ext cx="138744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C:\Documents and Settings\Гузял\Мои документы\Мои рисунки\туника с удлиненной горловиной.jpg"/>
          <p:cNvPicPr/>
          <p:nvPr/>
        </p:nvPicPr>
        <p:blipFill>
          <a:blip r:embed="rId3"/>
          <a:stretch/>
        </p:blipFill>
        <p:spPr>
          <a:xfrm>
            <a:off x="3581280" y="304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рфологический ящ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2133720"/>
          <a:ext cx="8229600" cy="3352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812960"/>
                <a:gridCol w="1477800"/>
                <a:gridCol w="164628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уэ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из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ям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прилегаю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п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к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щиколо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ыше к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и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Элементы ц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ан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981080" y="3381480"/>
            <a:ext cx="19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15"/>
          <p:cNvCxnSpPr/>
          <p:nvPr/>
        </p:nvCxnSpPr>
        <p:spPr>
          <a:xfrm>
            <a:off x="4599360" y="2209320"/>
            <a:ext cx="2520" cy="10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16"/>
          <p:cNvCxnSpPr/>
          <p:nvPr/>
        </p:nvCxnSpPr>
        <p:spPr>
          <a:xfrm>
            <a:off x="5943600" y="2133360"/>
            <a:ext cx="9914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13"/>
          <p:cNvCxnSpPr/>
          <p:nvPr/>
        </p:nvCxnSpPr>
        <p:spPr>
          <a:xfrm flipH="1">
            <a:off x="3276360" y="1980720"/>
            <a:ext cx="838800" cy="129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12"/>
          <p:cNvCxnSpPr/>
          <p:nvPr/>
        </p:nvCxnSpPr>
        <p:spPr>
          <a:xfrm>
            <a:off x="5257800" y="2209680"/>
            <a:ext cx="1721520" cy="229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Rectangle 17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3276720" y="1524960"/>
            <a:ext cx="33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зайн спец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1828800" y="4439520"/>
            <a:ext cx="228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3"/>
          <p:cNvSpPr/>
          <p:nvPr/>
        </p:nvSpPr>
        <p:spPr>
          <a:xfrm>
            <a:off x="685800" y="274320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 издел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лечевое издел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914400" y="3733920"/>
            <a:ext cx="292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менование издел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н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5"/>
          <p:cNvSpPr/>
          <p:nvPr/>
        </p:nvSpPr>
        <p:spPr>
          <a:xfrm>
            <a:off x="3733920" y="3352680"/>
            <a:ext cx="1736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я- изделия: для  повседневной но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лосинами или брид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6858000" y="4724280"/>
            <a:ext cx="20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 рукодел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язание крюч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6858000" y="2895480"/>
            <a:ext cx="205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 производст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товые условия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23"/>
          <p:cNvCxnSpPr/>
          <p:nvPr/>
        </p:nvCxnSpPr>
        <p:spPr>
          <a:xfrm flipH="1">
            <a:off x="2513880" y="1980000"/>
            <a:ext cx="1220040" cy="762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8" name="Picture 18" descr="C:\Documents and Settings\Гузял\Мои документы\Мои рисунки\туника.jpg"/>
          <p:cNvPicPr/>
          <p:nvPr/>
        </p:nvPicPr>
        <p:blipFill>
          <a:blip r:embed="rId1"/>
          <a:stretch/>
        </p:blipFill>
        <p:spPr>
          <a:xfrm>
            <a:off x="7391520" y="380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C:\Documents and Settings\Гузял\Мои документы\Мои рисунки\туника вязанный крючком.jpg"/>
          <p:cNvPicPr/>
          <p:nvPr/>
        </p:nvPicPr>
        <p:blipFill>
          <a:blip r:embed="rId2"/>
          <a:stretch/>
        </p:blipFill>
        <p:spPr>
          <a:xfrm>
            <a:off x="380880" y="152280"/>
            <a:ext cx="106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</cp:lastModifiedBy>
  <dcterms:modified xsi:type="dcterms:W3CDTF">2012-02-18T17:02:19Z</dcterms:modified>
  <cp:revision>86</cp:revision>
  <dc:subject/>
  <dc:title>Слайд 1</dc:title>
</cp:coreProperties>
</file>