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2DB-8FFB-48FE-B213-42D6C0D1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A08-9933-4846-B530-235B8F6A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05F-6631-4CE6-92F4-DA1EC88E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B4F-42BA-45ED-A65D-AD68E5A6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781F-CA75-4BAF-8AD6-BCCA5755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CA66-1017-4ADE-9C02-8B83FF0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FA64-3952-471F-AED2-8855ACE4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72DB-FBFF-407C-BE55-FC6851E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4DD-2345-4E13-AE7C-23652008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B9E-273B-418C-B98C-746D61C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6246-E817-445F-99DC-1ABA93C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BDB-E67B-477A-999E-03342B2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C435-0951-41D8-910D-2D13CA1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31B-C54D-4D42-BD20-734A698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9953-CDF9-4825-BBBC-7D34F0A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A483-653F-46B3-AEFF-DE54DB90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1B9-ED02-4167-A998-4E6B68DE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353B-8063-41B0-8483-065067E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30FF-7AE3-4299-BD5C-64CB606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2744-6A52-4841-B210-544DE5D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B0C4-DCDF-41B0-A0B2-6C0BFD0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7866-9A38-4356-AF43-2345C1A5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14E-CBF6-464D-86F6-A0C35BEF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B61C-3AF9-43EC-BC59-A96165F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5E65-302D-40BE-AA3C-327E6C3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AC16-810D-4BF6-9DA3-E48C327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2E51-ED6D-4796-86AC-7D9F42B9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D678-5F59-4E5C-A165-AEF9F9C6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6EBA-5CDC-4FE0-B4A0-817E5E70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4E90-6A5E-4F13-B291-951B9781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43F-1BE2-4977-BBC7-57C08054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3C4-2456-405A-A562-5DA1CCB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D68-C2E0-4EAB-855B-2C10D8F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98E-0D27-4BF0-A137-45C9579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ECB-3491-4AEF-B741-94944C5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E5D-F992-4A30-BBD1-88928ED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552D-1E55-4E55-AC07-02568E9C07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E216-C095-40DD-858C-BFD053502A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207-5A9D-4BFC-B55D-9CB113EFD9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image" Target="../media/image2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грек богоматерь донская"/>
          <p:cNvPicPr/>
          <p:nvPr/>
        </p:nvPicPr>
        <p:blipFill>
          <a:blip r:embed="rId1"/>
          <a:stretch/>
        </p:blipFill>
        <p:spPr>
          <a:xfrm>
            <a:off x="7308720" y="620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Благовещенский собор"/>
          <p:cNvPicPr/>
          <p:nvPr/>
        </p:nvPicPr>
        <p:blipFill>
          <a:blip r:embed="rId2"/>
          <a:stretch/>
        </p:blipFill>
        <p:spPr>
          <a:xfrm>
            <a:off x="250920" y="2997360"/>
            <a:ext cx="2044440" cy="2276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826920" y="620640"/>
            <a:ext cx="5905800" cy="1381680"/>
          </a:xfrm>
          <a:prstGeom prst="rect">
            <a:avLst/>
          </a:prstGeom>
          <a:solidFill>
            <a:srgbClr val="7e9c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час  в 7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: Шулепова Наталия Валенти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12"/>
          <p:cNvSpPr txBox="1"/>
          <p:nvPr/>
        </p:nvSpPr>
        <p:spPr>
          <a:xfrm>
            <a:off x="2843280" y="3429000"/>
            <a:ext cx="300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льтур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13"/>
          <p:cNvSpPr txBox="1"/>
          <p:nvPr/>
        </p:nvSpPr>
        <p:spPr>
          <a:xfrm>
            <a:off x="3492360" y="4581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пох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1332000" y="5589720"/>
            <a:ext cx="59752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х потрясений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Храм Василия Блаженного"/>
          <p:cNvPicPr/>
          <p:nvPr/>
        </p:nvPicPr>
        <p:blipFill>
          <a:blip r:embed="rId2"/>
          <a:stretch/>
        </p:blipFill>
        <p:spPr>
          <a:xfrm>
            <a:off x="395280" y="1413000"/>
            <a:ext cx="3816360" cy="4248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7"/>
          <p:cNvSpPr/>
          <p:nvPr/>
        </p:nvSpPr>
        <p:spPr>
          <a:xfrm>
            <a:off x="4894200" y="836640"/>
            <a:ext cx="4249800" cy="4753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940360" y="1916280"/>
            <a:ext cx="2448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цом церковного строительства стал созданный архитекторами Бармой и Постнико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ровский соб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«что на рв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GRDCAP"/>
          <p:cNvPicPr/>
          <p:nvPr/>
        </p:nvPicPr>
        <p:blipFill>
          <a:blip r:embed="rId3"/>
          <a:stretch/>
        </p:blipFill>
        <p:spPr>
          <a:xfrm>
            <a:off x="5076720" y="0"/>
            <a:ext cx="227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15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1155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115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15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4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василий 3"/>
          <p:cNvPicPr/>
          <p:nvPr/>
        </p:nvPicPr>
        <p:blipFill>
          <a:blip r:embed="rId2"/>
          <a:stretch/>
        </p:blipFill>
        <p:spPr>
          <a:xfrm>
            <a:off x="5148360" y="765000"/>
            <a:ext cx="3733560" cy="415476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7"/>
          <p:cNvSpPr/>
          <p:nvPr/>
        </p:nvSpPr>
        <p:spPr>
          <a:xfrm>
            <a:off x="0" y="981000"/>
            <a:ext cx="4643280" cy="4248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84360" y="1773360"/>
            <a:ext cx="324000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роде его называ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амом Василия Блаженн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нём не один год находился известный на Руси юродивый Василий Блаженный, не боявшийся вступать в спор с Иваном Гроз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GRDCAP"/>
          <p:cNvPicPr/>
          <p:nvPr/>
        </p:nvPicPr>
        <p:blipFill>
          <a:blip r:embed="rId3"/>
          <a:stretch/>
        </p:blipFill>
        <p:spPr>
          <a:xfrm>
            <a:off x="3132000" y="189000"/>
            <a:ext cx="227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15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1155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115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115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4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rcRect l="0" t="0" r="0" b="37293"/>
          <a:stretch/>
        </p:blipFill>
        <p:spPr>
          <a:xfrm>
            <a:off x="684360" y="1700280"/>
            <a:ext cx="4086000" cy="1913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3"/>
          <a:stretch/>
        </p:blipFill>
        <p:spPr>
          <a:xfrm>
            <a:off x="5435640" y="2997360"/>
            <a:ext cx="3193920" cy="2384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1619280" y="54936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ное строительство развернулось и в других городах. Поднялись кремли в Туле, Серпухове, Нижнем Нов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932360" y="566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ская  башня Нижегород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971640" y="3933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ь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4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692360" y="836640"/>
            <a:ext cx="64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Живопи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грек богоматерь донская"/>
          <p:cNvPicPr/>
          <p:nvPr/>
        </p:nvPicPr>
        <p:blipFill>
          <a:blip r:embed="rId2"/>
          <a:stretch/>
        </p:blipFill>
        <p:spPr>
          <a:xfrm>
            <a:off x="395280" y="476280"/>
            <a:ext cx="2503440" cy="2786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дионисий о тебе радуется"/>
          <p:cNvPicPr/>
          <p:nvPr/>
        </p:nvPicPr>
        <p:blipFill>
          <a:blip r:embed="rId3"/>
          <a:stretch/>
        </p:blipFill>
        <p:spPr>
          <a:xfrm>
            <a:off x="324000" y="3595680"/>
            <a:ext cx="3671640" cy="274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рублёв троица"/>
          <p:cNvPicPr/>
          <p:nvPr/>
        </p:nvPicPr>
        <p:blipFill>
          <a:blip r:embed="rId4"/>
          <a:stretch/>
        </p:blipFill>
        <p:spPr>
          <a:xfrm>
            <a:off x="5796000" y="3500280"/>
            <a:ext cx="2782800" cy="3097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PROFESSR"/>
          <p:cNvPicPr/>
          <p:nvPr/>
        </p:nvPicPr>
        <p:blipFill>
          <a:blip r:embed="rId5"/>
          <a:stretch/>
        </p:blipFill>
        <p:spPr>
          <a:xfrm>
            <a:off x="6732720" y="765000"/>
            <a:ext cx="17985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4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4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4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826920" y="1413000"/>
            <a:ext cx="5399280" cy="3240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547640" y="19890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й взлёт Руси способствовал небывалому развитию церковной живописи. Произведения Феофана Грека, Андрея Рублёва, Дионисия стали образцами для подражания на многие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GRDCAP"/>
          <p:cNvPicPr/>
          <p:nvPr/>
        </p:nvPicPr>
        <p:blipFill>
          <a:blip r:embed="rId2"/>
          <a:stretch/>
        </p:blipFill>
        <p:spPr>
          <a:xfrm>
            <a:off x="4427640" y="476280"/>
            <a:ext cx="2273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15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1155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619280" y="404640"/>
            <a:ext cx="597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коны Феофана  Гр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упые, суровые краски, динамичные мазки быстрой к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грек богоматерь донская"/>
          <p:cNvPicPr/>
          <p:nvPr/>
        </p:nvPicPr>
        <p:blipFill>
          <a:blip r:embed="rId2"/>
          <a:stretch/>
        </p:blipFill>
        <p:spPr>
          <a:xfrm>
            <a:off x="3203640" y="3141720"/>
            <a:ext cx="2503440" cy="2786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грек троица"/>
          <p:cNvPicPr/>
          <p:nvPr/>
        </p:nvPicPr>
        <p:blipFill>
          <a:blip r:embed="rId3"/>
          <a:stretch/>
        </p:blipFill>
        <p:spPr>
          <a:xfrm>
            <a:off x="250920" y="2060640"/>
            <a:ext cx="2457360" cy="273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грек мельхиседек"/>
          <p:cNvPicPr/>
          <p:nvPr/>
        </p:nvPicPr>
        <p:blipFill>
          <a:blip r:embed="rId4"/>
          <a:srcRect l="12680" t="0" r="16135" b="0"/>
          <a:stretch/>
        </p:blipFill>
        <p:spPr>
          <a:xfrm>
            <a:off x="6516720" y="1916280"/>
            <a:ext cx="2073240" cy="3240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1"/>
          <p:cNvSpPr/>
          <p:nvPr/>
        </p:nvSpPr>
        <p:spPr>
          <a:xfrm>
            <a:off x="826920" y="1700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203640" y="2421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гоматерь Дон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588000" y="15573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льхисед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042920" y="333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коны Андрея Рублё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ругой взгляд на мир, другая философия жизни. Радость выражена не в словах, а в красочных видениях. Здесь  сама  скорбь претворяется в рад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рублёв архангел михаил"/>
          <p:cNvPicPr/>
          <p:nvPr/>
        </p:nvPicPr>
        <p:blipFill>
          <a:blip r:embed="rId2"/>
          <a:stretch/>
        </p:blipFill>
        <p:spPr>
          <a:xfrm>
            <a:off x="324000" y="2276640"/>
            <a:ext cx="3301920" cy="3673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рублёв троица"/>
          <p:cNvPicPr/>
          <p:nvPr/>
        </p:nvPicPr>
        <p:blipFill>
          <a:blip r:embed="rId3"/>
          <a:stretch/>
        </p:blipFill>
        <p:spPr>
          <a:xfrm>
            <a:off x="5076720" y="2708280"/>
            <a:ext cx="336384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5580000" y="2349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24000" y="1844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рхангел Михаи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000"/>
                            </p:stCondLst>
                            <p:childTnLst>
                              <p:par>
                                <p:cTn id="5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90000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коны Диони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поэзией живопи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дионисий распятие"/>
          <p:cNvPicPr/>
          <p:nvPr/>
        </p:nvPicPr>
        <p:blipFill>
          <a:blip r:embed="rId2"/>
          <a:stretch/>
        </p:blipFill>
        <p:spPr>
          <a:xfrm>
            <a:off x="5940360" y="1413000"/>
            <a:ext cx="2587680" cy="2879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дионисий о тебе радуется"/>
          <p:cNvPicPr/>
          <p:nvPr/>
        </p:nvPicPr>
        <p:blipFill>
          <a:blip r:embed="rId3"/>
          <a:stretch/>
        </p:blipFill>
        <p:spPr>
          <a:xfrm>
            <a:off x="3276720" y="4508640"/>
            <a:ext cx="2833560" cy="2116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дионисий митрополит алексий с житием"/>
          <p:cNvPicPr/>
          <p:nvPr/>
        </p:nvPicPr>
        <p:blipFill>
          <a:blip r:embed="rId4"/>
          <a:stretch/>
        </p:blipFill>
        <p:spPr>
          <a:xfrm>
            <a:off x="468360" y="1700280"/>
            <a:ext cx="2547720" cy="28353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9"/>
          <p:cNvSpPr/>
          <p:nvPr/>
        </p:nvSpPr>
        <p:spPr>
          <a:xfrm>
            <a:off x="6372360" y="98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132000" y="4149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 тебе раду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755640" y="1052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итрополит Алексий с жити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ROFESSR"/>
          <p:cNvPicPr/>
          <p:nvPr/>
        </p:nvPicPr>
        <p:blipFill>
          <a:blip r:embed="rId2"/>
          <a:stretch/>
        </p:blipFill>
        <p:spPr>
          <a:xfrm>
            <a:off x="7099200" y="3573360"/>
            <a:ext cx="2044800" cy="2946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324000" y="3429000"/>
            <a:ext cx="6659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Книгопечат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страница апостола"/>
          <p:cNvPicPr/>
          <p:nvPr/>
        </p:nvPicPr>
        <p:blipFill>
          <a:blip r:embed="rId2"/>
          <a:stretch/>
        </p:blipFill>
        <p:spPr>
          <a:xfrm>
            <a:off x="2411280" y="1916280"/>
            <a:ext cx="3967200" cy="44146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755640" y="692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арта 1564 года выше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Апосто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рвая датированная книг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вана Фёдор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PROFESSR"/>
          <p:cNvPicPr/>
          <p:nvPr/>
        </p:nvPicPr>
        <p:blipFill>
          <a:blip r:embed="rId2"/>
          <a:stretch/>
        </p:blipFill>
        <p:spPr>
          <a:xfrm flipH="1">
            <a:off x="394920" y="3645000"/>
            <a:ext cx="2171880" cy="29462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6"/>
          <p:cNvSpPr txBox="1"/>
          <p:nvPr/>
        </p:nvSpPr>
        <p:spPr>
          <a:xfrm>
            <a:off x="684360" y="549360"/>
            <a:ext cx="6624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Отыщи всему нача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7"/>
          <p:cNvSpPr txBox="1"/>
          <p:nvPr/>
        </p:nvSpPr>
        <p:spPr>
          <a:xfrm>
            <a:off x="2771640" y="206064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и ты мног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8"/>
          <p:cNvSpPr txBox="1"/>
          <p:nvPr/>
        </p:nvSpPr>
        <p:spPr>
          <a:xfrm>
            <a:off x="4643280" y="3068640"/>
            <a:ext cx="38894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ймёш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859280" y="4724280"/>
            <a:ext cx="37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зьма Пру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Иван Фёдоров"/>
          <p:cNvPicPr/>
          <p:nvPr/>
        </p:nvPicPr>
        <p:blipFill>
          <a:blip r:embed="rId2"/>
          <a:stretch/>
        </p:blipFill>
        <p:spPr>
          <a:xfrm>
            <a:off x="4716360" y="1413000"/>
            <a:ext cx="3733920" cy="415440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"/>
          <p:cNvSpPr/>
          <p:nvPr/>
        </p:nvSpPr>
        <p:spPr>
          <a:xfrm>
            <a:off x="0" y="907920"/>
            <a:ext cx="4716360" cy="4969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55640" y="1557360"/>
            <a:ext cx="3240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х порах издавались церковные книги, но позже стали печатать и гражданские. Сам Иван Фёдоров прекрасно понимал значение своей работы. Он сравнивал её с деятельностью сеятеля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… вместо житных семян духовные семена по вселенной развеять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GRDCAP"/>
          <p:cNvPicPr/>
          <p:nvPr/>
        </p:nvPicPr>
        <p:blipFill>
          <a:blip r:embed="rId3"/>
          <a:stretch/>
        </p:blipFill>
        <p:spPr>
          <a:xfrm>
            <a:off x="2771640" y="189000"/>
            <a:ext cx="227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155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1155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8" dur="115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0" dur="115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8000"/>
                            </p:stCondLst>
                            <p:childTnLst>
                              <p:par>
                                <p:cTn id="6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6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6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03280" y="620640"/>
            <a:ext cx="64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Литерату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4014720" cy="4465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ROFESSR"/>
          <p:cNvPicPr/>
          <p:nvPr/>
        </p:nvPicPr>
        <p:blipFill>
          <a:blip r:embed="rId3"/>
          <a:stretch/>
        </p:blipFill>
        <p:spPr>
          <a:xfrm flipH="1">
            <a:off x="468360" y="3284640"/>
            <a:ext cx="21715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00000" y="620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195640" y="105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я Куликовск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203640" y="206064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я, носящие острый полемически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3280" y="321300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псковского монаха Филоф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156360" y="458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цевой» летописны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324000" y="620640"/>
            <a:ext cx="502920" cy="289080"/>
          </a:xfrm>
          <a:prstGeom prst="rightArrow">
            <a:avLst>
              <a:gd name="adj1" fmla="val 50000"/>
              <a:gd name="adj2" fmla="val 434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3"/>
          <p:cNvSpPr/>
          <p:nvPr/>
        </p:nvSpPr>
        <p:spPr>
          <a:xfrm>
            <a:off x="1403280" y="1341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4"/>
          <p:cNvSpPr/>
          <p:nvPr/>
        </p:nvSpPr>
        <p:spPr>
          <a:xfrm>
            <a:off x="2411280" y="242100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3708360" y="364500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5292720" y="472428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7" descr="PROFESSR"/>
          <p:cNvPicPr/>
          <p:nvPr/>
        </p:nvPicPr>
        <p:blipFill>
          <a:blip r:embed="rId2"/>
          <a:stretch/>
        </p:blipFill>
        <p:spPr>
          <a:xfrm flipH="1">
            <a:off x="468360" y="3284640"/>
            <a:ext cx="21715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7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77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7" dur="770" fill="hold"/>
                                        <p:tgtEl>
                                          <p:spTgt spid="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7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6"/>
          <p:cNvSpPr/>
          <p:nvPr/>
        </p:nvSpPr>
        <p:spPr>
          <a:xfrm>
            <a:off x="826920" y="1125360"/>
            <a:ext cx="6985080" cy="4896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1916280"/>
            <a:ext cx="5400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GRDCAP"/>
          <p:cNvPicPr/>
          <p:nvPr/>
        </p:nvPicPr>
        <p:blipFill>
          <a:blip r:embed="rId2"/>
          <a:stretch/>
        </p:blipFill>
        <p:spPr>
          <a:xfrm>
            <a:off x="5651640" y="333360"/>
            <a:ext cx="2273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155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1155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2" dur="115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4" dur="115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0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4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76360" y="54936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Архитекту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василий 4"/>
          <p:cNvPicPr/>
          <p:nvPr/>
        </p:nvPicPr>
        <p:blipFill>
          <a:blip r:embed="rId2"/>
          <a:stretch/>
        </p:blipFill>
        <p:spPr>
          <a:xfrm>
            <a:off x="0" y="3933720"/>
            <a:ext cx="2833560" cy="2116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собор 3"/>
          <p:cNvPicPr/>
          <p:nvPr/>
        </p:nvPicPr>
        <p:blipFill>
          <a:blip r:embed="rId3"/>
          <a:stretch/>
        </p:blipFill>
        <p:spPr>
          <a:xfrm>
            <a:off x="7020000" y="765000"/>
            <a:ext cx="1792080" cy="1994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собор 2"/>
          <p:cNvPicPr/>
          <p:nvPr/>
        </p:nvPicPr>
        <p:blipFill>
          <a:blip r:embed="rId4"/>
          <a:stretch/>
        </p:blipFill>
        <p:spPr>
          <a:xfrm>
            <a:off x="3492360" y="2349360"/>
            <a:ext cx="3076560" cy="2297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PROFESSR"/>
          <p:cNvPicPr/>
          <p:nvPr/>
        </p:nvPicPr>
        <p:blipFill>
          <a:blip r:embed="rId5"/>
          <a:stretch/>
        </p:blipFill>
        <p:spPr>
          <a:xfrm flipH="1">
            <a:off x="-360" y="765000"/>
            <a:ext cx="2171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3419640" y="404640"/>
            <a:ext cx="4946400" cy="3694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"/>
          <p:cNvSpPr/>
          <p:nvPr/>
        </p:nvSpPr>
        <p:spPr>
          <a:xfrm>
            <a:off x="1187280" y="4437000"/>
            <a:ext cx="7129800" cy="23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СПЕНСКИЙ СОБ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 Владимире, памятник владимиро-суздальской школы. Построенный в 1158-1160 годах, он послужил образцом при строительстве более поздних соборов. Сооружен из белого тесаного камня по заказу владимирского князя Андрея Боголюб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успенский собор"/>
          <p:cNvPicPr/>
          <p:nvPr/>
        </p:nvPicPr>
        <p:blipFill>
          <a:blip r:embed="rId2"/>
          <a:stretch/>
        </p:blipFill>
        <p:spPr>
          <a:xfrm>
            <a:off x="5580000" y="620640"/>
            <a:ext cx="3170160" cy="3529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1042920" y="765000"/>
            <a:ext cx="331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опыта возведения Успенского собора во Владимире под руководством итальянского инженера и архитектора Аристотеля Фьораван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центре Кремля вырастает Успенский со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324000" y="3789360"/>
            <a:ext cx="5256000" cy="2521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684360" y="4076640"/>
            <a:ext cx="46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тал  главным храмом столицы; отличался богатством и изяществом внешней и внутренней отделки. Белокаменный храм с золотыми куполами был виден издалека и создавал впечатление торжественности и ве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3" descr="GRDCAP"/>
          <p:cNvPicPr/>
          <p:nvPr/>
        </p:nvPicPr>
        <p:blipFill>
          <a:blip r:embed="rId3"/>
          <a:stretch/>
        </p:blipFill>
        <p:spPr>
          <a:xfrm>
            <a:off x="6227640" y="4221000"/>
            <a:ext cx="2273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15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155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115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115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1191574727"/>
          <p:cNvPicPr/>
          <p:nvPr/>
        </p:nvPicPr>
        <p:blipFill>
          <a:blip r:embed="rId2"/>
          <a:stretch/>
        </p:blipFill>
        <p:spPr>
          <a:xfrm>
            <a:off x="5148360" y="476280"/>
            <a:ext cx="3600360" cy="5238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755640" y="692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венчались на царство русские цари и императоры, провозглашались важнейшие государственные ак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755640" y="1773360"/>
            <a:ext cx="33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дили постановления в сан митрополитов и патриархов. Здесь же располагались и гробницы этих патриархов. Кроме того, в Успенском соборе находилась православная Святыня всей Росси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она Владимирской Божьей Ма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Архангельский собор"/>
          <p:cNvPicPr/>
          <p:nvPr/>
        </p:nvPicPr>
        <p:blipFill>
          <a:blip r:embed="rId2"/>
          <a:stretch/>
        </p:blipFill>
        <p:spPr>
          <a:xfrm>
            <a:off x="539640" y="549360"/>
            <a:ext cx="2741760" cy="305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Благовещенский собор"/>
          <p:cNvPicPr/>
          <p:nvPr/>
        </p:nvPicPr>
        <p:blipFill>
          <a:blip r:embed="rId3"/>
          <a:stretch/>
        </p:blipFill>
        <p:spPr>
          <a:xfrm>
            <a:off x="5724360" y="3213000"/>
            <a:ext cx="297684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4284720" y="692280"/>
            <a:ext cx="424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далёку выросли другие замечательные каменные церкви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хангельский и Благовещенский со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908000" y="40464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411280" y="26028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ась перестройка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9640" y="4365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Кремлёвские башни не имели затейливых кремлёвских шатров, венчающих их в наше время, и поэтому крепость выглядела особенно суровой и мощной. Живописные зубцы, главное украшение стен, защищали верхний ярус боя. Красный цвет стены, удачно выбранные пропорции башен и их лаконичное архитектурное убранство прекрасно гармонировали с белыми соборами Кремля. По красоте и неприступности Кремль вошел в число лучших европейских крепостей своей эпох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8"/>
          <p:cNvPicPr/>
          <p:nvPr/>
        </p:nvPicPr>
        <p:blipFill>
          <a:blip r:embed="rId2"/>
          <a:stretch/>
        </p:blipFill>
        <p:spPr>
          <a:xfrm>
            <a:off x="2124000" y="765000"/>
            <a:ext cx="5472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1280" y="476280"/>
            <a:ext cx="8137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образной чертой русского зодчества стало появл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атрового стил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осквой, в селе Коломенском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вели шатровый храм Вознесения (153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ысоком берегу Москвы – ре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Церковь Вознесения"/>
          <p:cNvPicPr/>
          <p:nvPr/>
        </p:nvPicPr>
        <p:blipFill>
          <a:blip r:embed="rId2"/>
          <a:stretch/>
        </p:blipFill>
        <p:spPr>
          <a:xfrm>
            <a:off x="4572000" y="1700280"/>
            <a:ext cx="4078440" cy="45370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0" y="2205000"/>
            <a:ext cx="4390920" cy="410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84360" y="2997360"/>
            <a:ext cx="3095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нём современники сказали: «Весьма чудна высотою и светлостью, такова не была прежде сего на Руси».  Устремлённость вверх этого 60 – метрового чуда символизировала вечный порыв человека к Б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GRDCAP"/>
          <p:cNvPicPr/>
          <p:nvPr/>
        </p:nvPicPr>
        <p:blipFill>
          <a:blip r:embed="rId3"/>
          <a:stretch/>
        </p:blipFill>
        <p:spPr>
          <a:xfrm>
            <a:off x="2411280" y="1413000"/>
            <a:ext cx="227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15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1155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115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115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2:08:31Z</dcterms:created>
  <dc:creator>Игорь</dc:creator>
  <dc:description/>
  <dc:language>en-US</dc:language>
  <cp:lastModifiedBy>Admin</cp:lastModifiedBy>
  <dcterms:modified xsi:type="dcterms:W3CDTF">2012-02-18T12:03:06Z</dcterms:modified>
  <cp:revision>8</cp:revision>
  <dc:subject/>
  <dc:title>Слайд 1</dc:title>
</cp:coreProperties>
</file>