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78D9-86A3-4FA8-A86F-42FBD011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6A1C-E259-4AA3-A412-72E76348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03D8-6810-40D3-93DF-030FA708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592A-3300-4B1D-A8DB-BCB1AC51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B0E8-E652-4BB6-9347-416394E2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1533-1A19-444C-9B79-71D020D8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CF2E-24BC-4BA5-A5BC-36320696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D98F-F85C-46A0-BEE1-5C2B1190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81E9-7E06-48D9-83B7-8943F43A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F964-16CA-4EBD-8B32-5F75A341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521F-9030-4CF3-A3F3-FEF170D3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17C9D-DBC2-4E7E-947C-96080652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3B49-147D-49F8-AEBC-FCC0FAF4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BE3C-0D82-4EB4-86E2-F45036A0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1B64-838D-4677-A5F3-D0BE368B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D123-A49D-4B54-A6CB-9CB8B863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1184-E18D-4F11-ACFF-8CDC4106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8E0B0-F019-4797-B34A-CF4A4CD9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6FFD-FC2A-4645-A3FE-E0B717D1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91666-5278-4D2C-A208-911AD7F8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64A7A-AF8C-4252-84AD-B192E0C4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EC022-A268-4579-BCA0-ABBDCF74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B6E86-7B06-40CB-ADAC-BDF85DE7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5A2DA-5EC8-4559-9AFB-32EF184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4796-9FA8-4322-A4D4-9C32012167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45AD-B091-42C7-8AA5-77A3AA3321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Знакомство с причастием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4292640"/>
            <a:ext cx="6019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рок №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62308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Об авт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изнаки глагола и прилага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836640"/>
          <a:ext cx="8229600" cy="5675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изнаки глаго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изнаки прилагатель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время (настоящее и прошедшее)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вид (совершенный и несовершенный)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возвратность-невозвратность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 при себе иметь зависимое имя существительное или наречие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что делающий? Что сделавший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ет те же окончания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яются по родам, числам и падеж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уется с именем существительным в роде, числе и падеже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? Какая? Какие? и т.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нонимичные констру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22320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4000320"/>
            <a:ext cx="4038480" cy="1866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80000" y="1980720"/>
            <a:ext cx="490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яч, который лети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тящий м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ач, который лечи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ащий вр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971640" y="4005360"/>
            <a:ext cx="1558800" cy="244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749920" y="2581200"/>
            <a:ext cx="393840" cy="98640"/>
          </a:xfrm>
          <a:custGeom>
            <a:avLst/>
            <a:gdLst/>
            <a:ahLst/>
            <a:rect l="l" t="t" r="r" b="b"/>
            <a:pathLst>
              <a:path w="1093" h="273">
                <a:moveTo>
                  <a:pt x="15974" y="7441"/>
                </a:moveTo>
                <a:cubicBezTo>
                  <a:pt x="15999" y="7441"/>
                  <a:pt x="16024" y="7441"/>
                  <a:pt x="16049" y="7441"/>
                </a:cubicBezTo>
                <a:cubicBezTo>
                  <a:pt x="16065" y="7378"/>
                  <a:pt x="16095" y="7403"/>
                  <a:pt x="16148" y="7367"/>
                </a:cubicBezTo>
                <a:cubicBezTo>
                  <a:pt x="16184" y="7343"/>
                  <a:pt x="16206" y="7306"/>
                  <a:pt x="16247" y="7293"/>
                </a:cubicBezTo>
                <a:cubicBezTo>
                  <a:pt x="16283" y="7281"/>
                  <a:pt x="16311" y="7255"/>
                  <a:pt x="16346" y="7243"/>
                </a:cubicBezTo>
                <a:cubicBezTo>
                  <a:pt x="16388" y="7229"/>
                  <a:pt x="16425" y="7231"/>
                  <a:pt x="16470" y="7218"/>
                </a:cubicBezTo>
                <a:cubicBezTo>
                  <a:pt x="16520" y="7193"/>
                  <a:pt x="16536" y="7185"/>
                  <a:pt x="16570" y="7169"/>
                </a:cubicBezTo>
              </a:path>
              <a:path w="1093" h="273">
                <a:moveTo>
                  <a:pt x="17066" y="7441"/>
                </a:moveTo>
                <a:cubicBezTo>
                  <a:pt x="17028" y="7414"/>
                  <a:pt x="17014" y="7417"/>
                  <a:pt x="16966" y="7417"/>
                </a:cubicBezTo>
                <a:cubicBezTo>
                  <a:pt x="16949" y="7363"/>
                  <a:pt x="16935" y="7416"/>
                  <a:pt x="16892" y="7392"/>
                </a:cubicBezTo>
                <a:cubicBezTo>
                  <a:pt x="16861" y="7375"/>
                  <a:pt x="16849" y="7337"/>
                  <a:pt x="16818" y="7317"/>
                </a:cubicBezTo>
                <a:cubicBezTo>
                  <a:pt x="16763" y="7281"/>
                  <a:pt x="16781" y="7241"/>
                  <a:pt x="16718" y="7218"/>
                </a:cubicBezTo>
                <a:cubicBezTo>
                  <a:pt x="16683" y="7218"/>
                  <a:pt x="16666" y="7213"/>
                  <a:pt x="16644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97360" y="4626000"/>
            <a:ext cx="411480" cy="125280"/>
          </a:xfrm>
          <a:custGeom>
            <a:avLst/>
            <a:gdLst/>
            <a:ahLst/>
            <a:rect l="l" t="t" r="r" b="b"/>
            <a:pathLst>
              <a:path w="1142" h="348">
                <a:moveTo>
                  <a:pt x="15825" y="13196"/>
                </a:moveTo>
                <a:cubicBezTo>
                  <a:pt x="15864" y="13167"/>
                  <a:pt x="15923" y="13137"/>
                  <a:pt x="15974" y="13122"/>
                </a:cubicBezTo>
                <a:cubicBezTo>
                  <a:pt x="16023" y="13107"/>
                  <a:pt x="16072" y="13088"/>
                  <a:pt x="16123" y="13072"/>
                </a:cubicBezTo>
                <a:cubicBezTo>
                  <a:pt x="16179" y="13055"/>
                  <a:pt x="16240" y="13035"/>
                  <a:pt x="16297" y="13022"/>
                </a:cubicBezTo>
                <a:cubicBezTo>
                  <a:pt x="16346" y="13011"/>
                  <a:pt x="16375" y="12963"/>
                  <a:pt x="16421" y="12948"/>
                </a:cubicBezTo>
                <a:cubicBezTo>
                  <a:pt x="16459" y="12935"/>
                  <a:pt x="16550" y="12941"/>
                  <a:pt x="16570" y="12973"/>
                </a:cubicBezTo>
                <a:cubicBezTo>
                  <a:pt x="16592" y="13008"/>
                  <a:pt x="16590" y="13041"/>
                  <a:pt x="16644" y="13047"/>
                </a:cubicBezTo>
                <a:cubicBezTo>
                  <a:pt x="16691" y="13052"/>
                  <a:pt x="16703" y="13059"/>
                  <a:pt x="16743" y="13072"/>
                </a:cubicBezTo>
                <a:cubicBezTo>
                  <a:pt x="16784" y="13086"/>
                  <a:pt x="16822" y="13087"/>
                  <a:pt x="16842" y="13097"/>
                </a:cubicBezTo>
                <a:cubicBezTo>
                  <a:pt x="16861" y="13107"/>
                  <a:pt x="16922" y="13115"/>
                  <a:pt x="16942" y="13122"/>
                </a:cubicBezTo>
                <a:cubicBezTo>
                  <a:pt x="16950" y="13122"/>
                  <a:pt x="16958" y="13122"/>
                  <a:pt x="16966" y="13122"/>
                </a:cubicBezTo>
                <a:cubicBezTo>
                  <a:pt x="16958" y="13120"/>
                  <a:pt x="16869" y="13100"/>
                  <a:pt x="16867" y="13097"/>
                </a:cubicBezTo>
                <a:cubicBezTo>
                  <a:pt x="16846" y="13071"/>
                  <a:pt x="16827" y="13070"/>
                  <a:pt x="16793" y="13047"/>
                </a:cubicBezTo>
                <a:cubicBezTo>
                  <a:pt x="16755" y="13022"/>
                  <a:pt x="16727" y="13016"/>
                  <a:pt x="16694" y="12998"/>
                </a:cubicBezTo>
                <a:cubicBezTo>
                  <a:pt x="16646" y="12971"/>
                  <a:pt x="16654" y="12948"/>
                  <a:pt x="16594" y="12948"/>
                </a:cubicBezTo>
                <a:cubicBezTo>
                  <a:pt x="16551" y="12948"/>
                  <a:pt x="16555" y="12949"/>
                  <a:pt x="16520" y="12923"/>
                </a:cubicBezTo>
                <a:cubicBezTo>
                  <a:pt x="16567" y="12923"/>
                  <a:pt x="16630" y="12929"/>
                  <a:pt x="16669" y="12948"/>
                </a:cubicBezTo>
                <a:cubicBezTo>
                  <a:pt x="16704" y="12965"/>
                  <a:pt x="16726" y="13036"/>
                  <a:pt x="16743" y="13047"/>
                </a:cubicBezTo>
                <a:cubicBezTo>
                  <a:pt x="16783" y="13074"/>
                  <a:pt x="16889" y="13049"/>
                  <a:pt x="16942" y="13072"/>
                </a:cubicBezTo>
                <a:cubicBezTo>
                  <a:pt x="17006" y="13072"/>
                  <a:pt x="16903" y="13072"/>
                  <a:pt x="16892" y="13072"/>
                </a:cubicBezTo>
                <a:cubicBezTo>
                  <a:pt x="16829" y="13072"/>
                  <a:pt x="16784" y="13022"/>
                  <a:pt x="16718" y="13022"/>
                </a:cubicBezTo>
                <a:cubicBezTo>
                  <a:pt x="16701" y="13022"/>
                  <a:pt x="16582" y="12962"/>
                  <a:pt x="16570" y="12948"/>
                </a:cubicBezTo>
                <a:cubicBezTo>
                  <a:pt x="16550" y="12924"/>
                  <a:pt x="16537" y="12867"/>
                  <a:pt x="16495" y="12849"/>
                </a:cubicBezTo>
                <a:cubicBezTo>
                  <a:pt x="16452" y="12830"/>
                  <a:pt x="16422" y="12873"/>
                  <a:pt x="16396" y="12898"/>
                </a:cubicBezTo>
                <a:cubicBezTo>
                  <a:pt x="16356" y="12937"/>
                  <a:pt x="16313" y="12962"/>
                  <a:pt x="16272" y="12998"/>
                </a:cubicBezTo>
                <a:cubicBezTo>
                  <a:pt x="16221" y="13043"/>
                  <a:pt x="16257" y="13025"/>
                  <a:pt x="16197" y="13047"/>
                </a:cubicBezTo>
                <a:cubicBezTo>
                  <a:pt x="16142" y="13067"/>
                  <a:pt x="16111" y="13115"/>
                  <a:pt x="16049" y="13146"/>
                </a:cubicBezTo>
                <a:cubicBezTo>
                  <a:pt x="15996" y="13172"/>
                  <a:pt x="15982" y="13196"/>
                  <a:pt x="15925" y="13196"/>
                </a:cubicBezTo>
                <a:cubicBezTo>
                  <a:pt x="15917" y="13196"/>
                  <a:pt x="15908" y="13196"/>
                  <a:pt x="15900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нонимичные констру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16360" y="1980720"/>
            <a:ext cx="5976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ор, который рассказывает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казывающий професс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вушка, которая играе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ающая дев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2376360" cy="2031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2290680" cy="244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438880" y="2963880"/>
            <a:ext cx="473040" cy="144360"/>
          </a:xfrm>
          <a:custGeom>
            <a:avLst/>
            <a:gdLst/>
            <a:ahLst/>
            <a:rect l="l" t="t" r="r" b="b"/>
            <a:pathLst>
              <a:path w="1316" h="398">
                <a:moveTo>
                  <a:pt x="15106" y="8632"/>
                </a:moveTo>
                <a:cubicBezTo>
                  <a:pt x="15139" y="8599"/>
                  <a:pt x="15183" y="8555"/>
                  <a:pt x="15205" y="8533"/>
                </a:cubicBezTo>
                <a:cubicBezTo>
                  <a:pt x="15240" y="8515"/>
                  <a:pt x="15272" y="8512"/>
                  <a:pt x="15304" y="8483"/>
                </a:cubicBezTo>
                <a:cubicBezTo>
                  <a:pt x="15349" y="8442"/>
                  <a:pt x="15355" y="8451"/>
                  <a:pt x="15404" y="8434"/>
                </a:cubicBezTo>
                <a:cubicBezTo>
                  <a:pt x="15443" y="8420"/>
                  <a:pt x="15520" y="8382"/>
                  <a:pt x="15553" y="8359"/>
                </a:cubicBezTo>
                <a:cubicBezTo>
                  <a:pt x="15593" y="8331"/>
                  <a:pt x="15581" y="8341"/>
                  <a:pt x="15627" y="8334"/>
                </a:cubicBezTo>
                <a:cubicBezTo>
                  <a:pt x="15640" y="8327"/>
                  <a:pt x="15674" y="8323"/>
                  <a:pt x="15701" y="8310"/>
                </a:cubicBezTo>
                <a:cubicBezTo>
                  <a:pt x="15735" y="8293"/>
                  <a:pt x="15770" y="8276"/>
                  <a:pt x="15801" y="8260"/>
                </a:cubicBezTo>
                <a:cubicBezTo>
                  <a:pt x="15844" y="8238"/>
                  <a:pt x="15849" y="8239"/>
                  <a:pt x="15900" y="8235"/>
                </a:cubicBezTo>
                <a:cubicBezTo>
                  <a:pt x="15908" y="8235"/>
                  <a:pt x="15917" y="8235"/>
                  <a:pt x="15925" y="8235"/>
                </a:cubicBezTo>
                <a:cubicBezTo>
                  <a:pt x="15954" y="8287"/>
                  <a:pt x="15962" y="8301"/>
                  <a:pt x="16024" y="8334"/>
                </a:cubicBezTo>
                <a:cubicBezTo>
                  <a:pt x="16059" y="8353"/>
                  <a:pt x="16104" y="8375"/>
                  <a:pt x="16148" y="8384"/>
                </a:cubicBezTo>
                <a:cubicBezTo>
                  <a:pt x="16185" y="8391"/>
                  <a:pt x="16216" y="8390"/>
                  <a:pt x="16247" y="8409"/>
                </a:cubicBezTo>
                <a:cubicBezTo>
                  <a:pt x="16286" y="8433"/>
                  <a:pt x="16343" y="8422"/>
                  <a:pt x="16371" y="8458"/>
                </a:cubicBezTo>
                <a:cubicBezTo>
                  <a:pt x="16388" y="8480"/>
                  <a:pt x="16407" y="8533"/>
                  <a:pt x="16421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54760" y="5037120"/>
            <a:ext cx="490320" cy="106560"/>
          </a:xfrm>
          <a:custGeom>
            <a:avLst/>
            <a:gdLst/>
            <a:ahLst/>
            <a:rect l="l" t="t" r="r" b="b"/>
            <a:pathLst>
              <a:path w="1366" h="299">
                <a:moveTo>
                  <a:pt x="14039" y="14288"/>
                </a:moveTo>
                <a:cubicBezTo>
                  <a:pt x="14090" y="14288"/>
                  <a:pt x="14098" y="14287"/>
                  <a:pt x="14139" y="14263"/>
                </a:cubicBezTo>
                <a:cubicBezTo>
                  <a:pt x="14170" y="14245"/>
                  <a:pt x="14204" y="14250"/>
                  <a:pt x="14238" y="14238"/>
                </a:cubicBezTo>
                <a:cubicBezTo>
                  <a:pt x="14283" y="14222"/>
                  <a:pt x="14319" y="14193"/>
                  <a:pt x="14362" y="14188"/>
                </a:cubicBezTo>
                <a:cubicBezTo>
                  <a:pt x="14381" y="14186"/>
                  <a:pt x="14444" y="14173"/>
                  <a:pt x="14461" y="14163"/>
                </a:cubicBezTo>
                <a:cubicBezTo>
                  <a:pt x="14500" y="14140"/>
                  <a:pt x="14550" y="14138"/>
                  <a:pt x="14585" y="14114"/>
                </a:cubicBezTo>
                <a:cubicBezTo>
                  <a:pt x="14620" y="14090"/>
                  <a:pt x="14646" y="14063"/>
                  <a:pt x="14684" y="14039"/>
                </a:cubicBezTo>
                <a:cubicBezTo>
                  <a:pt x="14735" y="14007"/>
                  <a:pt x="14784" y="13987"/>
                  <a:pt x="14833" y="14015"/>
                </a:cubicBezTo>
                <a:cubicBezTo>
                  <a:pt x="14872" y="14037"/>
                  <a:pt x="14894" y="14023"/>
                  <a:pt x="14932" y="14039"/>
                </a:cubicBezTo>
                <a:cubicBezTo>
                  <a:pt x="14974" y="14057"/>
                  <a:pt x="15011" y="14078"/>
                  <a:pt x="15056" y="14089"/>
                </a:cubicBezTo>
                <a:cubicBezTo>
                  <a:pt x="15099" y="14100"/>
                  <a:pt x="15123" y="14129"/>
                  <a:pt x="15156" y="14163"/>
                </a:cubicBezTo>
                <a:cubicBezTo>
                  <a:pt x="15181" y="14189"/>
                  <a:pt x="15220" y="14209"/>
                  <a:pt x="15255" y="14213"/>
                </a:cubicBezTo>
                <a:cubicBezTo>
                  <a:pt x="15309" y="14219"/>
                  <a:pt x="15288" y="14258"/>
                  <a:pt x="15329" y="14263"/>
                </a:cubicBezTo>
                <a:cubicBezTo>
                  <a:pt x="15362" y="14263"/>
                  <a:pt x="15379" y="14263"/>
                  <a:pt x="15404" y="14263"/>
                </a:cubicBezTo>
                <a:cubicBezTo>
                  <a:pt x="15386" y="14250"/>
                  <a:pt x="15311" y="14223"/>
                  <a:pt x="15304" y="14213"/>
                </a:cubicBezTo>
                <a:cubicBezTo>
                  <a:pt x="15291" y="14193"/>
                  <a:pt x="15266" y="14175"/>
                  <a:pt x="15230" y="14163"/>
                </a:cubicBezTo>
                <a:cubicBezTo>
                  <a:pt x="15200" y="14153"/>
                  <a:pt x="15160" y="14142"/>
                  <a:pt x="15131" y="14139"/>
                </a:cubicBezTo>
                <a:cubicBezTo>
                  <a:pt x="15092" y="14135"/>
                  <a:pt x="15075" y="14118"/>
                  <a:pt x="15032" y="14114"/>
                </a:cubicBezTo>
                <a:cubicBezTo>
                  <a:pt x="14977" y="14109"/>
                  <a:pt x="14954" y="14104"/>
                  <a:pt x="14908" y="14089"/>
                </a:cubicBezTo>
                <a:cubicBezTo>
                  <a:pt x="14864" y="14074"/>
                  <a:pt x="14851" y="14089"/>
                  <a:pt x="14808" y="14064"/>
                </a:cubicBezTo>
                <a:cubicBezTo>
                  <a:pt x="14778" y="14047"/>
                  <a:pt x="14747" y="14039"/>
                  <a:pt x="14709" y="14039"/>
                </a:cubicBezTo>
                <a:cubicBezTo>
                  <a:pt x="14701" y="14039"/>
                  <a:pt x="14692" y="14039"/>
                  <a:pt x="14684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лаем 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частие – это особая форма глагола (самостоятельная часть речи), которая обозначает признак предмета по его действию и отвечает на вопросы какой? какая? какие? какое? что делающий? что делавший?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1040" y="2303640"/>
            <a:ext cx="2151000" cy="36360"/>
          </a:xfrm>
          <a:custGeom>
            <a:avLst/>
            <a:gdLst/>
            <a:ahLst/>
            <a:rect l="l" t="t" r="r" b="b"/>
            <a:pathLst>
              <a:path w="5979" h="100">
                <a:moveTo>
                  <a:pt x="1637" y="6424"/>
                </a:moveTo>
                <a:cubicBezTo>
                  <a:pt x="2293" y="6424"/>
                  <a:pt x="3026" y="6338"/>
                  <a:pt x="3671" y="6449"/>
                </a:cubicBezTo>
                <a:cubicBezTo>
                  <a:pt x="3762" y="6465"/>
                  <a:pt x="3852" y="6460"/>
                  <a:pt x="3944" y="6474"/>
                </a:cubicBezTo>
                <a:cubicBezTo>
                  <a:pt x="4047" y="6489"/>
                  <a:pt x="4135" y="6499"/>
                  <a:pt x="4242" y="6499"/>
                </a:cubicBezTo>
                <a:cubicBezTo>
                  <a:pt x="5350" y="6499"/>
                  <a:pt x="6457" y="6499"/>
                  <a:pt x="7565" y="6499"/>
                </a:cubicBezTo>
                <a:cubicBezTo>
                  <a:pt x="7562" y="6491"/>
                  <a:pt x="7592" y="6420"/>
                  <a:pt x="7541" y="6400"/>
                </a:cubicBezTo>
                <a:cubicBezTo>
                  <a:pt x="6093" y="5825"/>
                  <a:pt x="3185" y="6400"/>
                  <a:pt x="1612" y="6400"/>
                </a:cubicBezTo>
                <a:cubicBezTo>
                  <a:pt x="1642" y="6426"/>
                  <a:pt x="1600" y="6453"/>
                  <a:pt x="1662" y="6474"/>
                </a:cubicBezTo>
                <a:cubicBezTo>
                  <a:pt x="2483" y="6757"/>
                  <a:pt x="3910" y="6474"/>
                  <a:pt x="4787" y="647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63800" y="22953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457" y="6375"/>
                </a:moveTo>
                <a:lnTo>
                  <a:pt x="5457" y="6375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Запомни суффиксы причасти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ущ- (-ющ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ащ- (-ящ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ем- (-ом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им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вш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ш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енн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нн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т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124-125 прочитайте теоретический материал и выполните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т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яемое (главное) сл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2421000"/>
            <a:ext cx="3384360" cy="863640"/>
          </a:xfrm>
          <a:custGeom>
            <a:avLst/>
            <a:gdLst>
              <a:gd name="textAreaLeft" fmla="*/ 592200 w 3384360"/>
              <a:gd name="textAreaRight" fmla="*/ 2453760 w 338436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64720" y="4005360"/>
            <a:ext cx="205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Глав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определяемо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4384800" cy="3289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гом л_жит св_ркающий на солнце снег. Дремлют пос_р_бренные д_ревья. Прижались к земле зап_рошённые ин_ем кусты. Т_шина в уснувшем л_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59040" y="4456080"/>
            <a:ext cx="527040" cy="866880"/>
          </a:xfrm>
          <a:custGeom>
            <a:avLst/>
            <a:gdLst/>
            <a:ahLst/>
            <a:rect l="l" t="t" r="r" b="b"/>
            <a:pathLst>
              <a:path w="1464" h="2407">
                <a:moveTo>
                  <a:pt x="8359" y="12378"/>
                </a:moveTo>
                <a:cubicBezTo>
                  <a:pt x="8516" y="12378"/>
                  <a:pt x="8673" y="12378"/>
                  <a:pt x="8830" y="12378"/>
                </a:cubicBezTo>
              </a:path>
              <a:path w="1464" h="2407">
                <a:moveTo>
                  <a:pt x="8706" y="13568"/>
                </a:moveTo>
                <a:cubicBezTo>
                  <a:pt x="8855" y="13568"/>
                  <a:pt x="9252" y="13568"/>
                  <a:pt x="9103" y="13568"/>
                </a:cubicBezTo>
                <a:cubicBezTo>
                  <a:pt x="8987" y="13568"/>
                  <a:pt x="8748" y="13524"/>
                  <a:pt x="8657" y="13593"/>
                </a:cubicBezTo>
              </a:path>
              <a:path w="1464" h="2407">
                <a:moveTo>
                  <a:pt x="7665" y="14784"/>
                </a:moveTo>
                <a:cubicBezTo>
                  <a:pt x="7822" y="14784"/>
                  <a:pt x="7979" y="14784"/>
                  <a:pt x="8136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59160" y="4456080"/>
            <a:ext cx="189000" cy="9720"/>
          </a:xfrm>
          <a:custGeom>
            <a:avLst/>
            <a:gdLst/>
            <a:ahLst/>
            <a:rect l="l" t="t" r="r" b="b"/>
            <a:pathLst>
              <a:path w="522" h="25">
                <a:moveTo>
                  <a:pt x="11881" y="12378"/>
                </a:moveTo>
                <a:cubicBezTo>
                  <a:pt x="12038" y="12378"/>
                  <a:pt x="12196" y="12378"/>
                  <a:pt x="12353" y="12378"/>
                </a:cubicBezTo>
                <a:cubicBezTo>
                  <a:pt x="12315" y="12405"/>
                  <a:pt x="12301" y="12402"/>
                  <a:pt x="12254" y="12402"/>
                </a:cubicBezTo>
                <a:cubicBezTo>
                  <a:pt x="12113" y="12402"/>
                  <a:pt x="11973" y="12402"/>
                  <a:pt x="11832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9040" y="4894200"/>
            <a:ext cx="465120" cy="857160"/>
          </a:xfrm>
          <a:custGeom>
            <a:avLst/>
            <a:gdLst/>
            <a:ahLst/>
            <a:rect l="l" t="t" r="r" b="b"/>
            <a:pathLst>
              <a:path w="1291" h="2382">
                <a:moveTo>
                  <a:pt x="14759" y="13593"/>
                </a:moveTo>
                <a:cubicBezTo>
                  <a:pt x="14933" y="13593"/>
                  <a:pt x="15106" y="13593"/>
                  <a:pt x="15280" y="13593"/>
                </a:cubicBezTo>
              </a:path>
              <a:path w="1291" h="2382">
                <a:moveTo>
                  <a:pt x="14163" y="14784"/>
                </a:moveTo>
                <a:cubicBezTo>
                  <a:pt x="14259" y="14784"/>
                  <a:pt x="14376" y="14779"/>
                  <a:pt x="14436" y="14808"/>
                </a:cubicBezTo>
                <a:cubicBezTo>
                  <a:pt x="14479" y="14829"/>
                  <a:pt x="14586" y="14808"/>
                  <a:pt x="14635" y="14808"/>
                </a:cubicBezTo>
                <a:cubicBezTo>
                  <a:pt x="14619" y="14808"/>
                  <a:pt x="14499" y="14808"/>
                  <a:pt x="14560" y="14808"/>
                </a:cubicBezTo>
                <a:cubicBezTo>
                  <a:pt x="14585" y="14808"/>
                  <a:pt x="14593" y="14808"/>
                  <a:pt x="14610" y="14808"/>
                </a:cubicBezTo>
              </a:path>
              <a:path w="1291" h="2382">
                <a:moveTo>
                  <a:pt x="14957" y="15974"/>
                </a:moveTo>
                <a:cubicBezTo>
                  <a:pt x="15130" y="15974"/>
                  <a:pt x="15602" y="15974"/>
                  <a:pt x="15429" y="15974"/>
                </a:cubicBezTo>
                <a:cubicBezTo>
                  <a:pt x="15280" y="15974"/>
                  <a:pt x="15131" y="15974"/>
                  <a:pt x="14982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0200" y="5295960"/>
            <a:ext cx="177840" cy="17280"/>
          </a:xfrm>
          <a:custGeom>
            <a:avLst/>
            <a:gdLst/>
            <a:ahLst/>
            <a:rect l="l" t="t" r="r" b="b"/>
            <a:pathLst>
              <a:path w="497" h="51">
                <a:moveTo>
                  <a:pt x="19943" y="14759"/>
                </a:moveTo>
                <a:cubicBezTo>
                  <a:pt x="19981" y="14730"/>
                  <a:pt x="19994" y="14734"/>
                  <a:pt x="20042" y="14734"/>
                </a:cubicBezTo>
                <a:cubicBezTo>
                  <a:pt x="20094" y="14734"/>
                  <a:pt x="20095" y="14720"/>
                  <a:pt x="20117" y="14709"/>
                </a:cubicBezTo>
                <a:cubicBezTo>
                  <a:pt x="20178" y="14677"/>
                  <a:pt x="20343" y="14709"/>
                  <a:pt x="20414" y="14709"/>
                </a:cubicBezTo>
                <a:cubicBezTo>
                  <a:pt x="20481" y="14709"/>
                  <a:pt x="20377" y="14709"/>
                  <a:pt x="20365" y="14709"/>
                </a:cubicBezTo>
                <a:cubicBezTo>
                  <a:pt x="20224" y="14709"/>
                  <a:pt x="20084" y="14709"/>
                  <a:pt x="19943" y="14709"/>
                </a:cubicBezTo>
                <a:cubicBezTo>
                  <a:pt x="19956" y="14747"/>
                  <a:pt x="19972" y="14734"/>
                  <a:pt x="20017" y="14734"/>
                </a:cubicBezTo>
                <a:cubicBezTo>
                  <a:pt x="20149" y="14734"/>
                  <a:pt x="20282" y="14734"/>
                  <a:pt x="20414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6948360" y="6021360"/>
            <a:ext cx="1224000" cy="682560"/>
          </a:xfrm>
          <a:custGeom>
            <a:avLst/>
            <a:gdLst>
              <a:gd name="textAreaLeft" fmla="*/ 43920 w 1224000"/>
              <a:gd name="textAreaRight" fmla="*/ 1180080 w 122400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38725" h="21600">
                <a:moveTo>
                  <a:pt x="0" y="0"/>
                </a:moveTo>
                <a:lnTo>
                  <a:pt x="38725" y="0"/>
                </a:lnTo>
                <a:lnTo>
                  <a:pt x="38725" y="21600"/>
                </a:lnTo>
                <a:lnTo>
                  <a:pt x="0" y="21600"/>
                </a:lnTo>
                <a:close/>
              </a:path>
              <a:path fill="lightenLess" w="38725" h="21600">
                <a:moveTo>
                  <a:pt x="0" y="0"/>
                </a:moveTo>
                <a:lnTo>
                  <a:pt x="38725" y="0"/>
                </a:lnTo>
                <a:lnTo>
                  <a:pt x="37325" y="1400"/>
                </a:lnTo>
                <a:lnTo>
                  <a:pt x="1400" y="1400"/>
                </a:lnTo>
                <a:close/>
              </a:path>
              <a:path fill="darken" w="38725" h="21600">
                <a:moveTo>
                  <a:pt x="38725" y="0"/>
                </a:moveTo>
                <a:lnTo>
                  <a:pt x="38725" y="21600"/>
                </a:lnTo>
                <a:lnTo>
                  <a:pt x="37325" y="20200"/>
                </a:lnTo>
                <a:lnTo>
                  <a:pt x="37325" y="1400"/>
                </a:lnTo>
                <a:close/>
              </a:path>
              <a:path fill="darkenLess" w="38725" h="21600">
                <a:moveTo>
                  <a:pt x="38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25" y="20200"/>
                </a:lnTo>
                <a:close/>
              </a:path>
              <a:path fill="lighten" w="38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итайте выразительно текст. Проведите его текстоведческий анализ (определите тему, основную мысль, тип и стиль речи, средства связи предложений в текст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те в предложениях причастия и определяемые слова, выпишите эти словосоче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пишите текст, вставляя пропущенные бу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7164360" y="5805360"/>
            <a:ext cx="754200" cy="682920"/>
          </a:xfrm>
          <a:custGeom>
            <a:avLst/>
            <a:gdLst>
              <a:gd name="textAreaLeft" fmla="*/ 44280 w 754200"/>
              <a:gd name="textAreaRight" fmla="*/ 709920 w 75420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23853" h="21600">
                <a:moveTo>
                  <a:pt x="0" y="0"/>
                </a:moveTo>
                <a:lnTo>
                  <a:pt x="23853" y="0"/>
                </a:lnTo>
                <a:lnTo>
                  <a:pt x="23853" y="21600"/>
                </a:lnTo>
                <a:lnTo>
                  <a:pt x="0" y="21600"/>
                </a:lnTo>
                <a:close/>
              </a:path>
              <a:path fill="lightenLess" w="23853" h="21600">
                <a:moveTo>
                  <a:pt x="0" y="0"/>
                </a:moveTo>
                <a:lnTo>
                  <a:pt x="23853" y="0"/>
                </a:lnTo>
                <a:lnTo>
                  <a:pt x="22453" y="1400"/>
                </a:lnTo>
                <a:lnTo>
                  <a:pt x="1400" y="1400"/>
                </a:lnTo>
                <a:close/>
              </a:path>
              <a:path fill="darken" w="23853" h="21600">
                <a:moveTo>
                  <a:pt x="23853" y="0"/>
                </a:moveTo>
                <a:lnTo>
                  <a:pt x="23853" y="21600"/>
                </a:lnTo>
                <a:lnTo>
                  <a:pt x="22453" y="20200"/>
                </a:lnTo>
                <a:lnTo>
                  <a:pt x="22453" y="1400"/>
                </a:lnTo>
                <a:close/>
              </a:path>
              <a:path fill="darkenLess" w="23853" h="21600">
                <a:moveTo>
                  <a:pt x="23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3" y="20200"/>
                </a:lnTo>
                <a:close/>
              </a:path>
              <a:path fill="lighten" w="23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3" h="21600">
                <a:moveTo>
                  <a:pt x="4920" y="10800"/>
                </a:moveTo>
                <a:lnTo>
                  <a:pt x="18933" y="3794"/>
                </a:lnTo>
                <a:lnTo>
                  <a:pt x="1893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101080" y="5805360"/>
            <a:ext cx="792000" cy="682920"/>
          </a:xfrm>
          <a:custGeom>
            <a:avLst/>
            <a:gdLst>
              <a:gd name="textAreaLeft" fmla="*/ 44280 w 792000"/>
              <a:gd name="textAreaRight" fmla="*/ 747720 w 79200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25048" h="21600">
                <a:moveTo>
                  <a:pt x="0" y="0"/>
                </a:moveTo>
                <a:lnTo>
                  <a:pt x="25048" y="0"/>
                </a:lnTo>
                <a:lnTo>
                  <a:pt x="25048" y="21600"/>
                </a:lnTo>
                <a:lnTo>
                  <a:pt x="0" y="21600"/>
                </a:lnTo>
                <a:close/>
              </a:path>
              <a:path fill="lightenLess" w="25048" h="21600">
                <a:moveTo>
                  <a:pt x="0" y="0"/>
                </a:moveTo>
                <a:lnTo>
                  <a:pt x="25048" y="0"/>
                </a:lnTo>
                <a:lnTo>
                  <a:pt x="23648" y="1400"/>
                </a:lnTo>
                <a:lnTo>
                  <a:pt x="1400" y="1400"/>
                </a:lnTo>
                <a:close/>
              </a:path>
              <a:path fill="darken" w="25048" h="21600">
                <a:moveTo>
                  <a:pt x="25048" y="0"/>
                </a:moveTo>
                <a:lnTo>
                  <a:pt x="25048" y="21600"/>
                </a:lnTo>
                <a:lnTo>
                  <a:pt x="23648" y="20200"/>
                </a:lnTo>
                <a:lnTo>
                  <a:pt x="23648" y="1400"/>
                </a:lnTo>
                <a:close/>
              </a:path>
              <a:path fill="darkenLess" w="25048" h="21600">
                <a:moveTo>
                  <a:pt x="25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48" y="20200"/>
                </a:lnTo>
                <a:close/>
              </a:path>
              <a:path fill="lighten" w="25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48" h="21600">
                <a:moveTo>
                  <a:pt x="5518" y="3794"/>
                </a:moveTo>
                <a:lnTo>
                  <a:pt x="19531" y="10800"/>
                </a:lnTo>
                <a:lnTo>
                  <a:pt x="551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астие – это………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астие отвечает на вопросы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астие образуется с помощью суффиксов……………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астие совмещает в себе признаки следующих частей речи:…………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берите к существительным определения из списка слов для спра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с               Снег                  На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а для справок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_яющий, пуш_стый, задумч_вый, м_рцающий, белый, радос_ный, зак_лдованный, оч_рованный, грус_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Верите ли вы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Задача  – определить, верное или ложное суждение содержится в высказывании, и объяснить свою точку з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рите ли вы, что причастия своим «внешним видом» похожи на прилагатель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рите ли вы, что причастия не связаны с глаго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рите ли вы, что причастия не могут быть настоящего и прошедшего време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Верите ли вы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91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ите ли вы, что причастия образуются от глаголов с помощью специальных суффик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Верите ли вы, что причастия имеют суффикс -онн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 Верите ли вы, что причастия склоняю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У Парабельская гимн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я созд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хайличенко М.С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ем русского языка и литературы первой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817236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овите среди записанных определений эпитеты. Ответ обоснуй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 слова обозначают постоянный признак какого-то предмета или явления? Какой частью речи они выраже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какие слова указывают на признак, связанный с действием предмета, развивающимся во времен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6877080" y="6021360"/>
            <a:ext cx="1474920" cy="611280"/>
          </a:xfrm>
          <a:custGeom>
            <a:avLst/>
            <a:gdLst>
              <a:gd name="textAreaLeft" fmla="*/ 39600 w 1474920"/>
              <a:gd name="textAreaRight" fmla="*/ 1435320 w 1474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52099" h="21600">
                <a:moveTo>
                  <a:pt x="0" y="0"/>
                </a:moveTo>
                <a:lnTo>
                  <a:pt x="52099" y="0"/>
                </a:lnTo>
                <a:lnTo>
                  <a:pt x="52099" y="21600"/>
                </a:lnTo>
                <a:lnTo>
                  <a:pt x="0" y="21600"/>
                </a:lnTo>
                <a:close/>
              </a:path>
              <a:path fill="lightenLess" w="52099" h="21600">
                <a:moveTo>
                  <a:pt x="0" y="0"/>
                </a:moveTo>
                <a:lnTo>
                  <a:pt x="52099" y="0"/>
                </a:lnTo>
                <a:lnTo>
                  <a:pt x="50699" y="1400"/>
                </a:lnTo>
                <a:lnTo>
                  <a:pt x="1400" y="1400"/>
                </a:lnTo>
                <a:close/>
              </a:path>
              <a:path fill="darken" w="52099" h="21600">
                <a:moveTo>
                  <a:pt x="52099" y="0"/>
                </a:moveTo>
                <a:lnTo>
                  <a:pt x="52099" y="21600"/>
                </a:lnTo>
                <a:lnTo>
                  <a:pt x="50699" y="20200"/>
                </a:lnTo>
                <a:lnTo>
                  <a:pt x="50699" y="1400"/>
                </a:lnTo>
                <a:close/>
              </a:path>
              <a:path fill="darkenLess" w="52099" h="21600">
                <a:moveTo>
                  <a:pt x="52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99" y="20200"/>
                </a:lnTo>
                <a:close/>
              </a:path>
              <a:path fill="lighten" w="52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кой признак обозначают прилагательные, то ест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пределения-прилагательные обозначают постоянный признак какого-то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кой признак обозначают слова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особой части речи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.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Times New Roman"/>
                <a:hlinkClick r:id="rId3" action="ppaction://hlinksldjump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айдите слова, которые указывают на признак, связанный с действием предмета, развивающимся во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2781360"/>
            <a:ext cx="82915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вежий ветер, бодрящий воздух, заколдованный лес, веселые крики, великолепный день, морозное утро, игристый снег, запорошённые снегом, приглушённые звуки, прозрачные кружева, мертвая тишина, заснеженные кусты, пушистый ковер, спящий лес, глубокие сугроб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«Часть речи, </a:t>
            </a:r>
            <a:r>
              <a:rPr b="0" lang="en-US" sz="54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причастная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 к глаголу, в образе прилагательного»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72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В.И.Дал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21440" cy="5481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rot="18675600">
            <a:off x="827640" y="2329920"/>
            <a:ext cx="18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973000">
            <a:off x="5606640" y="224424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лаг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91640" y="28926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3440" y="530064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9440" y="494028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60200" y="507996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б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666 -0.1459 C -0.22447 -0.14474 -0.19062 -0.14428 -0.15086 -0.13942 C -0.13767 -0.13364 -0.14409 -0.1378 -0.13176 -0.12694 C -0.12812 -0.1237 -0.11909 -0.12254 -0.11909 -0.12254 C -0.11753 -0.12116 -0.11596 -0.11954 -0.11423 -0.11838 C -0.11267 -0.11746 -0.11093 -0.11746 -0.10954 -0.1163 C -0.09669 -0.10636 -0.08402 -0.09272 -0.06978 -0.0867 C -0.06388 -0.07445 -0.05173 -0.07191 -0.04287 -0.06335 C -0.04114 -0.06173 -0.04027 -0.05827 -0.03819 -0.05711 C -0.03419 -0.0548 -0.02534 -0.05295 -0.02534 -0.05295 C -0.01996 -0.04786 -0.01596 -0.04647 -0.00954 -0.04439 C -0.0085 -0.04231 -0.0078 -0.04 -0.00642 -0.03815 C -0.00503 -0.0363 -0.00277 -0.03584 -0.00155 -0.03376 C 0.00383 -0.02497 5.83333E-006 -0.01133 5.83333E-006 1.15607E-007 E">
                                      <p:cBhvr>
                                        <p:cTn id="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66 -0.23884 C 0.16858 -0.23838 0.14566 -0.23838 0.1349 -0.23468 C 0.1316 -0.23352 0.12847 -0.23167 0.12535 -0.23029 C 0.12032 -0.22798 0.10955 -0.22613 0.10955 -0.22613 C 0.10035 -0.20786 0.11285 -0.22983 0.10157 -0.2178 C 0.0915 -0.20693 0.10695 -0.2141 0.09202 -0.20925 C 0.08854 -0.20231 0.08611 -0.19907 0.08091 -0.19445 C 0.07761 -0.1852 0.07431 -0.18127 0.06979 -0.17341 C 0.06441 -0.16439 0.06268 -0.15422 0.05556 -0.14798 C 0.05278 -0.13665 0.05504 -0.14335 0.04757 -0.12902 C 0.04184 -0.11769 0.03785 -0.1052 0.03334 -0.09295 C 0.029 -0.06289 0.01702 -0.03861 0.00313 -0.0148 C -0.00017 -0.00139 8.33333E-007 -0.00647 8.33333E-007 -8.09249E-007 E">
                                      <p:cBhvr>
                                        <p:cTn id="9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492360" y="2997360"/>
            <a:ext cx="3024360" cy="609480"/>
          </a:xfrm>
          <a:prstGeom prst="wedgeEllipseCallout">
            <a:avLst>
              <a:gd name="adj1" fmla="val -48111"/>
              <a:gd name="adj2" fmla="val 7005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риант табли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здаём «психологический» портрет семь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умайте, какие «психологические» черты должны быть у маленького ребёнка Глагола и Прилагательн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формите свои размышления (наблюдения) в виде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таблицы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4653000"/>
          <a:ext cx="8229600" cy="1461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глаг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прилагательн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18854 0.08555 C -0.17986 0.08925 -0.18316 0.08579 -0.18212 0.10474 C -0.18177 0.11191 -0.18316 0.14914 -0.17743 0.16394 C -0.17205 0.17804 -0.13507 0.17619 -0.13142 0.17642 C -0.1158 0.18359 -0.12517 0.18128 -0.10278 0.17873 C -0.09514 0.17503 -0.08854 0.16879 -0.08055 0.16602 C -0.07482 0.16394 -0.06875 0.16324 -0.06302 0.16162 C -0.06041 0.15885 -0.04409 0.14313 -0.0408 0.13642 C -0.03871 0.13226 -0.03455 0.1237 -0.03455 0.1237 C -0.03316 0.11515 -0.03073 0.10683 -0.02969 0.09827 C -0.02812 0.08579 -0.02795 0.07607 -0.025 0.06451 C -0.0342 0.04555 -0.03576 0.05318 -0.05989 0.04972 C -0.0868 0.05041 -0.11389 0.05041 -0.1408 0.0518 C -0.14514 0.05203 -0.15364 0.05596 -0.15364 0.05596 E">
                                      <p:cBhvr>
                                        <p:cTn id="2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имологическая страни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91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Причастный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т.е.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имеющий отношение к чему-либо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Человек, причастный к журналистике. Он к этому делу не причасте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7885080" y="5805360"/>
            <a:ext cx="1042920" cy="76536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29430" h="21600">
                <a:moveTo>
                  <a:pt x="0" y="0"/>
                </a:moveTo>
                <a:lnTo>
                  <a:pt x="29430" y="0"/>
                </a:lnTo>
                <a:lnTo>
                  <a:pt x="29430" y="21600"/>
                </a:lnTo>
                <a:lnTo>
                  <a:pt x="0" y="21600"/>
                </a:lnTo>
                <a:close/>
              </a:path>
              <a:path fill="lightenLess" w="29430" h="21600">
                <a:moveTo>
                  <a:pt x="0" y="0"/>
                </a:moveTo>
                <a:lnTo>
                  <a:pt x="29430" y="0"/>
                </a:lnTo>
                <a:lnTo>
                  <a:pt x="28030" y="1400"/>
                </a:lnTo>
                <a:lnTo>
                  <a:pt x="1400" y="1400"/>
                </a:lnTo>
                <a:close/>
              </a:path>
              <a:path fill="darken" w="29430" h="21600">
                <a:moveTo>
                  <a:pt x="29430" y="0"/>
                </a:moveTo>
                <a:lnTo>
                  <a:pt x="29430" y="21600"/>
                </a:lnTo>
                <a:lnTo>
                  <a:pt x="28030" y="20200"/>
                </a:lnTo>
                <a:lnTo>
                  <a:pt x="28030" y="1400"/>
                </a:lnTo>
                <a:close/>
              </a:path>
              <a:path fill="darkenLess" w="29430" h="21600">
                <a:moveTo>
                  <a:pt x="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30" y="20200"/>
                </a:lnTo>
                <a:close/>
              </a:path>
              <a:path fill="lighten" w="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30" h="21600">
                <a:moveTo>
                  <a:pt x="11216" y="10800"/>
                </a:moveTo>
                <a:lnTo>
                  <a:pt x="21721" y="3794"/>
                </a:lnTo>
                <a:lnTo>
                  <a:pt x="21721" y="17806"/>
                </a:lnTo>
                <a:close/>
              </a:path>
              <a:path fill="darken" w="29430" h="21600">
                <a:moveTo>
                  <a:pt x="7708" y="3794"/>
                </a:moveTo>
                <a:lnTo>
                  <a:pt x="9371" y="3794"/>
                </a:lnTo>
                <a:lnTo>
                  <a:pt x="9371" y="17806"/>
                </a:lnTo>
                <a:lnTo>
                  <a:pt x="770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3:40:43Z</dcterms:created>
  <dc:creator>1</dc:creator>
  <dc:description/>
  <dc:language>en-US</dc:language>
  <cp:lastModifiedBy>Admin</cp:lastModifiedBy>
  <dcterms:modified xsi:type="dcterms:W3CDTF">2008-05-20T05:07:42Z</dcterms:modified>
  <cp:revision>12</cp:revision>
  <dc:subject/>
  <dc:title>Причастие </dc:title>
</cp:coreProperties>
</file>