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3CE7-1E08-4EA2-9023-67087A0F2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D738-9A91-4899-92AC-469EE77E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6F0C-72FE-41AE-98CA-281D2BDFE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2853-A467-4DA7-BC07-5676F89F0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692E-493A-4DD8-B2CA-BA5E94A5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76D8-4066-4E40-A561-9C9BEE6C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62F6-F4C8-40A3-9AD7-7D2AD77C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5187-D1DD-4655-B83A-78EC501D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B8B3-8BAD-4398-8A7F-4A3997DD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A846-E594-4691-B19D-76E1E65A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A016-33AC-482C-A6C1-ACD6A0E2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F0F2-C1DD-4847-8CCF-7F7F1444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87D2-C3B3-43CB-A178-F12FC0F53D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13.png"/><Relationship Id="rId19" Type="http://schemas.openxmlformats.org/officeDocument/2006/relationships/image" Target="../media/image14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15.png"/><Relationship Id="rId23" Type="http://schemas.openxmlformats.org/officeDocument/2006/relationships/image" Target="../media/image16.png"/><Relationship Id="rId24" Type="http://schemas.openxmlformats.org/officeDocument/2006/relationships/image" Target="../media/image17.png"/><Relationship Id="rId25" Type="http://schemas.openxmlformats.org/officeDocument/2006/relationships/image" Target="../media/image18.png"/><Relationship Id="rId26" Type="http://schemas.openxmlformats.org/officeDocument/2006/relationships/image" Target="../media/image19.png"/><Relationship Id="rId27" Type="http://schemas.openxmlformats.org/officeDocument/2006/relationships/image" Target="../media/image20.png"/><Relationship Id="rId28" Type="http://schemas.openxmlformats.org/officeDocument/2006/relationships/image" Target="../media/image21.png"/><Relationship Id="rId29" Type="http://schemas.openxmlformats.org/officeDocument/2006/relationships/image" Target="../media/image22.png"/><Relationship Id="rId30" Type="http://schemas.openxmlformats.org/officeDocument/2006/relationships/image" Target="../media/image23.png"/><Relationship Id="rId31" Type="http://schemas.openxmlformats.org/officeDocument/2006/relationships/image" Target="../media/image24.png"/><Relationship Id="rId32" Type="http://schemas.openxmlformats.org/officeDocument/2006/relationships/image" Target="../media/image25.png"/><Relationship Id="rId33" Type="http://schemas.openxmlformats.org/officeDocument/2006/relationships/image" Target="../media/image26.png"/><Relationship Id="rId34" Type="http://schemas.openxmlformats.org/officeDocument/2006/relationships/image" Target="../media/image27.png"/><Relationship Id="rId35" Type="http://schemas.openxmlformats.org/officeDocument/2006/relationships/image" Target="../media/image28.png"/><Relationship Id="rId36" Type="http://schemas.openxmlformats.org/officeDocument/2006/relationships/image" Target="../media/image29.png"/><Relationship Id="rId37" Type="http://schemas.openxmlformats.org/officeDocument/2006/relationships/image" Target="../media/image30.png"/><Relationship Id="rId38" Type="http://schemas.openxmlformats.org/officeDocument/2006/relationships/image" Target="../media/image31.png"/><Relationship Id="rId39" Type="http://schemas.openxmlformats.org/officeDocument/2006/relationships/image" Target="../media/image32.png"/><Relationship Id="rId40" Type="http://schemas.openxmlformats.org/officeDocument/2006/relationships/image" Target="../media/image33.png"/><Relationship Id="rId41" Type="http://schemas.openxmlformats.org/officeDocument/2006/relationships/image" Target="../media/image34.png"/><Relationship Id="rId42" Type="http://schemas.openxmlformats.org/officeDocument/2006/relationships/image" Target="../media/image35.png"/><Relationship Id="rId43" Type="http://schemas.openxmlformats.org/officeDocument/2006/relationships/image" Target="../media/image36.png"/><Relationship Id="rId44" Type="http://schemas.openxmlformats.org/officeDocument/2006/relationships/image" Target="../media/image37.png"/><Relationship Id="rId45" Type="http://schemas.openxmlformats.org/officeDocument/2006/relationships/image" Target="../media/image38.png"/><Relationship Id="rId46" Type="http://schemas.openxmlformats.org/officeDocument/2006/relationships/image" Target="../media/image39.png"/><Relationship Id="rId47" Type="http://schemas.openxmlformats.org/officeDocument/2006/relationships/image" Target="../media/image40.png"/><Relationship Id="rId48" Type="http://schemas.openxmlformats.org/officeDocument/2006/relationships/image" Target="../media/image41.png"/><Relationship Id="rId49" Type="http://schemas.openxmlformats.org/officeDocument/2006/relationships/image" Target="../media/image42.png"/><Relationship Id="rId50" Type="http://schemas.openxmlformats.org/officeDocument/2006/relationships/image" Target="../media/image43.png"/><Relationship Id="rId5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ая соединительная линия 50" descr=""/>
          <p:cNvPicPr/>
          <p:nvPr/>
        </p:nvPicPr>
        <p:blipFill>
          <a:blip r:embed="rId2"/>
          <a:stretch/>
        </p:blipFill>
        <p:spPr>
          <a:xfrm>
            <a:off x="2004840" y="1152360"/>
            <a:ext cx="5170680" cy="59076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ая соединительная линия 22" descr=""/>
          <p:cNvPicPr/>
          <p:nvPr/>
        </p:nvPicPr>
        <p:blipFill>
          <a:blip r:embed="rId3"/>
          <a:stretch/>
        </p:blipFill>
        <p:spPr>
          <a:xfrm>
            <a:off x="2004840" y="2011320"/>
            <a:ext cx="5170680" cy="59220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ая соединительная линия 29" descr=""/>
          <p:cNvPicPr/>
          <p:nvPr/>
        </p:nvPicPr>
        <p:blipFill>
          <a:blip r:embed="rId4"/>
          <a:stretch/>
        </p:blipFill>
        <p:spPr>
          <a:xfrm>
            <a:off x="3206880" y="1023840"/>
            <a:ext cx="583920" cy="434016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ая соединительная линия 24" descr=""/>
          <p:cNvPicPr/>
          <p:nvPr/>
        </p:nvPicPr>
        <p:blipFill>
          <a:blip r:embed="rId5"/>
          <a:stretch/>
        </p:blipFill>
        <p:spPr>
          <a:xfrm>
            <a:off x="2004840" y="3724200"/>
            <a:ext cx="5170680" cy="59220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ая соединительная линия 30" descr=""/>
          <p:cNvPicPr/>
          <p:nvPr/>
        </p:nvPicPr>
        <p:blipFill>
          <a:blip r:embed="rId6"/>
          <a:stretch/>
        </p:blipFill>
        <p:spPr>
          <a:xfrm>
            <a:off x="4280040" y="1023840"/>
            <a:ext cx="583920" cy="434016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ая соединительная линия 31" descr=""/>
          <p:cNvPicPr/>
          <p:nvPr/>
        </p:nvPicPr>
        <p:blipFill>
          <a:blip r:embed="rId7"/>
          <a:stretch/>
        </p:blipFill>
        <p:spPr>
          <a:xfrm>
            <a:off x="5353200" y="1023840"/>
            <a:ext cx="583920" cy="434016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ая соединительная линия 23" descr=""/>
          <p:cNvPicPr/>
          <p:nvPr/>
        </p:nvPicPr>
        <p:blipFill>
          <a:blip r:embed="rId8"/>
          <a:stretch/>
        </p:blipFill>
        <p:spPr>
          <a:xfrm>
            <a:off x="2004840" y="2865600"/>
            <a:ext cx="5170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8" name="Шестиугольник 176"/>
          <p:cNvGrpSpPr/>
          <p:nvPr/>
        </p:nvGrpSpPr>
        <p:grpSpPr>
          <a:xfrm>
            <a:off x="5784840" y="3206880"/>
            <a:ext cx="798480" cy="706320"/>
            <a:chOff x="5784840" y="3206880"/>
            <a:chExt cx="798480" cy="706320"/>
          </a:xfrm>
        </p:grpSpPr>
        <p:pic>
          <p:nvPicPr>
            <p:cNvPr id="49" name="Шестиугольник 176" descr=""/>
            <p:cNvPicPr/>
            <p:nvPr/>
          </p:nvPicPr>
          <p:blipFill>
            <a:blip r:embed="rId9"/>
            <a:stretch/>
          </p:blipFill>
          <p:spPr>
            <a:xfrm>
              <a:off x="5784840" y="3206880"/>
              <a:ext cx="79848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 rot="3541800">
              <a:off x="5941080" y="3350520"/>
              <a:ext cx="49356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Шестиугольник 175"/>
          <p:cNvGrpSpPr/>
          <p:nvPr/>
        </p:nvGrpSpPr>
        <p:grpSpPr>
          <a:xfrm>
            <a:off x="4767120" y="2352600"/>
            <a:ext cx="798480" cy="701640"/>
            <a:chOff x="4767120" y="2352600"/>
            <a:chExt cx="798480" cy="701640"/>
          </a:xfrm>
        </p:grpSpPr>
        <p:pic>
          <p:nvPicPr>
            <p:cNvPr id="52" name="Шестиугольник 175" descr=""/>
            <p:cNvPicPr/>
            <p:nvPr/>
          </p:nvPicPr>
          <p:blipFill>
            <a:blip r:embed="rId10"/>
            <a:stretch/>
          </p:blipFill>
          <p:spPr>
            <a:xfrm>
              <a:off x="4767120" y="2352600"/>
              <a:ext cx="7984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 rot="3541800">
              <a:off x="4924440" y="2493000"/>
              <a:ext cx="49392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Шестиугольник 174"/>
          <p:cNvGrpSpPr/>
          <p:nvPr/>
        </p:nvGrpSpPr>
        <p:grpSpPr>
          <a:xfrm>
            <a:off x="3638520" y="2352600"/>
            <a:ext cx="800280" cy="701640"/>
            <a:chOff x="3638520" y="2352600"/>
            <a:chExt cx="800280" cy="701640"/>
          </a:xfrm>
        </p:grpSpPr>
        <p:pic>
          <p:nvPicPr>
            <p:cNvPr id="55" name="Шестиугольник 174" descr=""/>
            <p:cNvPicPr/>
            <p:nvPr/>
          </p:nvPicPr>
          <p:blipFill>
            <a:blip r:embed="rId11"/>
            <a:stretch/>
          </p:blipFill>
          <p:spPr>
            <a:xfrm>
              <a:off x="3638520" y="2352600"/>
              <a:ext cx="8002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3541800">
              <a:off x="3797280" y="2493000"/>
              <a:ext cx="49392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Шестиугольник 169"/>
          <p:cNvGrpSpPr/>
          <p:nvPr/>
        </p:nvGrpSpPr>
        <p:grpSpPr>
          <a:xfrm>
            <a:off x="5784840" y="2352600"/>
            <a:ext cx="798480" cy="701640"/>
            <a:chOff x="5784840" y="2352600"/>
            <a:chExt cx="798480" cy="701640"/>
          </a:xfrm>
        </p:grpSpPr>
        <p:pic>
          <p:nvPicPr>
            <p:cNvPr id="58" name="Шестиугольник 169" descr=""/>
            <p:cNvPicPr/>
            <p:nvPr/>
          </p:nvPicPr>
          <p:blipFill>
            <a:blip r:embed="rId12"/>
            <a:stretch/>
          </p:blipFill>
          <p:spPr>
            <a:xfrm>
              <a:off x="5784840" y="2352600"/>
              <a:ext cx="7984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 rot="3541800">
              <a:off x="5940720" y="2493000"/>
              <a:ext cx="49392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Шестиугольник 170"/>
          <p:cNvGrpSpPr/>
          <p:nvPr/>
        </p:nvGrpSpPr>
        <p:grpSpPr>
          <a:xfrm>
            <a:off x="4784760" y="3206880"/>
            <a:ext cx="798480" cy="706320"/>
            <a:chOff x="4784760" y="3206880"/>
            <a:chExt cx="798480" cy="706320"/>
          </a:xfrm>
        </p:grpSpPr>
        <p:pic>
          <p:nvPicPr>
            <p:cNvPr id="61" name="Шестиугольник 170" descr=""/>
            <p:cNvPicPr/>
            <p:nvPr/>
          </p:nvPicPr>
          <p:blipFill>
            <a:blip r:embed="rId13"/>
            <a:stretch/>
          </p:blipFill>
          <p:spPr>
            <a:xfrm>
              <a:off x="4784760" y="3206880"/>
              <a:ext cx="79848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 rot="3541800">
              <a:off x="4940640" y="3350520"/>
              <a:ext cx="49356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Шестиугольник 171"/>
          <p:cNvGrpSpPr/>
          <p:nvPr/>
        </p:nvGrpSpPr>
        <p:grpSpPr>
          <a:xfrm>
            <a:off x="3638520" y="3206880"/>
            <a:ext cx="800280" cy="706320"/>
            <a:chOff x="3638520" y="3206880"/>
            <a:chExt cx="800280" cy="706320"/>
          </a:xfrm>
        </p:grpSpPr>
        <p:pic>
          <p:nvPicPr>
            <p:cNvPr id="64" name="Шестиугольник 171" descr=""/>
            <p:cNvPicPr/>
            <p:nvPr/>
          </p:nvPicPr>
          <p:blipFill>
            <a:blip r:embed="rId14"/>
            <a:stretch/>
          </p:blipFill>
          <p:spPr>
            <a:xfrm>
              <a:off x="3638520" y="3206880"/>
              <a:ext cx="80028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 rot="3541800">
              <a:off x="3797640" y="3350520"/>
              <a:ext cx="49356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Шестиугольник 172"/>
          <p:cNvGrpSpPr/>
          <p:nvPr/>
        </p:nvGrpSpPr>
        <p:grpSpPr>
          <a:xfrm>
            <a:off x="5784840" y="4065480"/>
            <a:ext cx="798480" cy="701640"/>
            <a:chOff x="5784840" y="4065480"/>
            <a:chExt cx="798480" cy="701640"/>
          </a:xfrm>
        </p:grpSpPr>
        <p:pic>
          <p:nvPicPr>
            <p:cNvPr id="67" name="Шестиугольник 172" descr=""/>
            <p:cNvPicPr/>
            <p:nvPr/>
          </p:nvPicPr>
          <p:blipFill>
            <a:blip r:embed="rId15"/>
            <a:stretch/>
          </p:blipFill>
          <p:spPr>
            <a:xfrm>
              <a:off x="5784840" y="4065480"/>
              <a:ext cx="7984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 rot="3541800">
              <a:off x="5941080" y="4207680"/>
              <a:ext cx="49356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Шестиугольник 173"/>
          <p:cNvGrpSpPr/>
          <p:nvPr/>
        </p:nvGrpSpPr>
        <p:grpSpPr>
          <a:xfrm>
            <a:off x="4784760" y="4065480"/>
            <a:ext cx="798480" cy="701640"/>
            <a:chOff x="4784760" y="4065480"/>
            <a:chExt cx="798480" cy="701640"/>
          </a:xfrm>
        </p:grpSpPr>
        <p:pic>
          <p:nvPicPr>
            <p:cNvPr id="70" name="Шестиугольник 173" descr=""/>
            <p:cNvPicPr/>
            <p:nvPr/>
          </p:nvPicPr>
          <p:blipFill>
            <a:blip r:embed="rId16"/>
            <a:stretch/>
          </p:blipFill>
          <p:spPr>
            <a:xfrm>
              <a:off x="4784760" y="4065480"/>
              <a:ext cx="7984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 rot="3541800">
              <a:off x="4940640" y="4207680"/>
              <a:ext cx="49356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Шестиугольник 86"/>
          <p:cNvGrpSpPr/>
          <p:nvPr/>
        </p:nvGrpSpPr>
        <p:grpSpPr>
          <a:xfrm>
            <a:off x="5681520" y="1395360"/>
            <a:ext cx="932040" cy="860400"/>
            <a:chOff x="5681520" y="1395360"/>
            <a:chExt cx="932040" cy="860400"/>
          </a:xfrm>
        </p:grpSpPr>
        <p:pic>
          <p:nvPicPr>
            <p:cNvPr id="73" name="Шестиугольник 86" descr=""/>
            <p:cNvPicPr/>
            <p:nvPr/>
          </p:nvPicPr>
          <p:blipFill>
            <a:blip r:embed="rId17"/>
            <a:stretch/>
          </p:blipFill>
          <p:spPr>
            <a:xfrm>
              <a:off x="5681520" y="1395360"/>
              <a:ext cx="93204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 rot="5400000">
              <a:off x="5941800" y="1595160"/>
              <a:ext cx="47628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Шестиугольник 85"/>
          <p:cNvGrpSpPr/>
          <p:nvPr/>
        </p:nvGrpSpPr>
        <p:grpSpPr>
          <a:xfrm>
            <a:off x="3541680" y="1395360"/>
            <a:ext cx="933480" cy="860400"/>
            <a:chOff x="3541680" y="1395360"/>
            <a:chExt cx="933480" cy="860400"/>
          </a:xfrm>
        </p:grpSpPr>
        <p:pic>
          <p:nvPicPr>
            <p:cNvPr id="76" name="Шестиугольник 85" descr=""/>
            <p:cNvPicPr/>
            <p:nvPr/>
          </p:nvPicPr>
          <p:blipFill>
            <a:blip r:embed="rId18"/>
            <a:stretch/>
          </p:blipFill>
          <p:spPr>
            <a:xfrm>
              <a:off x="3541680" y="1395360"/>
              <a:ext cx="93348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 rot="5400000">
              <a:off x="3796920" y="1595520"/>
              <a:ext cx="47628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Шестиугольник 5"/>
          <p:cNvGrpSpPr/>
          <p:nvPr/>
        </p:nvGrpSpPr>
        <p:grpSpPr>
          <a:xfrm>
            <a:off x="2468520" y="2255760"/>
            <a:ext cx="860400" cy="858960"/>
            <a:chOff x="2468520" y="2255760"/>
            <a:chExt cx="860400" cy="858960"/>
          </a:xfrm>
        </p:grpSpPr>
        <p:pic>
          <p:nvPicPr>
            <p:cNvPr id="79" name="Шестиугольник 5" descr=""/>
            <p:cNvPicPr/>
            <p:nvPr/>
          </p:nvPicPr>
          <p:blipFill>
            <a:blip r:embed="rId19"/>
            <a:stretch/>
          </p:blipFill>
          <p:spPr>
            <a:xfrm>
              <a:off x="2468520" y="2255760"/>
              <a:ext cx="86040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 rot="5400000">
              <a:off x="2690280" y="2476440"/>
              <a:ext cx="4762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" name="Прямая соединительная линия 26" descr=""/>
          <p:cNvPicPr/>
          <p:nvPr/>
        </p:nvPicPr>
        <p:blipFill>
          <a:blip r:embed="rId20"/>
          <a:stretch/>
        </p:blipFill>
        <p:spPr>
          <a:xfrm>
            <a:off x="2139840" y="1030320"/>
            <a:ext cx="584280" cy="434016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ая соединительная линия 33" descr=""/>
          <p:cNvPicPr/>
          <p:nvPr/>
        </p:nvPicPr>
        <p:blipFill>
          <a:blip r:embed="rId21"/>
          <a:stretch/>
        </p:blipFill>
        <p:spPr>
          <a:xfrm>
            <a:off x="6424560" y="1023840"/>
            <a:ext cx="585720" cy="4340160"/>
          </a:xfrm>
          <a:prstGeom prst="rect">
            <a:avLst/>
          </a:prstGeom>
          <a:ln w="0">
            <a:noFill/>
          </a:ln>
        </p:spPr>
      </p:pic>
      <p:grpSp>
        <p:nvGrpSpPr>
          <p:cNvPr id="83" name="Шестиугольник 66"/>
          <p:cNvGrpSpPr/>
          <p:nvPr/>
        </p:nvGrpSpPr>
        <p:grpSpPr>
          <a:xfrm>
            <a:off x="2468520" y="3108240"/>
            <a:ext cx="860400" cy="866880"/>
            <a:chOff x="2468520" y="3108240"/>
            <a:chExt cx="860400" cy="866880"/>
          </a:xfrm>
        </p:grpSpPr>
        <p:pic>
          <p:nvPicPr>
            <p:cNvPr id="84" name="Шестиугольник 66" descr=""/>
            <p:cNvPicPr/>
            <p:nvPr/>
          </p:nvPicPr>
          <p:blipFill>
            <a:blip r:embed="rId22"/>
            <a:stretch/>
          </p:blipFill>
          <p:spPr>
            <a:xfrm>
              <a:off x="2468520" y="3108240"/>
              <a:ext cx="86040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 rot="5400000">
              <a:off x="2690280" y="3333600"/>
              <a:ext cx="4762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Шестиугольник 67"/>
          <p:cNvGrpSpPr/>
          <p:nvPr/>
        </p:nvGrpSpPr>
        <p:grpSpPr>
          <a:xfrm>
            <a:off x="2468520" y="3968640"/>
            <a:ext cx="860400" cy="858960"/>
            <a:chOff x="2468520" y="3968640"/>
            <a:chExt cx="860400" cy="858960"/>
          </a:xfrm>
        </p:grpSpPr>
        <p:pic>
          <p:nvPicPr>
            <p:cNvPr id="87" name="Шестиугольник 67" descr=""/>
            <p:cNvPicPr/>
            <p:nvPr/>
          </p:nvPicPr>
          <p:blipFill>
            <a:blip r:embed="rId23"/>
            <a:stretch/>
          </p:blipFill>
          <p:spPr>
            <a:xfrm>
              <a:off x="2468520" y="3968640"/>
              <a:ext cx="86040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 rot="5400000">
              <a:off x="2690280" y="4191120"/>
              <a:ext cx="4762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Прямая соединительная линия 25" descr=""/>
          <p:cNvPicPr/>
          <p:nvPr/>
        </p:nvPicPr>
        <p:blipFill>
          <a:blip r:embed="rId24"/>
          <a:stretch/>
        </p:blipFill>
        <p:spPr>
          <a:xfrm>
            <a:off x="2004840" y="4584600"/>
            <a:ext cx="5207040" cy="590760"/>
          </a:xfrm>
          <a:prstGeom prst="rect">
            <a:avLst/>
          </a:prstGeom>
          <a:ln w="0">
            <a:noFill/>
          </a:ln>
        </p:spPr>
      </p:pic>
      <p:grpSp>
        <p:nvGrpSpPr>
          <p:cNvPr id="90" name="Шестиугольник 74"/>
          <p:cNvGrpSpPr/>
          <p:nvPr/>
        </p:nvGrpSpPr>
        <p:grpSpPr>
          <a:xfrm>
            <a:off x="4608360" y="1395360"/>
            <a:ext cx="933480" cy="860400"/>
            <a:chOff x="4608360" y="1395360"/>
            <a:chExt cx="933480" cy="860400"/>
          </a:xfrm>
        </p:grpSpPr>
        <p:pic>
          <p:nvPicPr>
            <p:cNvPr id="91" name="Шестиугольник 74" descr=""/>
            <p:cNvPicPr/>
            <p:nvPr/>
          </p:nvPicPr>
          <p:blipFill>
            <a:blip r:embed="rId25"/>
            <a:stretch/>
          </p:blipFill>
          <p:spPr>
            <a:xfrm>
              <a:off x="4608360" y="1395360"/>
              <a:ext cx="93348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 rot="5400000">
              <a:off x="4870080" y="1595520"/>
              <a:ext cx="47628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TextBox 77" descr=""/>
          <p:cNvPicPr/>
          <p:nvPr/>
        </p:nvPicPr>
        <p:blipFill>
          <a:blip r:embed="rId26"/>
          <a:stretch/>
        </p:blipFill>
        <p:spPr>
          <a:xfrm>
            <a:off x="3498840" y="1450800"/>
            <a:ext cx="969840" cy="725760"/>
          </a:xfrm>
          <a:prstGeom prst="rect">
            <a:avLst/>
          </a:prstGeom>
          <a:ln w="0">
            <a:noFill/>
          </a:ln>
        </p:spPr>
      </p:pic>
      <p:pic>
        <p:nvPicPr>
          <p:cNvPr id="94" name="TextBox 78" descr=""/>
          <p:cNvPicPr/>
          <p:nvPr/>
        </p:nvPicPr>
        <p:blipFill>
          <a:blip r:embed="rId27"/>
          <a:stretch/>
        </p:blipFill>
        <p:spPr>
          <a:xfrm>
            <a:off x="4498920" y="1450800"/>
            <a:ext cx="1133640" cy="72576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79" descr=""/>
          <p:cNvPicPr/>
          <p:nvPr/>
        </p:nvPicPr>
        <p:blipFill>
          <a:blip r:embed="rId28"/>
          <a:stretch/>
        </p:blipFill>
        <p:spPr>
          <a:xfrm>
            <a:off x="5645160" y="1450800"/>
            <a:ext cx="993600" cy="72576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81" descr=""/>
          <p:cNvPicPr/>
          <p:nvPr/>
        </p:nvPicPr>
        <p:blipFill>
          <a:blip r:embed="rId29"/>
          <a:stretch/>
        </p:blipFill>
        <p:spPr>
          <a:xfrm>
            <a:off x="2432160" y="2309760"/>
            <a:ext cx="969840" cy="72540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82" descr=""/>
          <p:cNvPicPr/>
          <p:nvPr/>
        </p:nvPicPr>
        <p:blipFill>
          <a:blip r:embed="rId30"/>
          <a:stretch/>
        </p:blipFill>
        <p:spPr>
          <a:xfrm>
            <a:off x="2498760" y="3164040"/>
            <a:ext cx="834840" cy="72540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83" descr=""/>
          <p:cNvPicPr/>
          <p:nvPr/>
        </p:nvPicPr>
        <p:blipFill>
          <a:blip r:embed="rId31"/>
          <a:stretch/>
        </p:blipFill>
        <p:spPr>
          <a:xfrm>
            <a:off x="2432160" y="4022640"/>
            <a:ext cx="907920" cy="725400"/>
          </a:xfrm>
          <a:prstGeom prst="rect">
            <a:avLst/>
          </a:prstGeom>
          <a:ln w="0">
            <a:noFill/>
          </a:ln>
        </p:spPr>
      </p:pic>
      <p:grpSp>
        <p:nvGrpSpPr>
          <p:cNvPr id="99" name="Шестиугольник 97"/>
          <p:cNvGrpSpPr/>
          <p:nvPr/>
        </p:nvGrpSpPr>
        <p:grpSpPr>
          <a:xfrm>
            <a:off x="3638520" y="4084560"/>
            <a:ext cx="800280" cy="700200"/>
            <a:chOff x="3638520" y="4084560"/>
            <a:chExt cx="800280" cy="700200"/>
          </a:xfrm>
        </p:grpSpPr>
        <p:pic>
          <p:nvPicPr>
            <p:cNvPr id="100" name="Шестиугольник 97" descr=""/>
            <p:cNvPicPr/>
            <p:nvPr/>
          </p:nvPicPr>
          <p:blipFill>
            <a:blip r:embed="rId32"/>
            <a:stretch/>
          </p:blipFill>
          <p:spPr>
            <a:xfrm>
              <a:off x="3638520" y="4084560"/>
              <a:ext cx="80028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 rot="3541800">
              <a:off x="3797640" y="4226760"/>
              <a:ext cx="49356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TextBox 105" descr=""/>
          <p:cNvPicPr/>
          <p:nvPr/>
        </p:nvPicPr>
        <p:blipFill>
          <a:blip r:embed="rId33"/>
          <a:stretch/>
        </p:blipFill>
        <p:spPr>
          <a:xfrm>
            <a:off x="3395520" y="2176560"/>
            <a:ext cx="1157400" cy="871560"/>
          </a:xfrm>
          <a:prstGeom prst="rect">
            <a:avLst/>
          </a:prstGeom>
          <a:ln w="0">
            <a:noFill/>
          </a:ln>
        </p:spPr>
      </p:pic>
      <p:pic>
        <p:nvPicPr>
          <p:cNvPr id="103" name="TextBox 106" descr=""/>
          <p:cNvPicPr/>
          <p:nvPr/>
        </p:nvPicPr>
        <p:blipFill>
          <a:blip r:embed="rId34"/>
          <a:stretch/>
        </p:blipFill>
        <p:spPr>
          <a:xfrm>
            <a:off x="4608360" y="2176560"/>
            <a:ext cx="1152720" cy="871560"/>
          </a:xfrm>
          <a:prstGeom prst="rect">
            <a:avLst/>
          </a:prstGeom>
          <a:ln w="0">
            <a:noFill/>
          </a:ln>
        </p:spPr>
      </p:pic>
      <p:pic>
        <p:nvPicPr>
          <p:cNvPr id="104" name="TextBox 109" descr=""/>
          <p:cNvPicPr/>
          <p:nvPr/>
        </p:nvPicPr>
        <p:blipFill>
          <a:blip r:embed="rId35"/>
          <a:stretch/>
        </p:blipFill>
        <p:spPr>
          <a:xfrm>
            <a:off x="3322800" y="3067200"/>
            <a:ext cx="1304640" cy="871560"/>
          </a:xfrm>
          <a:prstGeom prst="rect">
            <a:avLst/>
          </a:prstGeom>
          <a:ln w="0">
            <a:noFill/>
          </a:ln>
        </p:spPr>
      </p:pic>
      <p:pic>
        <p:nvPicPr>
          <p:cNvPr id="105" name="TextBox 113" descr=""/>
          <p:cNvPicPr/>
          <p:nvPr/>
        </p:nvPicPr>
        <p:blipFill>
          <a:blip r:embed="rId36"/>
          <a:stretch/>
        </p:blipFill>
        <p:spPr>
          <a:xfrm>
            <a:off x="3395520" y="3913200"/>
            <a:ext cx="1157400" cy="871560"/>
          </a:xfrm>
          <a:prstGeom prst="rect">
            <a:avLst/>
          </a:prstGeom>
          <a:ln w="0">
            <a:noFill/>
          </a:ln>
        </p:spPr>
      </p:pic>
      <p:pic>
        <p:nvPicPr>
          <p:cNvPr id="106" name="TextBox 114" descr=""/>
          <p:cNvPicPr/>
          <p:nvPr/>
        </p:nvPicPr>
        <p:blipFill>
          <a:blip r:embed="rId37"/>
          <a:stretch/>
        </p:blipFill>
        <p:spPr>
          <a:xfrm>
            <a:off x="4608360" y="3925800"/>
            <a:ext cx="1152720" cy="865440"/>
          </a:xfrm>
          <a:prstGeom prst="rect">
            <a:avLst/>
          </a:prstGeom>
          <a:ln w="0">
            <a:noFill/>
          </a:ln>
        </p:spPr>
      </p:pic>
      <p:pic>
        <p:nvPicPr>
          <p:cNvPr id="107" name="TextBox 115" descr=""/>
          <p:cNvPicPr/>
          <p:nvPr/>
        </p:nvPicPr>
        <p:blipFill>
          <a:blip r:embed="rId38"/>
          <a:stretch/>
        </p:blipFill>
        <p:spPr>
          <a:xfrm>
            <a:off x="5467320" y="3913200"/>
            <a:ext cx="1305000" cy="871560"/>
          </a:xfrm>
          <a:prstGeom prst="rect">
            <a:avLst/>
          </a:prstGeom>
          <a:ln w="0">
            <a:noFill/>
          </a:ln>
        </p:spPr>
      </p:pic>
      <p:pic>
        <p:nvPicPr>
          <p:cNvPr id="108" name="TextBox 107" descr=""/>
          <p:cNvPicPr/>
          <p:nvPr/>
        </p:nvPicPr>
        <p:blipFill>
          <a:blip r:embed="rId39"/>
          <a:stretch/>
        </p:blipFill>
        <p:spPr>
          <a:xfrm>
            <a:off x="5467320" y="2176560"/>
            <a:ext cx="1298520" cy="871560"/>
          </a:xfrm>
          <a:prstGeom prst="rect">
            <a:avLst/>
          </a:prstGeom>
          <a:ln w="0">
            <a:noFill/>
          </a:ln>
        </p:spPr>
      </p:pic>
      <p:pic>
        <p:nvPicPr>
          <p:cNvPr id="109" name="TextBox 111" descr=""/>
          <p:cNvPicPr/>
          <p:nvPr/>
        </p:nvPicPr>
        <p:blipFill>
          <a:blip r:embed="rId40"/>
          <a:stretch/>
        </p:blipFill>
        <p:spPr>
          <a:xfrm>
            <a:off x="5602320" y="3170160"/>
            <a:ext cx="1109520" cy="700200"/>
          </a:xfrm>
          <a:prstGeom prst="rect">
            <a:avLst/>
          </a:prstGeom>
          <a:ln w="0">
            <a:noFill/>
          </a:ln>
        </p:spPr>
      </p:pic>
      <p:pic>
        <p:nvPicPr>
          <p:cNvPr id="110" name="TextBox 110" descr=""/>
          <p:cNvPicPr/>
          <p:nvPr/>
        </p:nvPicPr>
        <p:blipFill>
          <a:blip r:embed="rId41"/>
          <a:stretch/>
        </p:blipFill>
        <p:spPr>
          <a:xfrm>
            <a:off x="4462560" y="3067200"/>
            <a:ext cx="1298520" cy="87156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59" descr="877 копия.jpg"/>
          <p:cNvPicPr/>
          <p:nvPr/>
        </p:nvPicPr>
        <p:blipFill>
          <a:blip r:embed="rId42"/>
          <a:stretch/>
        </p:blipFill>
        <p:spPr>
          <a:xfrm>
            <a:off x="1047600" y="835200"/>
            <a:ext cx="6761160" cy="54864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122" descr="111.jpg"/>
          <p:cNvPicPr/>
          <p:nvPr/>
        </p:nvPicPr>
        <p:blipFill>
          <a:blip r:embed="rId43"/>
          <a:stretch/>
        </p:blipFill>
        <p:spPr>
          <a:xfrm>
            <a:off x="2163600" y="920880"/>
            <a:ext cx="1775160" cy="1858680"/>
          </a:xfrm>
          <a:prstGeom prst="rect">
            <a:avLst/>
          </a:prstGeom>
          <a:ln w="0">
            <a:noFill/>
          </a:ln>
        </p:spPr>
      </p:pic>
      <p:pic>
        <p:nvPicPr>
          <p:cNvPr id="113" name="TextBox 60" descr=""/>
          <p:cNvPicPr/>
          <p:nvPr/>
        </p:nvPicPr>
        <p:blipFill>
          <a:blip r:embed="rId44"/>
          <a:stretch/>
        </p:blipFill>
        <p:spPr>
          <a:xfrm>
            <a:off x="1554120" y="291960"/>
            <a:ext cx="1585800" cy="1298880"/>
          </a:xfrm>
          <a:prstGeom prst="rect">
            <a:avLst/>
          </a:prstGeom>
          <a:ln w="0">
            <a:noFill/>
          </a:ln>
        </p:spPr>
      </p:pic>
      <p:pic>
        <p:nvPicPr>
          <p:cNvPr id="114" name="TextBox 61" descr=""/>
          <p:cNvPicPr/>
          <p:nvPr/>
        </p:nvPicPr>
        <p:blipFill>
          <a:blip r:embed="rId45"/>
          <a:stretch/>
        </p:blipFill>
        <p:spPr>
          <a:xfrm>
            <a:off x="2316240" y="176040"/>
            <a:ext cx="1433520" cy="1219320"/>
          </a:xfrm>
          <a:prstGeom prst="rect">
            <a:avLst/>
          </a:prstGeom>
          <a:ln w="0">
            <a:noFill/>
          </a:ln>
        </p:spPr>
      </p:pic>
      <p:pic>
        <p:nvPicPr>
          <p:cNvPr id="115" name="TextBox 62" descr=""/>
          <p:cNvPicPr/>
          <p:nvPr/>
        </p:nvPicPr>
        <p:blipFill>
          <a:blip r:embed="rId46"/>
          <a:stretch/>
        </p:blipFill>
        <p:spPr>
          <a:xfrm>
            <a:off x="3048120" y="92160"/>
            <a:ext cx="1365120" cy="1176120"/>
          </a:xfrm>
          <a:prstGeom prst="rect">
            <a:avLst/>
          </a:prstGeom>
          <a:ln w="0">
            <a:noFill/>
          </a:ln>
        </p:spPr>
      </p:pic>
      <p:pic>
        <p:nvPicPr>
          <p:cNvPr id="116" name="TextBox 63" descr=""/>
          <p:cNvPicPr/>
          <p:nvPr/>
        </p:nvPicPr>
        <p:blipFill>
          <a:blip r:embed="rId47"/>
          <a:stretch/>
        </p:blipFill>
        <p:spPr>
          <a:xfrm>
            <a:off x="3846600" y="109440"/>
            <a:ext cx="1305000" cy="1060560"/>
          </a:xfrm>
          <a:prstGeom prst="rect">
            <a:avLst/>
          </a:prstGeom>
          <a:ln w="0">
            <a:noFill/>
          </a:ln>
        </p:spPr>
      </p:pic>
      <p:pic>
        <p:nvPicPr>
          <p:cNvPr id="117" name="TextBox 64" descr=""/>
          <p:cNvPicPr/>
          <p:nvPr/>
        </p:nvPicPr>
        <p:blipFill>
          <a:blip r:embed="rId48"/>
          <a:stretch/>
        </p:blipFill>
        <p:spPr>
          <a:xfrm>
            <a:off x="4505400" y="85680"/>
            <a:ext cx="1365120" cy="1146240"/>
          </a:xfrm>
          <a:prstGeom prst="rect">
            <a:avLst/>
          </a:prstGeom>
          <a:ln w="0">
            <a:noFill/>
          </a:ln>
        </p:spPr>
      </p:pic>
      <p:pic>
        <p:nvPicPr>
          <p:cNvPr id="118" name="TextBox 65" descr=""/>
          <p:cNvPicPr/>
          <p:nvPr/>
        </p:nvPicPr>
        <p:blipFill>
          <a:blip r:embed="rId49"/>
          <a:stretch/>
        </p:blipFill>
        <p:spPr>
          <a:xfrm>
            <a:off x="5211720" y="158760"/>
            <a:ext cx="1433520" cy="1236600"/>
          </a:xfrm>
          <a:prstGeom prst="rect">
            <a:avLst/>
          </a:prstGeom>
          <a:ln w="0">
            <a:noFill/>
          </a:ln>
        </p:spPr>
      </p:pic>
      <p:pic>
        <p:nvPicPr>
          <p:cNvPr id="119" name="TextBox 68" descr=""/>
          <p:cNvPicPr/>
          <p:nvPr/>
        </p:nvPicPr>
        <p:blipFill>
          <a:blip r:embed="rId50"/>
          <a:stretch/>
        </p:blipFill>
        <p:spPr>
          <a:xfrm>
            <a:off x="5888160" y="311040"/>
            <a:ext cx="159840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6.63891E-007 C 0.00625 -0.01318 0.02917 -0.02614 0.03715 -0.02614 C 0.0875 -0.02614 0.13941 0.1802 0.13941 0.38723 C 0.13941 0.28291 0.16528 0.1802 0.18993 0.1802 C 0.2158 0.1802 0.24045 0.28453 0.24045 0.38723 C 0.24045 0.33565 0.2533 0.28291 0.26614 0.28291 C 0.27917 0.28291 0.29219 0.33426 0.29219 0.38723 C 0.29219 0.36063 0.29861 0.33565 0.30521 0.33565 C 0.31163 0.33565 0.31823 0.36225 0.31823 0.38723 C 0.31823 0.37382 0.32153 0.36063 0.32465 0.36063 C 0.32621 0.36063 0.33125 0.37382 0.33125 0.38723 C 0.33125 0.38029 0.33281 0.37382 0.33455 0.37382 C 0.33455 0.37567 0.33785 0.38029 0.33785 0.38723 C 0.33785 0.38376 0.33785 0.38029 0.33958 0.38029 C 0.33958 0.38214 0.34132 0.38353 0.34132 0.38723 C 0.34132 0.38515 0.34132 0.38376 0.34132 0.38214 C 0.34288 0.38214 0.34288 0.38376 0.34288 0.38515 C 0.34462 0.38515 0.34462 0.38353 0.34462 0.38214 C 0.34653 0.38214 0.34653 0.38376 0.34653 0.38515 E">
                                      <p:cBhvr>
                                        <p:cTn id="11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653 0.38515 C 0.36371 0.39579 0.38316 0.40643 0.39166 0.41985 C 0.40035 0.43442 0.40486 0.45177 0.40903 0.46912 C 0.41354 0.48647 0.40903 0.50104 0.40486 0.517 C 0.40035 0.53181 0.39392 0.54777 0.37864 0.56095 C 0.36597 0.57437 0.34427 0.58501 0.32066 0.59311 C 0.29896 0.60097 0.27309 0.60629 0.24722 0.60907 C 0.22153 0.61161 0.19566 0.61161 0.1717 0.60907 C 0.14583 0.60629 0.12222 0.59958 0.10278 0.58894 C 0.08333 0.57969 0.06614 0.56766 0.05764 0.55309 C 0.0467 0.53967 0.04253 0.52117 0.04253 0.50636 C 0.04028 0.49179 0.04253 0.47444 0.05347 0.45987 C 0.06389 0.44645 0.08333 0.43581 0.1092 0.43049 C 0.13541 0.42656 0.16128 0.43188 0.17847 0.44113 C 0.1934 0.45038 0.20434 0.46519 0.20642 0.4823 C 0.20642 0.49965 0.20434 0.51561 0.1934 0.52903 C 0.18264 0.54245 0.18472 0.54499 0.14184 0.56234 C 0.10278 0.58108 0.06389 0.57576 0.04028 0.57691 C 0.01684 0.57691 -0.00261 0.57159 -0.02622 0.56627 C -0.05243 0.5598 -0.07379 0.54777 -0.08906 0.53713 C -0.10417 0.52649 -0.11042 0.51307 -0.1191 0.49179 C -0.12535 0.47051 -0.12535 0.45987 -0.12535 0.44367 C -0.12535 0.42771 -0.12535 0.41175 -0.12535 0.39579 E">
                                      <p:cBhvr>
                                        <p:cTn id="15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535 0.39579 C -0.11893 0.40481 -0.09566 0.41407 -0.08698 0.41407 C -0.0349 0.41407 0.01805 0.27157 0.01805 0.12977 C 0.01805 0.20102 0.04479 0.27157 0.07013 0.27157 C 0.09687 0.27157 0.12222 0.19986 0.12222 0.12977 C 0.12222 0.1647 0.13611 0.20102 0.14913 0.20102 C 0.16284 0.20102 0.17586 0.16563 0.17586 0.12977 C 0.17586 0.14759 0.18316 0.1647 0.18958 0.1647 C 0.19618 0.1647 0.2026 0.14666 0.2026 0.12977 C 0.2026 0.13833 0.20625 0.14759 0.20989 0.14759 C 0.21145 0.14759 0.21649 0.13833 0.21649 0.12977 C 0.21649 0.13394 0.21788 0.13833 0.22013 0.13833 C 0.22013 0.13972 0.22291 0.13394 0.22291 0.12977 C 0.22291 0.13162 0.22291 0.13394 0.22517 0.13394 C 0.22517 0.13278 0.22656 0.13186 0.22656 0.12977 C 0.22656 0.1307 0.22656 0.13162 0.22656 0.13278 C 0.22882 0.13278 0.22882 0.13162 0.22882 0.1307 C 0.2302 0.1307 0.2302 0.13186 0.2302 0.13278 C 0.23246 0.13278 0.23246 0.13162 0.23246 0.1307 E">
                                      <p:cBhvr>
                                        <p:cTn id="26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46 0.1307 L 0.30625 0.1839 C 0.3217 0.19593 0.34496 0.20264 0.36892 0.20264 C 0.39652 0.20264 0.41857 0.19593 0.43402 0.1839 L 0.50798 0.1307 E">
                                      <p:cBhvr>
                                        <p:cTn id="30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0798 0.1307 L 0.11423 0.37682 E">
                                      <p:cBhvr>
                                        <p:cTn id="41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423 0.37682 L 0.23454 0.43003 C 0.25972 0.44205 0.29739 0.44876 0.3368 0.44876 C 0.38159 0.44876 0.41753 0.44205 0.4427 0.43003 L 0.56319 0.37682 E">
                                      <p:cBhvr>
                                        <p:cTn id="45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6319 0.37682 L 0.35052 0.12491 E">
                                      <p:cBhvr>
                                        <p:cTn id="56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052 0.12491 L 0.20052 0.17812 C 0.16909 0.19015 0.12222 0.19685 0.07326 0.19685 C 0.01736 0.19685 -0.02726 0.19015 -0.05868 0.17812 L -0.20851 0.12491 E">
                                      <p:cBhvr>
                                        <p:cTn id="60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851 0.12491 L 0.23246 0.25098 E">
                                      <p:cBhvr>
                                        <p:cTn id="71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47 0.25099 C 0.22952 0.26903 0.2257 0.28892 0.22848 0.30396 C 0.23177 0.31992 0.23837 0.33496 0.24532 0.35022 C 0.25226 0.36549 0.26181 0.37336 0.27223 0.38238 C 0.28212 0.39047 0.29341 0.39788 0.30764 0.39811 C 0.32101 0.39996 0.33681 0.39417 0.35261 0.38538 C 0.36719 0.37775 0.38282 0.36572 0.3967 0.35161 C 0.41059 0.3375 0.42327 0.32177 0.43368 0.30512 C 0.44462 0.28684 0.45278 0.26741 0.4566 0.24775 C 0.46129 0.22901 0.46354 0.20981 0.46007 0.19385 C 0.45868 0.17766 0.45087 0.16147 0.44341 0.15106 C 0.43698 0.13903 0.42691 0.12792 0.41407 0.12399 C 0.40191 0.12052 0.38698 0.12492 0.3717 0.13718 C 0.35677 0.15059 0.34705 0.17026 0.34341 0.18737 C 0.34098 0.20357 0.34323 0.22115 0.35104 0.23479 C 0.3599 0.24705 0.36927 0.25769 0.3816 0.26024 C 0.39393 0.26348 0.39393 0.26672 0.42379 0.25261 C 0.45278 0.2422 0.46875 0.21421 0.48108 0.20033 C 0.49254 0.18622 0.49931 0.17026 0.50782 0.15152 C 0.51719 0.13093 0.52136 0.10896 0.52361 0.09184 C 0.52518 0.07472 0.52153 0.0613 0.51476 0.04048 C 0.5066 0.02105 0.50139 0.01342 0.49306 0.00162 C 0.48473 -0.00994 0.47622 -0.02151 0.46823 -0.03308 E">
                                      <p:cBhvr>
                                        <p:cTn id="75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6805 -0.03285 L 0.11423 0.24034 E">
                                      <p:cBhvr>
                                        <p:cTn id="86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423 0.24034 L 0.21666 -0.1374 E">
                                      <p:cBhvr>
                                        <p:cTn id="90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666 -0.1374 C 0.21892 -0.15059 0.22777 -0.16354 0.23072 -0.16354 C 0.25034 -0.16354 0.27048 0.04303 0.27048 0.25052 C 0.27048 0.14573 0.28038 0.04303 0.28993 0.04303 C 0.3 0.04303 0.30937 0.14759 0.30937 0.25052 C 0.30937 0.19871 0.31441 0.14573 0.31944 0.14573 C 0.32447 0.14573 0.32934 0.19732 0.32934 0.25052 C 0.32934 0.22369 0.33194 0.19871 0.33437 0.19871 C 0.33697 0.19871 0.33941 0.22531 0.33941 0.25052 C 0.33941 0.23688 0.34079 0.22369 0.34201 0.22369 C 0.3427 0.22369 0.34461 0.23688 0.34461 0.25052 C 0.34461 0.24358 0.34513 0.23688 0.34583 0.23688 C 0.34583 0.23849 0.34704 0.24358 0.34704 0.25052 C 0.34704 0.24705 0.34704 0.24358 0.34774 0.24358 C 0.34774 0.24543 0.34843 0.24682 0.34843 0.25052 C 0.34843 0.24844 0.34843 0.24705 0.34843 0.24543 C 0.34895 0.24543 0.34895 0.24705 0.34895 0.24844 C 0.34965 0.24844 0.34965 0.24682 0.34965 0.24543 C 0.35052 0.24543 0.35052 0.24705 0.35052 0.24844 E">
                                      <p:cBhvr>
                                        <p:cTn id="101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052 0.24843 L 0.21823 0.34235 C 0.1901 0.3634 0.14444 0.38376 0.1 0.39764 C 0.04687 0.41337 0.00295 0.41822 -0.029 0.41568 L -0.17986 0.40596 E">
                                      <p:cBhvr>
                                        <p:cTn id="105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987 0.40597 L 0.11423 0.12491 E">
                                      <p:cBhvr>
                                        <p:cTn id="116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423 0.12491 L 0.0434 -0.14781 E">
                                      <p:cBhvr>
                                        <p:cTn id="120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4 -0.14782 C 0.04704 -0.16563 0.05989 -0.18321 0.06441 -0.18321 C 0.09305 -0.18321 0.12257 0.09576 0.12257 0.37543 C 0.12257 0.23433 0.13732 0.09576 0.15121 0.09576 C 0.16597 0.09576 0.18003 0.23687 0.18003 0.37543 C 0.18003 0.3058 0.18732 0.23433 0.19461 0.23433 C 0.20208 0.23433 0.20937 0.30395 0.20937 0.37543 C 0.20937 0.33958 0.21319 0.3058 0.21684 0.3058 C 0.22048 0.3058 0.22413 0.34143 0.22413 0.37543 C 0.22413 0.35739 0.22604 0.33958 0.22777 0.33958 C 0.22882 0.33958 0.23159 0.35739 0.23159 0.37543 C 0.23159 0.36641 0.23246 0.35739 0.2335 0.35739 C 0.2335 0.3597 0.23541 0.36641 0.23541 0.37543 C 0.23541 0.37104 0.23541 0.36641 0.23628 0.36641 C 0.23628 0.36849 0.23732 0.37057 0.23732 0.37543 C 0.23732 0.37289 0.23732 0.37104 0.23732 0.36849 C 0.23819 0.36849 0.23819 0.37104 0.23819 0.37289 C 0.23923 0.37289 0.23923 0.37057 0.23923 0.36849 C 0.24027 0.36849 0.24027 0.37104 0.24027 0.37289 E">
                                      <p:cBhvr>
                                        <p:cTn id="131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027 0.37289 L 0.24027 -0.17927 E">
                                      <p:cBhvr>
                                        <p:cTn id="135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2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559 -0.1758 C 0.29444 -0.1758 0.3427 -0.1034 0.3427 -0.01411 L 0.3427 0.36155 C 0.3427 0.45061 0.29444 0.52371 0.23559 0.52371 L -0.00782 0.52371 C -0.06702 0.52371 -0.11598 0.45061 -0.11598 0.36155 L -0.11598 -0.01411 C -0.11598 -0.1034 -0.06702 -0.1758 -0.00782 -0.1758 Z">
                                      <p:cBhvr>
                                        <p:cTn id="147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732 -0.17927 C 0.25868 -0.17233 0.28489 -0.1758 0.30694 -0.17465 C 0.31944 -0.17164 0.33246 -0.17071 0.34514 -0.16886 C 0.35521 -0.16539 0.36527 -0.1647 0.37552 -0.16285 C 0.39392 -0.16031 0.41232 -0.15684 0.43055 -0.15337 C 0.43819 -0.15059 0.44496 -0.14689 0.45295 -0.14527 C 0.46024 -0.14226 0.46788 -0.13949 0.47552 -0.1381 C 0.48489 -0.13139 0.49427 -0.12561 0.50347 -0.11913 C 0.51076 -0.11381 0.51649 -0.10664 0.52378 -0.10132 C 0.52534 -0.09877 0.52795 -0.09692 0.52934 -0.09415 C 0.53264 -0.08813 0.52951 -0.08813 0.53507 -0.08258 C 0.5368 -0.07657 0.53958 -0.07333 0.54288 -0.06824 C 0.54427 -0.06199 0.54635 -0.05714 0.54965 -0.05158 C 0.55225 -0.04303 0.54843 -0.0532 0.55416 -0.0458 C 0.55486 -0.04488 0.55468 -0.04349 0.55521 -0.04233 C 0.55798 -0.03655 0.55989 -0.03007 0.56302 -0.02452 C 0.56562 -0.01249 0.56337 -0.01665 0.56753 -0.01041 C 0.56892 -0.0037 0.57083 -0.00278 0.5743 0.00254 C 0.57725 0.01735 0.58246 0.03169 0.58559 0.0465 C 0.58663 0.05737 0.58819 0.06847 0.5901 0.07957 C 0.58941 0.0997 0.59479 0.15059 0.57882 0.17534 C 0.57656 0.18367 0.57031 0.20056 0.56527 0.20865 C 0.56215 0.21837 0.55989 0.2304 0.54965 0.23456 C 0.54705 0.23849 0.54062 0.24358 0.53611 0.24497 C 0.53125 0.25052 0.525 0.25376 0.51927 0.25815 C 0.51666 0.25977 0.51302 0.26 0.51024 0.26162 C 0.50729 0.26347 0.50451 0.26602 0.50139 0.26764 C 0.49253 0.2718 0.48177 0.2725 0.47326 0.27712 C 0.46666 0.28082 0.46059 0.28499 0.45416 0.28892 C 0.44757 0.29285 0.43437 0.29285 0.42708 0.29355 C 0.40243 0.3102 0.36909 0.3109 0.34062 0.3139 C 0.30694 0.31298 0.27326 0.31298 0.23958 0.31136 C 0.22864 0.31113 0.2243 0.30696 0.21475 0.30419 C 0.20399 0.30118 0.19479 0.29817 0.18437 0.2947 C 0.16562 0.28869 0.14687 0.28244 0.1283 0.27573 C 0.12118 0.27319 0.11093 0.27203 0.10468 0.26764 C 0.10034 0.2644 0.09826 0.2607 0.0934 0.25815 C 0.09149 0.2533 0.08923 0.2496 0.08559 0.24636 C 0.0835 0.24451 0.07882 0.2415 0.07882 0.24173 C 0.07309 0.23225 0.0809 0.24358 0.07205 0.23548 C 0.07066 0.23433 0.06996 0.23225 0.06875 0.23086 C 0.06666 0.22855 0.06371 0.22669 0.06198 0.22392 C 0.06041 0.22161 0.05972 0.21837 0.05746 0.21675 C 0.05277 0.21351 0.05503 0.21536 0.05069 0.21073 C 0.04843 0.20241 0.04861 0.20032 0.04184 0.19662 C 0.03871 0.19153 0.03923 0.19015 0.03385 0.18714 C 0.03246 0.18251 0.03107 0.18043 0.02708 0.17765 C 0.02326 0.17187 0.02534 0.17465 0.01823 0.16701 C 0.01701 0.16586 0.01475 0.16354 0.01475 0.16378 C 0.01163 0.15522 0.00937 0.14897 0.00243 0.14342 C -0.00174 0.13694 0.00087 0.14087 -0.00434 0.13023 C -0.00677 0.12514 -0.0066 0.12861 -0.0066 0.12561 E">
                                      <p:cBhvr>
                                        <p:cTn id="156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5:56:34Z</dcterms:created>
  <dc:creator>user</dc:creator>
  <dc:description/>
  <dc:language>en-US</dc:language>
  <cp:lastModifiedBy>user</cp:lastModifiedBy>
  <dcterms:modified xsi:type="dcterms:W3CDTF">2010-04-07T17:54:25Z</dcterms:modified>
  <cp:revision>42</cp:revision>
  <dc:subject/>
  <dc:title>Слайд 1</dc:title>
</cp:coreProperties>
</file>