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1B3-CC87-48C8-B945-97DAD97F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5DF-D46E-42AB-87FD-64F4D2E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F1F1E-4318-4A48-B4DB-DFF44894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27A93-E866-417F-BA41-CE3AFEC1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E28D5-BE09-484B-9DA8-1AD716B6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1D5EF-6077-4E99-A6CC-6D615165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91D16-5F07-4CD8-A125-4A40106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D825C-053D-447F-AF0D-500FA98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40F2B-25A8-44FE-855E-D4947ECE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449B-2861-43EF-A494-D3D91030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660D3-63CB-455E-9399-79582C36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3CFE9-50F8-42EE-8687-5E9FBA6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80D-AC7F-4179-8DCE-5D0A1AC8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0DA1D-922A-436F-ADF6-18FA2D09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9AE03-2EBB-4EC0-97BC-67D61D37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E90D7-8238-4FBD-A05E-6B0A807D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90716-4B57-4F1E-8228-5A086215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D742A-627F-43A8-851A-B2878EA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16663-425D-49F9-B7EE-56D4AEC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DFB24-FB56-4287-8DB6-6C4AB563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6152B-60D1-4687-B167-8E87A0FE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0C6E1-17A3-4B86-92F3-BD03450A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4B2EF-D523-4D2A-8393-A1B7D55A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573-68DE-4367-AA00-F3A1BCA6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8281C-2398-4261-9157-8B2D59F1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43506-A3C5-4C80-B15E-1AEBF939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6E688-FC90-4C16-A0EA-40A37DB3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E4C56-876E-4F9B-9D43-20A73BBA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449F2-684F-4A20-90F9-0882347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8B3DD-9029-4F2C-AE4D-CF1626EE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4164A-1CFB-4C7D-A5CF-F47DFA21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E6D29-2AF9-48FF-9298-F3D251B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4A39E-2B71-49F9-84B9-5C3959C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C02AD-02EC-4C39-926A-9CD3F2D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7975-25B7-4F3E-85CB-86277BD1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B2C7B-5350-4961-8F14-FC67255E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FEF7-A969-4576-9A90-511707B1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1B05-9FE9-4D8B-99F1-352A0ADC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E8F9D-7DC1-4DAA-9026-EA0ABE5D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D77DD-080A-465B-9B39-020B9CA5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D8E7B-F2A1-4161-8BF5-55162184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FC1D9-C92E-4075-AA42-C322DD0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F4820-776F-445E-BFD9-E97E8E2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24B85-B21C-4267-B563-BB94557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2D29B-1E02-4871-892A-EC8AA86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9D02-AD13-47D9-8D6C-179852C1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6F9E3-1D78-44A9-9295-7FE717F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CF406-8D03-4A33-A295-F5B97A3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B5FC1-48E6-4B22-A5A1-7DBE7DA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1CDCA-BBD9-44B9-B20F-4DFA5056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3D1E5-5C54-4D1D-A71E-1651760D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B8A-5522-4A6E-9F71-94F237D3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DF18-4CE6-48CD-A2E1-0F1249D1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5D0F-4871-48F8-B885-E32D2A5A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998-3BAB-41DC-8623-4082277F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44A4-D753-4E6C-A925-8600974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8C4-044A-4A01-9EF6-000845AD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E420-9A64-40AA-B17B-E27A8B1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2314-7E41-4103-8F94-3E3304E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2B91-C2D5-4D18-8738-58D00865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1547-89B4-4100-9369-EF3ADE6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4819-6A49-4D5F-AC20-C7597C83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6C68-F63D-43EB-AAF9-C2669184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95DE-37E1-489B-8CC8-692D699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5049-F39B-4064-A985-A652C2A0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5934-BE65-4E87-AA62-F389EC6B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DF00-FC89-49F3-9741-363BB232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66F-7C4B-4B81-B403-2AE924F4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12A2-A90F-4DC1-8897-3BFC2A09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2BBC-16F5-4166-83C0-D804C219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0D0D-2FF1-4D80-B847-F15DDA1E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D3E3-A802-4B2C-8C5D-10A05C1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A741-6C0C-40EC-A865-456350BB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05CF-2D5F-4A61-A6FC-87C4C3C1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EE4C-E5BE-4411-9B47-281D741E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B8F3-00D3-458F-9ED7-5F965320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7D6A-DCFE-4F2C-95BA-658ECC7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40C3-B9B6-45F0-8047-A4B983B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35D-2AC5-4041-85C2-EDB99AB6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0A4D-D68D-4C00-AB44-3533A227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9EF5-8896-49C3-A0CB-41CFBA0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18811-3510-48CC-9E07-1F2FD4B7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615D-47BF-42BF-B509-0ACFD5E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839FA-D580-4F4C-93B7-C3B74A2E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5B58-DBDB-4E5C-9805-CB1DBD36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3416-1B66-401E-A368-7CCC482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FB9E-47AE-4B47-AF9A-43755676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E70D-66A5-47ED-9CA0-DC160F57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0D4F-C54D-440D-A507-9F3C5100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096-CDA0-4C44-91F6-AA9BCF9F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3293-8173-4244-9E45-D04F2FEC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03C9-1A3C-43D8-AE73-C4762F3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254D2-F318-4D3C-AB15-09FDF46D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B7E8-8CE9-4EC5-9534-4F828B3E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D204-CFC5-456B-8453-42D59C4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22D8C-E778-435E-8A04-19DEFD7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48E3-7EC8-48F1-8570-E5057EE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C5C9-9DAB-4991-9180-816F830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1E670-AA07-4601-A447-6CA73C6D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A5FC-9DAF-4CE4-9AD4-88EB7040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95D-BD74-4B16-82E7-EC752F59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CD8E5-3A2B-4C63-B3D7-4E2CDC22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E746-7DC8-4A91-BC87-F368D991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C6544-7091-49A6-B918-A9CDA82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17B4-885D-415B-8078-7087386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03FAB-759D-454D-BC9F-F26FC143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448C-691A-47CD-96B4-69B1C64B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6284A-A7A2-4BB7-AA46-8E01F210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0641D-EB7E-47DF-8BE0-163E5D9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20124-7708-487D-8720-959385ED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EB5A1-0A81-43A4-84DD-5774ED3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5D8-492B-4ACE-B645-2F762D52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6BD2-FDF7-45FE-9681-7B5FA20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F258-BC05-43EB-A23E-FF1F3926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ED9E-188C-491C-9976-CC8304B1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F5C15-6786-4FE8-AC73-16D45C31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01107-2A2E-40AF-986D-02D89B54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8F1A4-030D-48F6-8A38-32EC7936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3E37A-103D-4EEE-AE9E-5BD4146F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3B3D1-C3EA-4A9A-9A16-39D1B092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63E5-0A9B-46A7-85D9-D19CCD81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98F1-AB70-4495-B777-D615122D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0D1-0A88-4EC3-9427-4423378A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2E796-163A-4619-A064-7E2CFE7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8151F-051B-40F8-B4F7-58B8469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2F466-8563-4D0A-B572-7D6ACD13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FA0E-CEA7-4F06-B0C7-AF5AE87B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C9FA2-5251-456A-A004-3076E195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CA209-6E25-443A-BAA3-F86AB1CF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8D2C8-F09D-4406-82F9-37DF76A5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365E-43B3-473A-B142-954B7A64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C635B-051C-4AE0-96FA-7C6E8A6E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DCF0-5C49-41E5-9A4B-93D33A9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8CE-63E3-4B9B-A5AA-15D97FB3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F383-3FDE-40CE-B325-06BFC0B7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9F3BF-32F6-48D1-AE21-D42BDD8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383C-65E0-43F0-8223-FA805CA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AF860-9D6A-4061-82FB-8460975A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25D59-F3A7-4740-96AB-CF7FF61F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5687A-0D89-4995-8D7E-5A8E1D33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1384-C294-410D-8562-44B700F4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C3B22-80CD-4EE5-A16D-ADD80952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F7513-8A40-4DDC-8DE9-7EE8EAC4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7BCD3-A3DA-4E92-B5F9-5DA5BC0F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21A-71B9-4CF7-A3C2-641ADBEFB3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3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0c18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3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4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6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8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c18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c18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c18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0c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c18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0c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4C3-91F3-445E-945B-C096BBA8D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3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2D9-7633-444B-B132-A85277B9D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8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A8D7-AC14-42FF-8C77-08DC6BB1D9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1C6B-D44F-4963-9A0E-67BFA0B9CB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B8F-2E75-48BD-B185-3F9CD1E5DC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1602-DF77-49F7-A071-C1A3C9AF10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8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8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0A48-B0B6-4F46-B388-16348927B34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5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5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6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7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3AA-839E-48CD-86A6-854F2C1F56D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3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AEE4-8453-4DEF-B2F4-DAC56AF71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8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5E21-EBCC-49D2-8CCF-4DC2EED59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2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0c18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3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4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7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c18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c18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0c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c18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0c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c18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0c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55E-F7F6-42E2-ACD9-590FCCF8D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826920" y="765000"/>
            <a:ext cx="403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лай Фоть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84360" y="1700280"/>
            <a:ext cx="7632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асный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1116000" y="981000"/>
            <a:ext cx="5327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b2b85"/>
                </a:solidFill>
                <a:latin typeface="Impact"/>
              </a:rPr>
              <a:t>Таинственн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b2b85"/>
              </a:solidFill>
              <a:latin typeface="Impact"/>
              <a:ea typeface="Impact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843280" y="3051000"/>
            <a:ext cx="185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b2b85"/>
                </a:solidFill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b2b85"/>
              </a:solidFill>
              <a:latin typeface="Impact"/>
              <a:ea typeface="Impact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2916360" y="4508640"/>
            <a:ext cx="4968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лубже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155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155" fill="hold"/>
                                        <p:tgtEl>
                                          <p:spTgt spid="10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1155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1155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1116000" y="1125360"/>
            <a:ext cx="29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б осветить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780000" y="2637000"/>
            <a:ext cx="2914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ухие улочки,</a:t>
            </a:r>
            <a:endParaRPr b="0" lang="en-US" sz="1800" spc="1" strike="noStrike">
              <a:ln w="0">
                <a:noFill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6588000" y="4005360"/>
            <a:ext cx="143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оры,</a:t>
            </a:r>
            <a:endParaRPr b="0" lang="en-US" sz="1800" spc="1" strike="noStrike">
              <a:ln w="0">
                <a:noFill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4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4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4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4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900000" y="333360"/>
            <a:ext cx="32403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Электр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203640" y="1989000"/>
            <a:ext cx="374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жг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700360" y="3213000"/>
            <a:ext cx="58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492360" y="4797360"/>
            <a:ext cx="4311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05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нари.</a:t>
            </a:r>
            <a:endParaRPr b="0" lang="en-US" sz="1800" spc="1" strike="noStrike">
              <a:ln w="0">
                <a:noFill/>
              </a:ln>
              <a:solidFill>
                <a:srgbClr val="f05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10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0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324000" y="2637000"/>
            <a:ext cx="7129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были все довольны очен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 txBox="1"/>
          <p:nvPr/>
        </p:nvSpPr>
        <p:spPr>
          <a:xfrm>
            <a:off x="900000" y="620640"/>
            <a:ext cx="278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яли улоч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4211640" y="692280"/>
            <a:ext cx="127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ём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755640" y="1773360"/>
            <a:ext cx="211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 даж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2916360" y="2637000"/>
            <a:ext cx="278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й тёмн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012000" y="3429000"/>
            <a:ext cx="150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чью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332000" y="3933720"/>
            <a:ext cx="79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ё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916360" y="4508640"/>
            <a:ext cx="3085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сно виделось,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724360" y="5373720"/>
            <a:ext cx="2735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cfa3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днём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cfa3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684360" y="1125360"/>
            <a:ext cx="6048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 недовольны был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780000" y="3103560"/>
            <a:ext cx="417672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уж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1187280" y="1197000"/>
            <a:ext cx="712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- Зачем нам свет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484360" y="3284640"/>
            <a:ext cx="567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 свете хуж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4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4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4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1042920" y="2133720"/>
            <a:ext cx="734544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гас бы он скорей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10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1547640" y="836640"/>
            <a:ext cx="30956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дь 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203640" y="2637000"/>
            <a:ext cx="288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ноч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284720" y="4005360"/>
            <a:ext cx="180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067280" y="5300640"/>
            <a:ext cx="40640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нарей,-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20:01Z</dcterms:created>
  <dc:creator>Вадим</dc:creator>
  <dc:description/>
  <dc:language>en-US</dc:language>
  <cp:lastModifiedBy>Вадим</cp:lastModifiedBy>
  <dcterms:modified xsi:type="dcterms:W3CDTF">2006-08-27T12:23:03Z</dcterms:modified>
  <cp:revision>2</cp:revision>
  <dc:subject/>
  <dc:title>Слайд 1</dc:title>
</cp:coreProperties>
</file>