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CF22-90AD-4179-B6A5-6C00DC990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3780-D51E-4BF6-B5CD-F24F7346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360B49-33C6-49D6-99DF-9C25A8EE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449F8B-5860-4A41-BCB7-F7587FB2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1C60E8-53DD-47CE-A3B8-CFE1E641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B24C64-BE36-48E7-B6AC-89A4F8F4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F90ACE-EA91-4491-BF64-E350F29A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46BBD3-BC1E-46F1-9013-C0B85EF4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775A4C-B2D4-4045-A5BC-0EFA5D94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8F2CDF-61B9-4257-B775-7409943AB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B4C771-D327-4276-B815-959A8EBC9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44D2-60D9-4B07-9436-90B8EB223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761B-1BEC-486F-A44E-013103CD0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1BA1C-CBFC-42DB-B589-83AF04B95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C1A7A-298B-4323-B1D6-9F53FA95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9BD32-2D4A-48BC-B193-3062D9AF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55B2BA-D783-4780-BEE3-24366E66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E4BE6-9A42-4F4F-BC1F-70A51F5E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ED4AC-F3B7-49A1-A030-2A6431D8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3DD37-E647-4EAA-8B65-7DA86874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9A6B-0568-4381-A301-14A2FCAB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026A1-E30A-4D5E-BCCD-85C8E213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A41A6E-6204-4840-8BA1-7E1E64F6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1A4EEB-CE56-4A7E-8D68-17AC965C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22A04-4922-436B-9533-1106563C2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E3A0E8-BB52-4ED9-93AC-756A49094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7460A-89CD-46B5-AE91-D00770360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D59DF-FA5A-4B73-8AB8-266E6F08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CC715-D47D-43F9-B42A-3F5FA63F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38392-E7D8-4D57-A9CB-0DEA78C2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1D566-AFEC-4192-89B8-80675669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AD45-7DAF-4407-86C7-BD1DC891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7A4CC-68B2-4E83-A69F-07171077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8E52E-BDE4-4307-AE5C-62415EB6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91D2A-943D-4E2F-BC54-25065234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84C53-E594-4B49-B9EE-886EA004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B1452-E27A-41F9-918A-B18BB270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0A1E0-7A96-4451-BA0A-DB2DC881F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4BD5D-9514-4F68-9B04-C82EADB06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69EB53-C52E-41B7-9289-2DF556273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C52EBC-3A9D-4994-8068-D41E13DE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F3E9EF-2FD9-449C-BDE8-2D9E321A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46E9-0FB2-4B41-8E5E-2C474A16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6FDA02-2437-4BD7-98E1-E14BDFDF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90890B-3651-413C-BCC0-FEB4702D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736D60-9F16-4A96-844E-CA5988F5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07EF7D-A3FD-43CD-A59D-6F56E506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6E51AE-9E15-40A7-9616-947E8B73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736F90-7F45-4A0B-9437-81B3C768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131D09-9B04-4877-B598-81C10B11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40EAB7-E2AD-4A7F-B16A-A9DAF77D0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FBC13F-0DC1-4094-8203-1952A1404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71BD7-3D5D-4F62-9A80-9EF160A72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B26F-B652-46EB-9759-41B118E0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DFA79-94FE-47B7-B75A-A44B14F7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26BE3-C592-4D3D-B63D-95254162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33810-51B7-452A-AB61-2DE00A3F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C07FF-403B-4C8A-8E13-2C78BC3E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B926B-6DF8-4255-875C-36F5C401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B2BDA-1BEA-48C6-AC37-960414FD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42E6E-10E7-4215-8EE4-AD5CE718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F5BF6-5680-4FE3-91FC-93CE1566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EF2C2-2657-4F45-AEBC-5607ACFD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00047-930D-4D56-925E-AA6987551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2501-1DF2-4B2E-9AAD-E0DC7A1A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07C5B-E722-4638-B042-0788637FC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D3694-971C-4BDE-BA50-AC15A4ADD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ABECE-1331-461A-93B9-A4F292C9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42D15-5B8D-4BCA-8F7A-1ADBE1E7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7AF71-0DCD-42B6-B4E8-B112FEFC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41B1F-71E9-415B-8F5D-0E160E20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AF5B8-376E-41B6-8342-3AD1C970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05784-555A-498C-8B23-78D35663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85332-66F1-4364-A584-72F115FB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5D757-2901-4A9A-AF84-C2DB7E39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2F29-5D82-4038-81BB-6A867CFF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DA8F1-F763-4971-8E88-FEDD6B3B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EE598-5846-4E8F-88DF-20F011BEA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CAE55-5E62-43AF-976D-10D1BC3C4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A7A75-DF94-4732-A41C-A8462AC12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6FC8B-FF46-4D40-BAD0-9192681F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600A9-A0B7-44B2-BAE3-6D306AB6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A486C-F3A8-4139-BA8A-609B67EE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4721F-61D8-4FDB-99B4-0B5D61CA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72E90-7CDA-4794-B4E5-09EE4C14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DF625-6DE5-4820-8EE8-E9B18414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2D06-C969-4C4F-AD53-0563494E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002CD-DD23-4F2C-A640-22288DBC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9A1AF-4D89-44A5-BC1B-1B7DBC65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BB0E5-94B4-4193-87C4-C3C10D50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42D7D-6FB2-4304-8920-47B5644BE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9AD5F-150F-44D8-8690-0FCEC710D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105567-23C0-4842-848D-0FB258E93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A6D151-943F-453C-BF71-939AF668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51CD52-49DB-4C29-AAE2-43C3BD54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874224-F271-4825-9EAF-139E3324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3E9EA7-E49C-4B59-84B0-45C41A28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2D89-6456-4035-AAF7-9F9AE918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1BA48B-5E30-406F-AA6D-56628555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6AC93B-CA58-4903-BA2B-0E7D6420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5B7DC3-58EA-4C15-945B-08B377BC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22E6C5-C268-4B42-8874-B75BE785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58F030-0E20-4033-8ED4-2A90EA91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7ED84F-EA02-40D4-A914-41522B116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7ED06A-7DAF-491F-9A12-C036096F0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485DC1-18D9-49AF-9CF4-006D14CA6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794F2D-4C7C-4CC0-B647-7D206550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18BE6D-05DE-4A61-AA9F-B17834D5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532D-8DB2-484D-84B2-710295784DF5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Trebuchet MS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Trebuchet MS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625A-2A36-401C-9B72-3F99B8871822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Trebuchet MS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D770-1AA4-4A9C-9633-D15B5E4CC22D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Trebuchet MS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035F-0161-4893-A9C8-502B807EFC05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Trebuchet MS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69C6-DDBA-4029-B947-A44BB77D7D08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Trebuchet MS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7982-187C-40F7-8864-D331D68786FC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Trebuchet MS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BAE7-168D-4081-A557-156A7FF1BC1A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Trebuchet MS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B5AD-3196-4284-BE78-6D52514706B6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Trebuchet MS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Trebuchet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C6BF-64ED-4D63-ACA9-DBB3A8AF4CF8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719280" y="493560"/>
            <a:ext cx="8180280" cy="27432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722160" y="3287520"/>
            <a:ext cx="7772400" cy="1509480"/>
          </a:xfrm>
          <a:prstGeom prst="rect">
            <a:avLst/>
          </a:prstGeom>
          <a:noFill/>
          <a:ln w="0">
            <a:noFill/>
          </a:ln>
        </p:spPr>
        <p:txBody>
          <a:bodyPr rIns="12816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Учитель начальных классов МБОУ СОШ №12 Лучанинова Наталья Александровна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Trebuchet MS"/>
            </a:endParaRPr>
          </a:p>
        </p:txBody>
      </p:sp>
      <p:pic>
        <p:nvPicPr>
          <p:cNvPr id="418" name="Picture 4" descr="3"/>
          <p:cNvPicPr/>
          <p:nvPr/>
        </p:nvPicPr>
        <p:blipFill>
          <a:blip r:embed="rId1"/>
          <a:stretch/>
        </p:blipFill>
        <p:spPr>
          <a:xfrm>
            <a:off x="-252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9" name="WordArt 10"/>
          <p:cNvSpPr txBox="1"/>
          <p:nvPr/>
        </p:nvSpPr>
        <p:spPr>
          <a:xfrm>
            <a:off x="395280" y="907920"/>
            <a:ext cx="8064360" cy="180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Побережье Чёрного мор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</p:spTree>
  </p:cSld>
  <p:transition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Trebuchet MS"/>
            </a:endParaRPr>
          </a:p>
        </p:txBody>
      </p:sp>
      <p:pic>
        <p:nvPicPr>
          <p:cNvPr id="421" name="Picture 4" descr="23"/>
          <p:cNvPicPr/>
          <p:nvPr/>
        </p:nvPicPr>
        <p:blipFill>
          <a:blip r:embed="rId1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Trebuchet MS"/>
            </a:endParaRPr>
          </a:p>
        </p:txBody>
      </p:sp>
      <p:pic>
        <p:nvPicPr>
          <p:cNvPr id="423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4" name="WordArt 7"/>
          <p:cNvSpPr txBox="1"/>
          <p:nvPr/>
        </p:nvSpPr>
        <p:spPr>
          <a:xfrm rot="5400000">
            <a:off x="5461920" y="2222280"/>
            <a:ext cx="5904000" cy="1459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УЩЕЛЬ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Trebuchet MS"/>
            </a:endParaRPr>
          </a:p>
        </p:txBody>
      </p:sp>
      <p:pic>
        <p:nvPicPr>
          <p:cNvPr id="426" name="Picture 4" descr="vie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7" name="WordArt 7"/>
          <p:cNvSpPr txBox="1"/>
          <p:nvPr/>
        </p:nvSpPr>
        <p:spPr>
          <a:xfrm>
            <a:off x="0" y="0"/>
            <a:ext cx="8317080" cy="19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орная река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Trebuchet MS"/>
            </a:endParaRPr>
          </a:p>
        </p:txBody>
      </p:sp>
      <p:pic>
        <p:nvPicPr>
          <p:cNvPr id="429" name="Picture 4" descr="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0" name="WordArt 7"/>
          <p:cNvSpPr txBox="1"/>
          <p:nvPr/>
        </p:nvSpPr>
        <p:spPr>
          <a:xfrm>
            <a:off x="468360" y="0"/>
            <a:ext cx="7777080" cy="17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кат над морем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Trebuchet MS"/>
            </a:endParaRPr>
          </a:p>
        </p:txBody>
      </p:sp>
      <p:pic>
        <p:nvPicPr>
          <p:cNvPr id="432" name="Picture 4" descr="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3" name="WordArt 7"/>
          <p:cNvSpPr txBox="1"/>
          <p:nvPr/>
        </p:nvSpPr>
        <p:spPr>
          <a:xfrm>
            <a:off x="611280" y="333360"/>
            <a:ext cx="8532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расота ночного города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Trebuchet MS"/>
            </a:endParaRPr>
          </a:p>
        </p:txBody>
      </p:sp>
      <p:pic>
        <p:nvPicPr>
          <p:cNvPr id="397" name="Picture 6" descr="IMG_27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Trebuchet MS"/>
            </a:endParaRPr>
          </a:p>
        </p:txBody>
      </p:sp>
      <p:pic>
        <p:nvPicPr>
          <p:cNvPr id="399" name="Picture 4" descr="1175395699_1"/>
          <p:cNvPicPr/>
          <p:nvPr/>
        </p:nvPicPr>
        <p:blipFill>
          <a:blip r:embed="rId1"/>
          <a:stretch/>
        </p:blipFill>
        <p:spPr>
          <a:xfrm>
            <a:off x="2671920" y="1766880"/>
            <a:ext cx="3800160" cy="4286160"/>
          </a:xfrm>
          <a:prstGeom prst="rect">
            <a:avLst/>
          </a:prstGeom>
          <a:ln w="0">
            <a:noFill/>
          </a:ln>
        </p:spPr>
      </p:pic>
      <p:sp>
        <p:nvSpPr>
          <p:cNvPr id="400" name="WordArt 8"/>
          <p:cNvSpPr txBox="1"/>
          <p:nvPr/>
        </p:nvSpPr>
        <p:spPr>
          <a:xfrm>
            <a:off x="324000" y="260280"/>
            <a:ext cx="82803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Анапский райо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</p:spTree>
  </p:cSld>
  <p:transition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Trebuchet MS"/>
            </a:endParaRPr>
          </a:p>
        </p:txBody>
      </p:sp>
      <p:pic>
        <p:nvPicPr>
          <p:cNvPr id="402" name="Picture 4" descr="repphoto_5475_1185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403" name="WordArt 10"/>
          <p:cNvSpPr txBox="1"/>
          <p:nvPr/>
        </p:nvSpPr>
        <p:spPr>
          <a:xfrm>
            <a:off x="0" y="0"/>
            <a:ext cx="874872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76a55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урортный город с высоты птичьего полёта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76a55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Trebuchet MS"/>
            </a:endParaRPr>
          </a:p>
        </p:txBody>
      </p:sp>
      <p:pic>
        <p:nvPicPr>
          <p:cNvPr id="405" name="Picture 4" descr="anapa_picture1"/>
          <p:cNvPicPr/>
          <p:nvPr/>
        </p:nvPicPr>
        <p:blipFill>
          <a:blip r:embed="rId1"/>
          <a:stretch/>
        </p:blipFill>
        <p:spPr>
          <a:xfrm>
            <a:off x="0" y="260280"/>
            <a:ext cx="8893080" cy="6597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Trebuchet MS"/>
            </a:endParaRPr>
          </a:p>
        </p:txBody>
      </p:sp>
      <p:pic>
        <p:nvPicPr>
          <p:cNvPr id="407" name="Picture 4" descr="2901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Trebuchet MS"/>
            </a:endParaRPr>
          </a:p>
        </p:txBody>
      </p:sp>
      <p:pic>
        <p:nvPicPr>
          <p:cNvPr id="409" name="Picture 8" descr="1fe17780bdca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410" name="WordArt 9"/>
          <p:cNvSpPr txBox="1"/>
          <p:nvPr/>
        </p:nvSpPr>
        <p:spPr>
          <a:xfrm>
            <a:off x="324000" y="2349360"/>
            <a:ext cx="8424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крытие летнего сезона</a:t>
            </a:r>
            <a:endParaRPr b="0" lang="en-US" sz="2400" spc="1" strike="noStrike">
              <a:ln w="0">
                <a:noFill/>
              </a:ln>
              <a:solidFill>
                <a:srgbClr val="8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Trebuchet MS"/>
            </a:endParaRPr>
          </a:p>
        </p:txBody>
      </p:sp>
      <p:pic>
        <p:nvPicPr>
          <p:cNvPr id="412" name="Picture 4" descr="5f2f55cc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413" name="WordArt 8"/>
          <p:cNvSpPr txBox="1"/>
          <p:nvPr/>
        </p:nvSpPr>
        <p:spPr>
          <a:xfrm>
            <a:off x="0" y="260280"/>
            <a:ext cx="8820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Детский оздоровительный цент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Trebuchet MS"/>
            </a:endParaRPr>
          </a:p>
        </p:txBody>
      </p:sp>
      <p:pic>
        <p:nvPicPr>
          <p:cNvPr id="415" name="Picture 4" descr="93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416" name="WordArt 7"/>
          <p:cNvSpPr txBox="1"/>
          <p:nvPr/>
        </p:nvSpPr>
        <p:spPr>
          <a:xfrm>
            <a:off x="468360" y="3141720"/>
            <a:ext cx="813744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ляжный берег</a:t>
            </a:r>
            <a:endParaRPr b="0" i="1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ёха</cp:lastModifiedBy>
  <dcterms:modified xsi:type="dcterms:W3CDTF">2012-02-18T16:15:23Z</dcterms:modified>
  <cp:revision>3</cp:revision>
  <dc:subject/>
  <dc:title>PowerPoint Presentation</dc:title>
</cp:coreProperties>
</file>