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EEB6-EC27-4CFF-9260-CB60E701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DB44-37C8-45B4-9770-DADFFCF5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3DE9-E56B-4EC2-8472-35B76082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FE4-FC2F-4394-8AFC-07C8D4DD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2F6C-5504-41DE-9F65-399CC7B0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5FDD-6DC0-419A-A07E-4C0CF170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AEE1-FA76-4549-BEA3-49515AD3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01FE-AF20-485B-A8D0-852FF25E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13B2-B004-498F-83D9-D6BFA643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54A8-7753-4F23-92C8-96747571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B2B4-AACA-45C6-9670-38324C93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1CE-50B3-4523-BFE7-CFADD436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439A-D555-43F5-A5D7-4AE5ACE1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F28C-36D8-43C7-9972-0C54D3C2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86B4-2304-47C4-9BC1-80EE0B4C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86C2-01E3-423D-842B-ADF908A5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0905-F36E-47F7-BDFC-7D835C74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4BCC-8D75-4D50-BDC4-9C7B1636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9F41-FCFD-4B0C-A2B8-D7AECB81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2538-D962-498E-9400-0D322D5E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1AFA-F8A9-4708-BF5B-32570618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2D6E-4176-43DE-9B64-9CBF29EE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D55B-AB1E-4CD0-B29B-8364D687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4233-FB2F-444C-ADAF-3B8A75C7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5431-06C8-4FA5-B31A-B3FF66FFCB0B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a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F74B-AAC2-46B4-97F6-7D1F5C48D28E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сширение связей семьи и школы как обязательное условие повышения эффективности воспитательного процесс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484360" y="522900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лганова Т.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екоторые психолого-педагогические положения, для установления контактов с семьёй школьника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основе работы с семьей должны быть действия, направленные на укрепление и повышение авторитета родител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 отношению к воспитательным возможностям родителей со стороны педагога должно быть довер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едъявляя определенные требования, учитель должен соблюдать педагогический так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решении проблем воспитания обязательно нужно опираться на положительные качества как самого ребенка, так и семьи в целом, на сильные стороны воспитания в данной семь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ормы совместной деятельности семьи и школы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дивидуальная форма работ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лассные родительские собр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щешкольные собр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бота с родительским актив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Формы связи школы и семьи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дивидуальн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сещение на дому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глашение в школу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дивидуальные консультации педагог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писк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упп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одительский лектор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матические консультац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лассные детские мероприяти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одительские вече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ллек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лассные родительские собрани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щешкольные родительские собрани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ни открытых двере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церт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ставки учебных работ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ворческие отчет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 посещении учащегося на дому соблюдаются следующие правила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являть высокий такт в разговоре с родителями, всегда начинать с похвалы и комплим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ключать жалобы на ученика, говорить о проблемах, подсказывать пути их реше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предъявлять претензий к родителям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ячески подчеркивать свою заинтересованность судьбой воспитанник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веты и рекомендации давать ненавязчиво, взвешивать уровень своих требований и возможности семь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говариваться о конкретных совместных дел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давать беспочвенных обещаний, быть крайне сдержанным в сложных случаях, выражать осторожный оптимиз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мерная тематика родительских лекториев на учебный год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ктябрь -“Формирование у учащихся санитарно-гигиенических навыков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ябрь -“Внимание школьников. Пути повышения уровня внимания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кабрь -“Совместная работа семьи и школы в преодолении ребенком трудностей, испытываемых при изучении материала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евраль -“Своеобразие развития детей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прель -“Особенности поведения учеников 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й -“Организация свободного времени детей в период летних каникул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мерная тематика консультаций для родителей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 четверть - “Курение и статистика” (социальный педаго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I четверть - “Плохая память. Как ее развить?” (школьный психоло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четверть -“Трудный ребенок. Какой он?” (представитель из детской комнаты милици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ероприятия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ентябрь - Линейка “Здравствуй школа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кабрь - Новогодний праздни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евраль - Праздник “День Защитника Отечества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рт - Праздник “Для милых дам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й - Праздник “Они защищали Родину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й – Последний звон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49360"/>
            <a:ext cx="83059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Спасиб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за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внимание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Главная  идея воспитательной системы школы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риоритет развития актуальных и потенциальных возможностей личности,  ее способностей и потребностей, готовности к самопознанию, самореализ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дачи ВР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     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т воспитания любви к родной школе, к формированию гражданского самосознания, ответственности за судьбу     Род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      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риобщение детей к общечеловеческим ценностям, формирование у них адекватного этим ценностям пове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     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Развитие творческих способностей, предоставление возможности реализоваться в        соответствии со своими склонностями и интерес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Формирование стремления к здоровому  образу жизни, осознания  здоровья как одной из главных  жизненных ценностей.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Формирование потребности к самосовершенствованию и саморазвитию, способности успешно адаптироваться в окружающем ми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собенности воспитательного процесса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Целенаправленн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ногофактор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лительность и непрерыв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Комплекс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ариативность и неопределенность результа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вусторонность характе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отиворечивость процесса воспи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равственные качества воспитателя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любовью к детя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любовью к своему Отечеству и народ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обросовестностью в исполнении своих обязанност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терпеливость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твердостью характе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праведливость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скренней ласковостью и приветливостью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40160" y="1484280"/>
            <a:ext cx="6197400" cy="5113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Категории воспитания как систем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6400800" cy="4913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цесс воспитания сложен и многогранен. Он зависит от многих факторов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т сложившихся воспитательных отношений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т соответствия цели и действий по ее достижени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т интенсивности воспитания и самовоспит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т качества воспитательных действий педагога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т согласования педагогических действий и возможностей воспитаннико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т интенсивности воздействия на так называемую «внутреннюю сферу»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Г. И. Щукина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воспитанн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Система методов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изучения учащихся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седневное наблюдение за деятельностью и поведением учащихся в процессе учебных занятий и внеурочной рабо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агностические бесед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знакомление с документацией на учащих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ещение учащихся на дом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личные методы экспериментального изучения учащих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4T12:12:41Z</dcterms:created>
  <dc:creator>User</dc:creator>
  <dc:description/>
  <dc:language>en-US</dc:language>
  <cp:lastModifiedBy>User</cp:lastModifiedBy>
  <dcterms:modified xsi:type="dcterms:W3CDTF">2011-12-24T13:42:30Z</dcterms:modified>
  <cp:revision>2</cp:revision>
  <dc:subject/>
  <dc:title>Слайд 1</dc:title>
</cp:coreProperties>
</file>