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DBD4-DE41-440A-9A98-02D72C5F7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8190-52E4-4D70-9167-E2ED7769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E141-FBB8-4556-8614-2349C5135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4897-B885-4631-BE79-B2D760411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7FAC-9A14-4DB3-8DDC-E4DDDBD7F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EC3F7-215F-472C-BFF2-D24FCDA4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3AA7-901D-4BCC-861A-D45D9CB9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DB40-86E6-434F-8189-282FC320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EA653-7047-4620-94DB-C286471A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5A66D-F686-48F2-85DE-0A8FF1B7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1C9A-D54F-4ED8-ABDB-7B6A3FC6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3105-B27C-44D6-AF12-318263A6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C2A4-6861-49FC-AEEE-74058EFD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C3FA-F29B-4E48-807A-FE1159FE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C4C5-2587-4A11-A923-B4AB5B9C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8097-1163-4A7A-BE47-D82BD8FBA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7A00-B826-4907-9866-2126DEBF1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588A-0860-44F9-AA94-E5040940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B96E-1958-44BC-A95E-3865810E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ED17-B45A-4549-9912-6AE0E39E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7D7D-CDBA-48AE-A616-F6245828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50FD-41A3-409C-AAB2-8E1F395B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D0D0-A917-4766-A62C-664CACEE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4573-56B5-4197-BC50-710861AC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2194-6CFE-42C9-B35F-6A34F436E48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3D2A-FDCD-4613-BBEE-7410E466BFA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3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3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Тема: РАЗРЕЗЫ</a:t>
            </a: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по курсу Черчение</a:t>
            </a: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9 класс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3280" y="292428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равила построения и обозначения на чертеже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5734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МОУ «СОШ № 4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Глебова С.О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987640" y="2708280"/>
            <a:ext cx="2022480" cy="2448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219640" y="1916280"/>
            <a:ext cx="3745080" cy="3439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5" name=""/>
          <p:cNvSpPr/>
          <p:nvPr/>
        </p:nvSpPr>
        <p:spPr>
          <a:xfrm>
            <a:off x="2664000" y="47628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3366"/>
                </a:solidFill>
                <a:uFillTx/>
                <a:latin typeface="Arial"/>
              </a:rPr>
              <a:t>    </a:t>
            </a:r>
            <a:r>
              <a:rPr b="0" i="1" lang="en-US" sz="3600" spc="-1" strike="noStrike" u="sng">
                <a:solidFill>
                  <a:srgbClr val="003366"/>
                </a:solidFill>
                <a:uFillTx/>
                <a:latin typeface="Arial"/>
              </a:rPr>
              <a:t>Фронтальный разрез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84720" y="5589720"/>
            <a:ext cx="352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Секущая плоскость параллельна фронтальной плоскости проекци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08000" y="1268280"/>
            <a:ext cx="29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Размещается на месте главного вид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03640" y="1557360"/>
            <a:ext cx="574920" cy="28908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755640" y="2565360"/>
            <a:ext cx="1941480" cy="2016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 flipH="1" flipV="1">
            <a:off x="1763640" y="3645000"/>
            <a:ext cx="432000" cy="28728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1476360" y="4941720"/>
            <a:ext cx="1779480" cy="17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010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Профильный разрез.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26920" y="4005360"/>
            <a:ext cx="1879920" cy="2016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835280" y="2205000"/>
            <a:ext cx="155880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292720" y="1916280"/>
            <a:ext cx="3851280" cy="3500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3203640" y="5589720"/>
            <a:ext cx="396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Секущая плоскость параллельна профильной плоскости проекци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68360" y="5734080"/>
            <a:ext cx="430200" cy="28728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71640" y="1268280"/>
            <a:ext cx="63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Располагается на месте вида слев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08720" y="1484280"/>
            <a:ext cx="505080" cy="35892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3419640" y="3429000"/>
            <a:ext cx="1800000" cy="172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Горизонтальный разрез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9640" y="3500280"/>
            <a:ext cx="1581120" cy="1791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619280" y="4941720"/>
            <a:ext cx="1720800" cy="14320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5076720" y="1844640"/>
            <a:ext cx="3807000" cy="34988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908000" y="2421000"/>
            <a:ext cx="302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Секущая плоскость параллельна горизонтальной плоскости проекци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19640" y="5805360"/>
            <a:ext cx="37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ыполняется на месте вида сверху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32000" y="2637000"/>
            <a:ext cx="0" cy="57456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651640" y="5373360"/>
            <a:ext cx="360360" cy="43164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3203640" y="5013360"/>
            <a:ext cx="1849320" cy="164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339640" y="333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Задание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9640" y="1252440"/>
            <a:ext cx="81378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о учебнику А.Д. Ботвинников «Черчение»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34920" y="2492280"/>
            <a:ext cx="8209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на стр.139 задани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▼(заполните таблицу, по виду и разрезу найдите наглядные изображения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826920" y="3284640"/>
          <a:ext cx="7632720" cy="1009440"/>
        </p:xfrm>
        <a:graphic>
          <a:graphicData uri="http://schemas.openxmlformats.org/drawingml/2006/table">
            <a:tbl>
              <a:tblPr/>
              <a:tblGrid>
                <a:gridCol w="3241800"/>
                <a:gridCol w="1271520"/>
                <a:gridCol w="1566720"/>
                <a:gridCol w="155268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Виды и разрезы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глядное изображение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1446120" y="3702960"/>
            <a:ext cx="22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07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042920" y="5013360"/>
            <a:ext cx="3344760" cy="1584360"/>
            <a:chOff x="1042920" y="5013360"/>
            <a:chExt cx="3344760" cy="1584360"/>
          </a:xfrm>
        </p:grpSpPr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1042920" y="5013360"/>
              <a:ext cx="1233360" cy="15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>
              <a:off x="2266920" y="5013360"/>
              <a:ext cx="1011240" cy="15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3"/>
            <a:stretch/>
          </p:blipFill>
          <p:spPr>
            <a:xfrm>
              <a:off x="3274920" y="5013360"/>
              <a:ext cx="11127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1042920" y="5013360"/>
              <a:ext cx="215640" cy="398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124000" y="5013360"/>
              <a:ext cx="21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203280" y="5013360"/>
              <a:ext cx="21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4356000" y="4365720"/>
            <a:ext cx="1617480" cy="1398600"/>
            <a:chOff x="4356000" y="4365720"/>
            <a:chExt cx="1617480" cy="1398600"/>
          </a:xfrm>
        </p:grpSpPr>
        <p:pic>
          <p:nvPicPr>
            <p:cNvPr id="183" name="" descr=""/>
            <p:cNvPicPr/>
            <p:nvPr/>
          </p:nvPicPr>
          <p:blipFill>
            <a:blip r:embed="rId4"/>
            <a:stretch/>
          </p:blipFill>
          <p:spPr>
            <a:xfrm>
              <a:off x="4356000" y="4365720"/>
              <a:ext cx="1617480" cy="13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4356000" y="43657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5867280" y="5300640"/>
            <a:ext cx="1603440" cy="1301760"/>
            <a:chOff x="5867280" y="5300640"/>
            <a:chExt cx="1603440" cy="1301760"/>
          </a:xfrm>
        </p:grpSpPr>
        <p:pic>
          <p:nvPicPr>
            <p:cNvPr id="186" name="" descr=""/>
            <p:cNvPicPr/>
            <p:nvPr/>
          </p:nvPicPr>
          <p:blipFill>
            <a:blip r:embed="rId5"/>
            <a:stretch/>
          </p:blipFill>
          <p:spPr>
            <a:xfrm>
              <a:off x="5867280" y="5300640"/>
              <a:ext cx="1603440" cy="13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938920" y="530064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Б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236000" y="4437000"/>
            <a:ext cx="1536480" cy="1260360"/>
            <a:chOff x="7236000" y="4437000"/>
            <a:chExt cx="1536480" cy="1260360"/>
          </a:xfrm>
        </p:grpSpPr>
        <p:pic>
          <p:nvPicPr>
            <p:cNvPr id="189" name="" descr=""/>
            <p:cNvPicPr/>
            <p:nvPr/>
          </p:nvPicPr>
          <p:blipFill>
            <a:blip r:embed="rId6"/>
            <a:stretch/>
          </p:blipFill>
          <p:spPr>
            <a:xfrm>
              <a:off x="7236000" y="4437000"/>
              <a:ext cx="1536480" cy="12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7236000" y="4437000"/>
              <a:ext cx="28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2625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1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33360" y="1890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Задание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19280" y="1268280"/>
            <a:ext cx="691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о учебнику А.Д. Ботвинников «Черчение» 7-8 класс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55640" y="234936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на стр. 142 задание ▼(заполните таблицу, по виду и разрезу найдите наглядные изображения и профильные разрезы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900000" y="3068640"/>
          <a:ext cx="7921800" cy="1185840"/>
        </p:xfrm>
        <a:graphic>
          <a:graphicData uri="http://schemas.openxmlformats.org/drawingml/2006/table">
            <a:tbl>
              <a:tblPr/>
              <a:tblGrid>
                <a:gridCol w="2951280"/>
                <a:gridCol w="1704960"/>
                <a:gridCol w="1596960"/>
                <a:gridCol w="1668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Виды и разрезы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глядные изображения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офильные разрезы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5" name=""/>
          <p:cNvGrpSpPr/>
          <p:nvPr/>
        </p:nvGrpSpPr>
        <p:grpSpPr>
          <a:xfrm>
            <a:off x="900000" y="4365720"/>
            <a:ext cx="3384360" cy="1224000"/>
            <a:chOff x="900000" y="4365720"/>
            <a:chExt cx="3384360" cy="1224000"/>
          </a:xfrm>
        </p:grpSpPr>
        <p:pic>
          <p:nvPicPr>
            <p:cNvPr id="196" name="" descr=""/>
            <p:cNvPicPr/>
            <p:nvPr/>
          </p:nvPicPr>
          <p:blipFill>
            <a:blip r:embed="rId1"/>
            <a:stretch/>
          </p:blipFill>
          <p:spPr>
            <a:xfrm>
              <a:off x="900000" y="4365720"/>
              <a:ext cx="117108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2"/>
            <a:stretch/>
          </p:blipFill>
          <p:spPr>
            <a:xfrm>
              <a:off x="2071080" y="4365720"/>
              <a:ext cx="111096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3"/>
            <a:stretch/>
          </p:blipFill>
          <p:spPr>
            <a:xfrm>
              <a:off x="3177720" y="4365720"/>
              <a:ext cx="110664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964440" y="4365720"/>
              <a:ext cx="1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006280" y="4365720"/>
              <a:ext cx="1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177720" y="4365720"/>
              <a:ext cx="1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4356000" y="4365720"/>
            <a:ext cx="4465440" cy="1368000"/>
            <a:chOff x="4356000" y="4365720"/>
            <a:chExt cx="4465440" cy="1368000"/>
          </a:xfrm>
        </p:grpSpPr>
        <p:pic>
          <p:nvPicPr>
            <p:cNvPr id="203" name="" descr=""/>
            <p:cNvPicPr/>
            <p:nvPr/>
          </p:nvPicPr>
          <p:blipFill>
            <a:blip r:embed="rId4"/>
            <a:stretch/>
          </p:blipFill>
          <p:spPr>
            <a:xfrm>
              <a:off x="4434120" y="4437360"/>
              <a:ext cx="1427040" cy="129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5"/>
            <a:stretch/>
          </p:blipFill>
          <p:spPr>
            <a:xfrm>
              <a:off x="5819040" y="4437360"/>
              <a:ext cx="1658160" cy="128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6"/>
            <a:stretch/>
          </p:blipFill>
          <p:spPr>
            <a:xfrm>
              <a:off x="7358400" y="4437360"/>
              <a:ext cx="1463040" cy="128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4356000" y="4365720"/>
              <a:ext cx="30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42720" y="4437360"/>
              <a:ext cx="30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Б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205760" y="4437360"/>
              <a:ext cx="30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2627280" y="5773680"/>
            <a:ext cx="3571920" cy="1083960"/>
            <a:chOff x="2627280" y="5773680"/>
            <a:chExt cx="3571920" cy="1083960"/>
          </a:xfrm>
        </p:grpSpPr>
        <p:pic>
          <p:nvPicPr>
            <p:cNvPr id="210" name="" descr=""/>
            <p:cNvPicPr/>
            <p:nvPr/>
          </p:nvPicPr>
          <p:blipFill>
            <a:blip r:embed="rId7"/>
            <a:stretch/>
          </p:blipFill>
          <p:spPr>
            <a:xfrm>
              <a:off x="2627280" y="5773680"/>
              <a:ext cx="3571920" cy="108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2987640" y="577368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К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282920" y="577368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Л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580000" y="577368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М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Источники информации: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Черчение. 9 класс: Поурочные планы/ Авт.-сост. С.В. Титов.- Волгоград: Учитель, 2005.-190 с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Ботвинников А.Д.  Черчение. Учебник для средней общеобразовательной школы – Москва «Просвещение» - 2000 г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4280"/>
                            </p:stCondLst>
                            <p:childTnLst>
                              <p:par>
                                <p:cTn id="5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3" dur="8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4" dur="8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Цели и задачи данного курс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 формировании представлений о графических средствах  отображения информац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 развитии пространственного воображения и пространственных представлени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 обучении чтению и выполнении чертеже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 закреплении знаний учащихся об изображении и обозначении сечений и разрезов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 формировании умения выполнять разрезы на чертежах детале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 воспитании культуры графического труд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800"/>
                            </p:stCondLst>
                            <p:childTnLst>
                              <p:par>
                                <p:cTn id="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560"/>
                            </p:stCondLst>
                            <p:childTnLst>
                              <p:par>
                                <p:cTn id="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8000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760"/>
                            </p:stCondLst>
                            <p:childTnLst>
                              <p:par>
                                <p:cTn id="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2920"/>
                            </p:stCondLst>
                            <p:childTnLst>
                              <p:par>
                                <p:cTn id="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99280" y="83700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онятие о разрезе как изображении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азначение разреза на чертеж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лучение разреза на чертеж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тличие разреза от сече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иды разрезо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800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18920" y="83664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Назначение разрезов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42920" y="2852280"/>
            <a:ext cx="7850160" cy="29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увеличение наглядности чертежа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облегчение его чтения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6666"/>
                </a:solidFill>
                <a:latin typeface="Arial"/>
              </a:rPr>
              <a:t>Получение разреза.</a:t>
            </a:r>
            <a:endParaRPr b="1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00000" y="3429000"/>
            <a:ext cx="2619360" cy="2438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924360" y="2421000"/>
            <a:ext cx="2495520" cy="2857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516720" y="2349360"/>
            <a:ext cx="2314440" cy="2343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900000" y="3213000"/>
            <a:ext cx="233064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63640" y="47628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 u="sng">
                <a:solidFill>
                  <a:srgbClr val="006666"/>
                </a:solidFill>
                <a:uFillTx/>
                <a:latin typeface="Arial"/>
              </a:rPr>
              <a:t>Разрезом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называется изображение, полученное при мысленном рассечении детали одной или несколькими секущими плоскостями.</a:t>
            </a:r>
            <a:r>
              <a:rPr b="1" lang="en-US" sz="2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219640" y="2432160"/>
            <a:ext cx="2305080" cy="1771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619280" y="2349360"/>
            <a:ext cx="2557440" cy="3672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003640" y="465300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 разрезах показывается то, что получается в секущей плоскости и за ней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равнение разрезов и сечений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24000" y="2376360"/>
            <a:ext cx="2232000" cy="1871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332000" y="4292640"/>
            <a:ext cx="2017800" cy="1995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995640" y="2492280"/>
            <a:ext cx="4897440" cy="247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равнение разрезов и сечений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187280" y="2492280"/>
          <a:ext cx="7572600" cy="3778200"/>
        </p:xfrm>
        <a:graphic>
          <a:graphicData uri="http://schemas.openxmlformats.org/drawingml/2006/table">
            <a:tbl>
              <a:tblPr/>
              <a:tblGrid>
                <a:gridCol w="2162520"/>
                <a:gridCol w="2563560"/>
                <a:gridCol w="28465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Графические 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зображения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ечение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азрез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омер 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зображения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тличия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4624560" y="6589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465300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Изображают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только фигуру, находящуюся в плоскости сече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4653000"/>
            <a:ext cx="29512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Изображают фигуру, находящуюся в плоскости сечения, и то, что расположено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за не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32720" y="3573360"/>
            <a:ext cx="934920" cy="892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067280" y="3500280"/>
            <a:ext cx="617400" cy="10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77080" y="5229360"/>
            <a:ext cx="1657440" cy="431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По расположению в пространств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763640" y="4365720"/>
            <a:ext cx="1927080" cy="1393560"/>
            <a:chOff x="1763640" y="4365720"/>
            <a:chExt cx="1927080" cy="1393560"/>
          </a:xfrm>
        </p:grpSpPr>
        <p:sp>
          <p:nvSpPr>
            <p:cNvPr id="126" name=""/>
            <p:cNvSpPr/>
            <p:nvPr/>
          </p:nvSpPr>
          <p:spPr>
            <a:xfrm flipH="1">
              <a:off x="3060360" y="4365720"/>
              <a:ext cx="630360" cy="8301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763640" y="5229360"/>
              <a:ext cx="1774800" cy="52992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Профильные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076720" y="3068640"/>
            <a:ext cx="3385440" cy="1296720"/>
            <a:chOff x="5076720" y="3068640"/>
            <a:chExt cx="3385440" cy="1296720"/>
          </a:xfrm>
        </p:grpSpPr>
        <p:sp>
          <p:nvSpPr>
            <p:cNvPr id="129" name=""/>
            <p:cNvSpPr/>
            <p:nvPr/>
          </p:nvSpPr>
          <p:spPr>
            <a:xfrm>
              <a:off x="5076720" y="3068640"/>
              <a:ext cx="1322640" cy="351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70840" y="3426840"/>
              <a:ext cx="3091320" cy="93852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Сложные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Получаются при мысленном рассечении детали несколькими секущими плоскостями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900000" y="4365720"/>
            <a:ext cx="1800360" cy="725400"/>
            <a:chOff x="900000" y="4365720"/>
            <a:chExt cx="1800360" cy="725400"/>
          </a:xfrm>
        </p:grpSpPr>
        <p:sp>
          <p:nvSpPr>
            <p:cNvPr id="132" name=""/>
            <p:cNvSpPr/>
            <p:nvPr/>
          </p:nvSpPr>
          <p:spPr>
            <a:xfrm flipH="1">
              <a:off x="1620360" y="4365720"/>
              <a:ext cx="978120" cy="2937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00000" y="4653000"/>
              <a:ext cx="1800360" cy="43812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Фронтальные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476360" y="3068640"/>
            <a:ext cx="3168000" cy="1296720"/>
            <a:chOff x="1476360" y="3068640"/>
            <a:chExt cx="3168000" cy="1296720"/>
          </a:xfrm>
        </p:grpSpPr>
        <p:sp>
          <p:nvSpPr>
            <p:cNvPr id="135" name=""/>
            <p:cNvSpPr/>
            <p:nvPr/>
          </p:nvSpPr>
          <p:spPr>
            <a:xfrm flipH="1">
              <a:off x="3739320" y="3068640"/>
              <a:ext cx="905040" cy="351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76360" y="3426840"/>
              <a:ext cx="3017880" cy="93852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Простые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Получаются при мысленном рассечении детали одной секущей плоскостью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851280" y="2492280"/>
            <a:ext cx="2305080" cy="576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Разрез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40000" y="76500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Виды разрезов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924360" y="4365720"/>
            <a:ext cx="2074320" cy="1368360"/>
            <a:chOff x="3924360" y="4365720"/>
            <a:chExt cx="2074320" cy="1368360"/>
          </a:xfrm>
        </p:grpSpPr>
        <p:sp>
          <p:nvSpPr>
            <p:cNvPr id="140" name=""/>
            <p:cNvSpPr/>
            <p:nvPr/>
          </p:nvSpPr>
          <p:spPr>
            <a:xfrm>
              <a:off x="3924360" y="4365720"/>
              <a:ext cx="691920" cy="8301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62240" y="5203800"/>
              <a:ext cx="1936440" cy="5302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Горизонтальные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156360" y="5373720"/>
            <a:ext cx="647640" cy="73080"/>
          </a:xfrm>
          <a:prstGeom prst="leftArrow">
            <a:avLst>
              <a:gd name="adj1" fmla="val 50000"/>
              <a:gd name="adj2" fmla="val 221552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000"/>
                            </p:stCondLst>
                            <p:childTnLst>
                              <p:par>
                                <p:cTn id="2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0"/>
                            </p:stCondLst>
                            <p:childTnLst>
                              <p:par>
                                <p:cTn id="3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7000"/>
                            </p:stCondLst>
                            <p:childTnLst>
                              <p:par>
                                <p:cTn id="3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30:54Z</dcterms:created>
  <dc:creator>ALEX</dc:creator>
  <dc:description/>
  <dc:language>en-US</dc:language>
  <cp:lastModifiedBy>1</cp:lastModifiedBy>
  <dcterms:modified xsi:type="dcterms:W3CDTF">2012-02-18T16:41:25Z</dcterms:modified>
  <cp:revision>10</cp:revision>
  <dc:subject/>
  <dc:title>РАЗРЕЗЫ</dc:title>
</cp:coreProperties>
</file>