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9DB2-A30D-41E5-8378-C64A533A8E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B50-E49A-4525-A2F3-06F8DFF5B2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228B-2FED-4F81-BCC3-AF7F20B6C1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EAA-9EA7-41F8-9C58-3F61EFC0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70D-9475-4603-A079-51A93532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E34-77FA-45B4-BB53-5532B129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DFB-50F3-4C4B-9152-BC360BC5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FF54-B141-4C57-B49D-4CEEBBC1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CE0B-24BA-4F32-874F-59C05188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8636-07E0-4FB0-8072-F600B09E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7DD6-F0D6-4369-B17B-742B4F89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E64-8DC6-4624-93E4-ED8C4F9F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0146-CACC-4A54-B1C7-4E39B984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36AF-D464-478F-B4FA-F375A87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DAD-7F7D-4F85-A899-9F795F6E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88E5-436E-4117-BDEF-1E89C13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D207-A4D5-4A63-B2C8-6722BE1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74DE-E906-4D18-BABE-34A31DE9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C5D5-DEAF-4F58-8829-011AF2F4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020F-8CEC-4A31-9FE1-274B2EB0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3AD56-02E9-4442-9BAF-0EB9CA02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2DD5A-C913-4661-A47D-BE3DA48A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2A436-43CD-41D5-A261-B2796FA1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3FA34-33F7-441A-B6FF-1B853CED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999BF-DD91-431F-BAC4-9A316492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157-AF55-436E-A56F-A1DC3D9F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25581-48D0-40ED-A165-EFD20C7C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FAB6D-C1F7-4AE5-80F8-6C761AE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AD549-0CD2-487F-8A5B-8274F5C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2EAD5-A77C-41D6-9E8A-EB3B9E70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C5AB0-7022-468E-B96B-6E6102D1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D1C02-A809-4D80-BE50-27A0436C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9E7B0-EB52-46C9-835A-C31D624F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2E5F-D43C-4400-A60D-72BF0A29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2E89-D293-41C1-83C7-779BF2D2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B8E1-427D-44A9-8C6C-81099697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ACA-73D7-4AB3-B17F-0CEA92B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1EBE-B30A-41EB-9229-8920A996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8976-6743-43BB-BE96-861DC7E9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E8D24-9966-4EA6-B35E-3441D4EF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173DD-1AB7-468C-B3D8-1A9E43E0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5F37-84C4-4882-B786-531EB05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23A2-9AE6-4A00-938F-002BEE9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9B83-8E28-4ACC-A1DE-06F86B31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774C-6A8E-4CB9-A8BE-481C28C3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9883-F267-4A8C-932B-EB2B1F83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DB1C9-CD98-4745-A9D4-29127E7B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E0D-B0F3-41AE-938D-BEF0E404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FA9A9-EA67-47FF-81F1-6EDC4625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EB7A8-ECD9-458C-AD24-C00873B0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5FD84-DF8A-4831-964B-995200C2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796EB-2BD9-449C-8134-F62103A0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4A236-D88A-4645-B188-0C29A528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7CA34-4C9D-4792-9921-3D7A91F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28E1A-A058-46E8-A176-C889149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8B46C-6DAA-4448-A221-EB0385A3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A2911-3DA0-4C2E-94AA-47A3537C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59F77-0777-46E4-8C62-6F28430A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364-E8B0-47C4-A920-4D3156CC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461D1-FBA0-4AEA-B441-C7A41F81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458B9-C192-4F90-9ECB-5B9C9AD9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4ACE1-B761-4878-957E-F5DA381E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ADD5C-74E1-4960-97CE-E8C2795B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FDF98-415F-4847-92ED-E311F59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A8E8C-22D3-4286-AC9B-F0CBAAD9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26FE0-10CE-407C-AF94-4362D637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1C84A-4B70-4FC0-BF7E-A492F82C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AA22C-77BB-4D3B-8095-EFB0246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7DFCC-9BA9-40A1-84AE-1B99643D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A15-5410-4223-85DC-9ACFB4E1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490B2-C19A-486D-A30F-CB2938B8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5AB85-6340-43E0-9C16-4ECAD16D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72C38-C7B3-4C9C-8D56-C3E9C9FF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F68D6-48EE-4887-92EF-81B03FBF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58B5F-9E52-4786-B2DC-F139D29A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4081E-C15E-4E0F-82B4-44ED26EE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77746-F871-4101-8F2E-F2F0ACEA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4A020-91AF-4A7B-926A-091BA322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81697-913C-4CE3-A8EF-BFF3A8E5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05EFE-C361-460A-82B0-F397A63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8F4-5F1E-4FD9-A90B-627ECD4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A6E21-5FB8-4F82-BB90-CC7DAC0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91D61-B53C-45A0-93FD-30C1FBF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E00C8-9290-49D6-A829-66C956DD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796DA-182E-40BA-96EA-2ABD9504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0B929-DAB1-43E7-976E-07B88641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82F-6C74-4B9F-B441-4912559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49E5-79FA-46A9-A434-02AA3ED820E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F1D9-C431-464E-8A48-87798C2BCAE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B030-70EB-466D-8A79-616FAB342F27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9391-0FFA-45B3-86F0-CE517C21BF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3302-31AB-4289-B09F-36B9769B35A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F8E3-CCC6-4BC6-8B78-931D0B5BF0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2744-4E22-4C13-ADC0-21176EA0C6FC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AE0F-078E-45F4-9BD0-84E4F1C62D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731D-937F-4A74-9BD8-8221418B1ED3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F749-DB8B-4EE6-905A-3904D9F6ADB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CB5B-1225-420F-A7B0-8CAC71774D0A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8043-834C-4661-9F3C-2B20CDBCC2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A334-4891-454F-9093-7F6B67D052B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8F15-5D2D-4F85-9F69-BB7FF59182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РУССКИЙ ЯЗЫК В ТАБЛИЦАХ  </a:t>
            </a: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 5-9 КЛАСС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Орфографические пятиминутк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br>
              <a:rPr sz="2200"/>
            </a:b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3657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-пл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в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л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л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их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-пл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ы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в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л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ун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270320" y="160020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-пл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а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в-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с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 остальные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л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л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и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л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ят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249B-9E3F-4809-B7A7-B8143C46900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609480" y="4800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словами 1-го столбика составьте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36576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л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270320" y="1600200"/>
            <a:ext cx="36576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с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ч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4867-1B30-422B-AE0B-98D5D278809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45720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е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ок, ск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, ск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2280" y="11430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мак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погрузить в жидкость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57B2-1205-4E38-BFD1-79EB6FFE4DE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rcRect l="29862" t="19444" r="59724" b="66671"/>
          <a:stretch/>
        </p:blipFill>
        <p:spPr>
          <a:xfrm>
            <a:off x="228600" y="2438280"/>
            <a:ext cx="3962520" cy="4138560"/>
          </a:xfrm>
          <a:prstGeom prst="rect">
            <a:avLst/>
          </a:prstGeom>
          <a:ln w="0">
            <a:noFill/>
          </a:ln>
        </p:spPr>
      </p:pic>
      <p:grpSp>
        <p:nvGrpSpPr>
          <p:cNvPr id="437" name="TextBox 6"/>
          <p:cNvGrpSpPr/>
          <p:nvPr/>
        </p:nvGrpSpPr>
        <p:grpSpPr>
          <a:xfrm>
            <a:off x="450720" y="3882960"/>
            <a:ext cx="2908440" cy="1206720"/>
            <a:chOff x="450720" y="3882960"/>
            <a:chExt cx="2908440" cy="1206720"/>
          </a:xfrm>
        </p:grpSpPr>
        <p:pic>
          <p:nvPicPr>
            <p:cNvPr id="438" name="TextBox 6" descr=""/>
            <p:cNvPicPr/>
            <p:nvPr/>
          </p:nvPicPr>
          <p:blipFill>
            <a:blip r:embed="rId2"/>
            <a:stretch/>
          </p:blipFill>
          <p:spPr>
            <a:xfrm>
              <a:off x="450720" y="3882960"/>
              <a:ext cx="290844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57200" y="388620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кать в ч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кнуть в моло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каешь в ме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обм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кнуть в сметан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3" descr=""/>
          <p:cNvPicPr/>
          <p:nvPr/>
        </p:nvPicPr>
        <p:blipFill>
          <a:blip r:embed="rId3"/>
          <a:srcRect l="43665" t="19444" r="31339" b="33338"/>
          <a:stretch/>
        </p:blipFill>
        <p:spPr>
          <a:xfrm>
            <a:off x="5486400" y="190512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4"/>
          <a:srcRect l="35417" t="34261" r="54170" b="37743"/>
          <a:stretch/>
        </p:blipFill>
        <p:spPr>
          <a:xfrm>
            <a:off x="4419720" y="2590920"/>
            <a:ext cx="1143000" cy="33526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9"/>
          <p:cNvSpPr/>
          <p:nvPr/>
        </p:nvSpPr>
        <p:spPr>
          <a:xfrm>
            <a:off x="3809880" y="1143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мок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пропустить жидкость, промокнуть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0"/>
          <p:cNvSpPr/>
          <p:nvPr/>
        </p:nvSpPr>
        <p:spPr>
          <a:xfrm>
            <a:off x="5562720" y="2971800"/>
            <a:ext cx="27432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р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мый пла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1"/>
          <p:cNvSpPr/>
          <p:nvPr/>
        </p:nvSpPr>
        <p:spPr>
          <a:xfrm>
            <a:off x="4114800" y="4419720"/>
            <a:ext cx="19810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 н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27D7-AC34-4082-8185-3A97C948F28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rcRect l="24196" t="17743" r="25807" b="39248"/>
          <a:stretch/>
        </p:blipFill>
        <p:spPr>
          <a:xfrm>
            <a:off x="914400" y="3276720"/>
            <a:ext cx="2362320" cy="1523880"/>
          </a:xfrm>
          <a:prstGeom prst="rect">
            <a:avLst/>
          </a:prstGeom>
          <a:ln w="0">
            <a:noFill/>
          </a:ln>
        </p:spPr>
      </p:pic>
      <p:sp>
        <p:nvSpPr>
          <p:cNvPr id="448" name="TextBox 6"/>
          <p:cNvSpPr/>
          <p:nvPr/>
        </p:nvSpPr>
        <p:spPr>
          <a:xfrm>
            <a:off x="457200" y="1143000"/>
            <a:ext cx="3276720" cy="177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-р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н-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вная, гладкая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ть дорог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ть с зем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ть ку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457200" y="5105520"/>
            <a:ext cx="3505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ение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2"/>
          <a:srcRect l="44403" t="36409" r="29652" b="38880"/>
          <a:stretch/>
        </p:blipFill>
        <p:spPr>
          <a:xfrm>
            <a:off x="6705720" y="1981080"/>
            <a:ext cx="1706400" cy="121932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0"/>
          <p:cNvSpPr/>
          <p:nvPr/>
        </p:nvSpPr>
        <p:spPr>
          <a:xfrm>
            <a:off x="5029200" y="1066680"/>
            <a:ext cx="373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н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равный, одинаков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торо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Равнобедренный треугольник 11"/>
          <p:cNvSpPr/>
          <p:nvPr/>
        </p:nvSpPr>
        <p:spPr>
          <a:xfrm>
            <a:off x="7315200" y="3200400"/>
            <a:ext cx="685800" cy="60948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3"/>
          <p:cNvSpPr/>
          <p:nvPr/>
        </p:nvSpPr>
        <p:spPr>
          <a:xfrm>
            <a:off x="7829640" y="350532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2"/>
          <p:cNvSpPr/>
          <p:nvPr/>
        </p:nvSpPr>
        <p:spPr>
          <a:xfrm>
            <a:off x="6019920" y="4038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+2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ИСТАВКИ НА З- И С-</a:t>
            </a:r>
            <a:br>
              <a:rPr sz="3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(БЕЗ-, ВОЗ-, ВЗ-, ИЗ-, НИЗ-, РАЗ-, ЧРЕЗ-)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1274-A169-4628-9B74-6AECB234B1A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28240" y="1828440"/>
            <a:ext cx="38862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з</a:t>
            </a:r>
            <a:br>
              <a:rPr sz="4800"/>
            </a:b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(перед звонкими согласным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б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жать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в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озиться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д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ргатьс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495680" y="1828440"/>
            <a:ext cx="38102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c</a:t>
            </a:r>
            <a:br>
              <a:rPr sz="4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перед глухими согласными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br>
              <a:rPr sz="1800"/>
            </a:b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чь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шать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ц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лить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Прямая соединительная линия 6"/>
          <p:cNvSpPr/>
          <p:nvPr/>
        </p:nvSpPr>
        <p:spPr>
          <a:xfrm>
            <a:off x="609480" y="281952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8"/>
          <p:cNvSpPr/>
          <p:nvPr/>
        </p:nvSpPr>
        <p:spPr>
          <a:xfrm flipH="1">
            <a:off x="1066320" y="281952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9"/>
          <p:cNvSpPr/>
          <p:nvPr/>
        </p:nvSpPr>
        <p:spPr>
          <a:xfrm>
            <a:off x="609480" y="3352680"/>
            <a:ext cx="457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10"/>
          <p:cNvSpPr/>
          <p:nvPr/>
        </p:nvSpPr>
        <p:spPr>
          <a:xfrm flipH="1">
            <a:off x="1066320" y="3352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11"/>
          <p:cNvSpPr/>
          <p:nvPr/>
        </p:nvSpPr>
        <p:spPr>
          <a:xfrm>
            <a:off x="609480" y="373392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12"/>
          <p:cNvSpPr/>
          <p:nvPr/>
        </p:nvSpPr>
        <p:spPr>
          <a:xfrm flipH="1">
            <a:off x="1066320" y="373392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13"/>
          <p:cNvSpPr/>
          <p:nvPr/>
        </p:nvSpPr>
        <p:spPr>
          <a:xfrm>
            <a:off x="4876920" y="365760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14"/>
          <p:cNvSpPr/>
          <p:nvPr/>
        </p:nvSpPr>
        <p:spPr>
          <a:xfrm flipH="1">
            <a:off x="5334120" y="36576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15"/>
          <p:cNvSpPr/>
          <p:nvPr/>
        </p:nvSpPr>
        <p:spPr>
          <a:xfrm>
            <a:off x="4876920" y="320040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16"/>
          <p:cNvSpPr/>
          <p:nvPr/>
        </p:nvSpPr>
        <p:spPr>
          <a:xfrm flipH="1">
            <a:off x="5334120" y="32004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17"/>
          <p:cNvSpPr/>
          <p:nvPr/>
        </p:nvSpPr>
        <p:spPr>
          <a:xfrm>
            <a:off x="4800600" y="281952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ая соединительная линия 18"/>
          <p:cNvSpPr/>
          <p:nvPr/>
        </p:nvSpPr>
        <p:spPr>
          <a:xfrm flipH="1">
            <a:off x="5334120" y="281952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457200" y="4343400"/>
            <a:ext cx="762012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…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часть кор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десь,  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дание,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Дуга 28"/>
          <p:cNvSpPr/>
          <p:nvPr/>
        </p:nvSpPr>
        <p:spPr>
          <a:xfrm>
            <a:off x="3200400" y="5181480"/>
            <a:ext cx="1523880" cy="12193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Дуга 29"/>
          <p:cNvSpPr/>
          <p:nvPr/>
        </p:nvSpPr>
        <p:spPr>
          <a:xfrm>
            <a:off x="1905120" y="5181480"/>
            <a:ext cx="990360" cy="9144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Дуга 31"/>
          <p:cNvSpPr/>
          <p:nvPr/>
        </p:nvSpPr>
        <p:spPr>
          <a:xfrm>
            <a:off x="4724280" y="5105520"/>
            <a:ext cx="1905120" cy="13716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575f6d"/>
                </a:solidFill>
                <a:latin typeface="Century Schoolbook"/>
              </a:rPr>
              <a:t>ПРАВОПИСАНИЕ О И (Ё) ПОСЛЕ ШИПЯЩИ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8960"/>
            <a:ext cx="3200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Пиш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ё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если есть однокоренное 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е</a:t>
            </a:r>
            <a:br>
              <a:rPr sz="20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ч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о – ч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ё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к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щ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а – щ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ё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ч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а – пч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ё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ы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беч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а – беч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ё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33920" y="1142640"/>
            <a:ext cx="48736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Все остальные  - 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о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лад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бж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ч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р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ей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ы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глё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ты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м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мпо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зж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ох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апю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се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рыж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ни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фёр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чащ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б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ч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трущ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б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тландец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трещ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тк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нч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с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рти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борж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8692-7D82-48F3-AABD-B6E55379E83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"/>
          <p:cNvSpPr/>
          <p:nvPr/>
        </p:nvSpPr>
        <p:spPr>
          <a:xfrm>
            <a:off x="1600200" y="7621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ко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457200" y="3886200"/>
            <a:ext cx="3200400" cy="23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-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существительных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на ру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л ож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ж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глаго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ру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ж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ко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УПОТРЕБЛЕНИЕ ДЕФИС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6840" y="1600200"/>
            <a:ext cx="380988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ложные существительны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юго-вост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иван-кров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л-лимо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л-апельси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л-Москв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лавянск-на-Куба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419360" y="1600200"/>
            <a:ext cx="4267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ложные прилагательны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но-красн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ясо-молочный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бинат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веро-восточн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Юго-восточная равни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03D8-F208-44F3-8AE3-0A2CF6127CC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5"/>
          <p:cNvSpPr/>
          <p:nvPr/>
        </p:nvSpPr>
        <p:spPr>
          <a:xfrm>
            <a:off x="533520" y="990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ложные предл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-за, из-под, по-за, по-н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7"/>
          <p:cNvSpPr/>
          <p:nvPr/>
        </p:nvSpPr>
        <p:spPr>
          <a:xfrm>
            <a:off x="380880" y="5334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Неопределенные местоим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то-то, какой-нибудь, что-либо, кое-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Группа 12"/>
          <p:cNvGrpSpPr/>
          <p:nvPr/>
        </p:nvGrpSpPr>
        <p:grpSpPr>
          <a:xfrm>
            <a:off x="1171080" y="5715720"/>
            <a:ext cx="4772520" cy="913320"/>
            <a:chOff x="1171080" y="5715720"/>
            <a:chExt cx="4772520" cy="913320"/>
          </a:xfrm>
        </p:grpSpPr>
        <p:sp>
          <p:nvSpPr>
            <p:cNvPr id="488" name="Половина рамки 8"/>
            <p:cNvSpPr/>
            <p:nvPr/>
          </p:nvSpPr>
          <p:spPr>
            <a:xfrm rot="2661600">
              <a:off x="1218960" y="6095520"/>
              <a:ext cx="207720" cy="22212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оловина рамки 9"/>
            <p:cNvSpPr/>
            <p:nvPr/>
          </p:nvSpPr>
          <p:spPr>
            <a:xfrm rot="2661600">
              <a:off x="2949120" y="5853240"/>
              <a:ext cx="653760" cy="63792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Половина рамки 10"/>
            <p:cNvSpPr/>
            <p:nvPr/>
          </p:nvSpPr>
          <p:spPr>
            <a:xfrm rot="2661600">
              <a:off x="4821120" y="5951520"/>
              <a:ext cx="419040" cy="44604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Половина рамки 11"/>
            <p:cNvSpPr/>
            <p:nvPr/>
          </p:nvSpPr>
          <p:spPr>
            <a:xfrm flipV="1" rot="10800000">
              <a:off x="5562720" y="6094800"/>
              <a:ext cx="380880" cy="15228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5438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ДЕФИСНОЕ И СЛИТНОЕ НАПИСАНИЕ СЛОВ С </a:t>
            </a:r>
            <a:r>
              <a:rPr b="1" i="1" lang="ru-RU" sz="2200" spc="-1" strike="noStrike">
                <a:solidFill>
                  <a:srgbClr val="575f6d"/>
                </a:solidFill>
                <a:latin typeface="Century Schoolbook"/>
              </a:rPr>
              <a:t>ПОЛ-</a:t>
            </a: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 И </a:t>
            </a:r>
            <a:r>
              <a:rPr b="1" i="1" lang="ru-RU" sz="2200" spc="-1" strike="noStrike">
                <a:solidFill>
                  <a:srgbClr val="575f6d"/>
                </a:solidFill>
                <a:latin typeface="Century Schoolbook"/>
              </a:rPr>
              <a:t>ПОЛУ-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365760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торой корень с буквы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л-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л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имон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л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ун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02120" indent="-4021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торой корень с гласной букв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пельсин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гурц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02120" indent="-4021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торой корень с заглавной буквы</a:t>
            </a:r>
            <a:br>
              <a:rPr sz="2000"/>
            </a:b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М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осквы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В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олг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419720" y="1599840"/>
            <a:ext cx="36576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торой корень с согласной буквы</a:t>
            </a:r>
            <a:br>
              <a:rPr sz="20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л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м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ира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л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о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97440" indent="-397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лу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всегда:</a:t>
            </a:r>
            <a:br>
              <a:rPr sz="20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лу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мрак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лу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годие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лу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сфер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89240" y="94644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375440" y="94644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Слитн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4362-5320-41B7-A9D7-B02AECABCD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ПРАВОПИСАНИЕ О И (Ё) ПОСЛЕ ШИПЯЩИХ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28DD-6122-4AE0-B3EB-C30E7E0BC02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5"/>
          <p:cNvSpPr/>
          <p:nvPr/>
        </p:nvSpPr>
        <p:spPr>
          <a:xfrm>
            <a:off x="533520" y="8380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ительные, прилага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57200" y="1447920"/>
          <a:ext cx="7848720" cy="4754520"/>
        </p:xfrm>
        <a:graphic>
          <a:graphicData uri="http://schemas.openxmlformats.org/drawingml/2006/table">
            <a:tbl>
              <a:tblPr/>
              <a:tblGrid>
                <a:gridCol w="4191120"/>
                <a:gridCol w="3657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- под удар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- без уд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омяч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     -ок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ч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онк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рач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к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-онок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рц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олщ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соч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рош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ж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тц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ьш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уж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люч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агаж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орош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гож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аж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тч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502" name="Половина рамки 9"/>
          <p:cNvSpPr/>
          <p:nvPr/>
        </p:nvSpPr>
        <p:spPr>
          <a:xfrm rot="2661600">
            <a:off x="2514240" y="2286000"/>
            <a:ext cx="208080" cy="2221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оловина рамки 10"/>
          <p:cNvSpPr/>
          <p:nvPr/>
        </p:nvSpPr>
        <p:spPr>
          <a:xfrm rot="2661600">
            <a:off x="2743200" y="2590920"/>
            <a:ext cx="380880" cy="3729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оловина рамки 11"/>
          <p:cNvSpPr/>
          <p:nvPr/>
        </p:nvSpPr>
        <p:spPr>
          <a:xfrm rot="2661600">
            <a:off x="3276360" y="2971800"/>
            <a:ext cx="431640" cy="4316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оловина рамки 12"/>
          <p:cNvSpPr/>
          <p:nvPr/>
        </p:nvSpPr>
        <p:spPr>
          <a:xfrm rot="2661600">
            <a:off x="1418760" y="3546000"/>
            <a:ext cx="208080" cy="2224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оловина рамки 13"/>
          <p:cNvSpPr/>
          <p:nvPr/>
        </p:nvSpPr>
        <p:spPr>
          <a:xfrm rot="2661600">
            <a:off x="1571400" y="3927240"/>
            <a:ext cx="207720" cy="2221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оловина рамки 14"/>
          <p:cNvSpPr/>
          <p:nvPr/>
        </p:nvSpPr>
        <p:spPr>
          <a:xfrm rot="2661600">
            <a:off x="5714640" y="2286000"/>
            <a:ext cx="208080" cy="2221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овина рамки 15"/>
          <p:cNvSpPr/>
          <p:nvPr/>
        </p:nvSpPr>
        <p:spPr>
          <a:xfrm rot="2661600">
            <a:off x="5838480" y="2631600"/>
            <a:ext cx="208080" cy="2224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оловина рамки 16"/>
          <p:cNvSpPr/>
          <p:nvPr/>
        </p:nvSpPr>
        <p:spPr>
          <a:xfrm rot="2661600">
            <a:off x="5457600" y="3089160"/>
            <a:ext cx="207720" cy="2224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оловина рамки 17"/>
          <p:cNvSpPr/>
          <p:nvPr/>
        </p:nvSpPr>
        <p:spPr>
          <a:xfrm rot="2661600">
            <a:off x="5562360" y="3504960"/>
            <a:ext cx="207720" cy="2221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8"/>
          <p:cNvSpPr/>
          <p:nvPr/>
        </p:nvSpPr>
        <p:spPr>
          <a:xfrm>
            <a:off x="1523880" y="4495680"/>
            <a:ext cx="6858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9"/>
          <p:cNvSpPr/>
          <p:nvPr/>
        </p:nvSpPr>
        <p:spPr>
          <a:xfrm>
            <a:off x="1143000" y="4952880"/>
            <a:ext cx="6858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0"/>
          <p:cNvSpPr/>
          <p:nvPr/>
        </p:nvSpPr>
        <p:spPr>
          <a:xfrm>
            <a:off x="1295280" y="5410080"/>
            <a:ext cx="6858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1"/>
          <p:cNvSpPr/>
          <p:nvPr/>
        </p:nvSpPr>
        <p:spPr>
          <a:xfrm>
            <a:off x="1447920" y="5867280"/>
            <a:ext cx="6858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2"/>
          <p:cNvSpPr/>
          <p:nvPr/>
        </p:nvSpPr>
        <p:spPr>
          <a:xfrm>
            <a:off x="5715000" y="4495680"/>
            <a:ext cx="6858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3"/>
          <p:cNvSpPr/>
          <p:nvPr/>
        </p:nvSpPr>
        <p:spPr>
          <a:xfrm>
            <a:off x="5867280" y="4952880"/>
            <a:ext cx="6858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4"/>
          <p:cNvSpPr/>
          <p:nvPr/>
        </p:nvSpPr>
        <p:spPr>
          <a:xfrm>
            <a:off x="5410080" y="5410080"/>
            <a:ext cx="6858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5"/>
          <p:cNvSpPr/>
          <p:nvPr/>
        </p:nvSpPr>
        <p:spPr>
          <a:xfrm>
            <a:off x="5410080" y="5867280"/>
            <a:ext cx="6858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ПРАВОПИСАНИЕ О И (Ё) ПОСЛЕ ШИПЯЩИХ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28240" y="914040"/>
            <a:ext cx="39625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ё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 –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в заимствованных существит.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аж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риж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туш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мивояж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наж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343040" y="914040"/>
            <a:ext cx="4343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ё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в глаголах и глагольных формах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ч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иж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корч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в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меж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в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жж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н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жж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еч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н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еч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3D21-F3EE-4AAD-8571-D9D776F314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5"/>
          <p:cNvSpPr/>
          <p:nvPr/>
        </p:nvSpPr>
        <p:spPr>
          <a:xfrm>
            <a:off x="304920" y="3657600"/>
            <a:ext cx="3733560" cy="186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наречиях под удар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ж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яч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щ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ё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АВИЛА КОР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6351-B59B-4C28-8CAF-F85A04D9E2C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0666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ударные гласны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а, и, я, о, 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рные согласные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-п; в-ф; г-к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-т; ж-ш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з-с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произносимые согласные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; д; л; в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проверяемые букв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48320" y="10666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ол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кать – л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i="1" lang="ru-RU" sz="2400" spc="-1" strike="noStrike" baseline="30000">
                <a:solidFill>
                  <a:srgbClr val="ff0000"/>
                </a:solidFill>
                <a:latin typeface="Century Schoolbook"/>
              </a:rPr>
              <a:t>'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пол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кать – л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i="1" lang="ru-RU" sz="2400" spc="-1" strike="noStrike" baseline="30000">
                <a:solidFill>
                  <a:srgbClr val="ff0000"/>
                </a:solidFill>
                <a:latin typeface="Century Schoolbook"/>
              </a:rPr>
              <a:t>'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к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ло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ость – ло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в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о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ьба – ко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с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е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з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ьба – ре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з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час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т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ик – учас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т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ер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це – сер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д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чко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э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фф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ект, 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к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ратн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i="1" lang="ru-RU" sz="2200" spc="-1" strike="noStrike" u="sng">
                <a:solidFill>
                  <a:srgbClr val="575f6d"/>
                </a:solidFill>
                <a:uFillTx/>
                <a:latin typeface="Century Schoolbook"/>
              </a:rPr>
              <a:t>-Н-, -НН– В СУФФИКСАХ ИМЁН ПРИЛАГАТЕЛЬНЫХ</a:t>
            </a:r>
            <a:br>
              <a:rPr sz="2200"/>
            </a:br>
            <a:r>
              <a:rPr b="1" i="1" lang="ru-RU" sz="2200" spc="-1" strike="noStrike" u="sng">
                <a:solidFill>
                  <a:srgbClr val="575f6d"/>
                </a:solidFill>
                <a:uFillTx/>
                <a:latin typeface="Century Schoolbook"/>
              </a:rPr>
              <a:t>(ОТ СУЩЕСТВИТЕЛЬНЫХ</a:t>
            </a:r>
            <a:r>
              <a:rPr b="1" i="1" lang="ru-RU" sz="2200" spc="-1" strike="noStrike">
                <a:solidFill>
                  <a:srgbClr val="575f6d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ин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уб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т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ан- ;-ян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ж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емл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й           вет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я (мельница)               масл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 (крем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н-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т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нь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сл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руки)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267080" y="14479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онн- ; -енн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волюц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нстрац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лом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люкв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ыквенн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нн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(исключени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рев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лов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екл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4EBD-9D67-4B66-A44A-D9C4C4BEAF3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Овал 7"/>
          <p:cNvSpPr/>
          <p:nvPr/>
        </p:nvSpPr>
        <p:spPr>
          <a:xfrm>
            <a:off x="685800" y="2895480"/>
            <a:ext cx="990720" cy="381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75f6d"/>
                </a:solidFill>
                <a:uFillTx/>
                <a:latin typeface="Century Schoolbook"/>
              </a:rPr>
              <a:t>-Н-, -НН– В СУФФИКСАХ ИМЁН ПРИЛАГАТЕЛЬНЫХ</a:t>
            </a:r>
            <a:br>
              <a:rPr sz="2000"/>
            </a:br>
            <a:r>
              <a:rPr b="1" i="1" lang="ru-RU" sz="2000" spc="-1" strike="noStrike" u="sng">
                <a:solidFill>
                  <a:srgbClr val="575f6d"/>
                </a:solidFill>
                <a:uFillTx/>
                <a:latin typeface="Century Schoolbook"/>
              </a:rPr>
              <a:t>(ОТ СУЩЕСТВИТЕЛЬНЫХ</a:t>
            </a: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066680"/>
            <a:ext cx="350532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 +-н-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он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уман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есен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 -н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а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л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в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190760" y="106632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 кратких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столько же Н, сколько и в полных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с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—крас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ума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—тума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—умё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ржеств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е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й—торжеств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ен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DABC-FF54-4C04-82FE-606F2CA9E07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оловина рамки 5"/>
          <p:cNvSpPr/>
          <p:nvPr/>
        </p:nvSpPr>
        <p:spPr>
          <a:xfrm rot="2661600">
            <a:off x="1875960" y="1108080"/>
            <a:ext cx="208080" cy="2221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Дуга 6"/>
          <p:cNvSpPr/>
          <p:nvPr/>
        </p:nvSpPr>
        <p:spPr>
          <a:xfrm>
            <a:off x="838080" y="990720"/>
            <a:ext cx="685800" cy="6858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оловина рамки 9"/>
          <p:cNvSpPr/>
          <p:nvPr/>
        </p:nvSpPr>
        <p:spPr>
          <a:xfrm rot="2661600">
            <a:off x="2104560" y="2860200"/>
            <a:ext cx="208080" cy="2224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0"/>
          <p:cNvSpPr/>
          <p:nvPr/>
        </p:nvSpPr>
        <p:spPr>
          <a:xfrm>
            <a:off x="533520" y="5181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й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й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й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й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оловина рамки 11"/>
          <p:cNvSpPr/>
          <p:nvPr/>
        </p:nvSpPr>
        <p:spPr>
          <a:xfrm rot="2661600">
            <a:off x="4771800" y="5146560"/>
            <a:ext cx="207720" cy="2224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БУКВЫ </a:t>
            </a: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Ы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И </a:t>
            </a: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И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ПОСЛЕ ПРИСТАВОК НА СОГЛАСНУЮ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28240" y="1219320"/>
            <a:ext cx="396252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Ы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СЛИ КОРЕНЬ С 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И      Ы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БЕЗ</a:t>
            </a:r>
            <a:r>
              <a:rPr b="1" i="1" lang="ru-RU" sz="1800" spc="-1" strike="noStrike">
                <a:solidFill>
                  <a:srgbClr val="ff0000"/>
                </a:solidFill>
                <a:latin typeface="Century Schoolbook"/>
              </a:rPr>
              <a:t>Ы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МЯННЫЙ (</a:t>
            </a:r>
            <a:r>
              <a:rPr b="1" i="1" lang="ru-RU" sz="18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МЯ)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БЕЗ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Ы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СКУСНЫЙ (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СКУСНЫЙ)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РАЗ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Ы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ГРАТЬ (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ГРА)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Ы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ГРАТЬ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ГРА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ПРЕД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Ы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СТОРИЯ (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СТОРИЯ)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ПОД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Ы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ТОЖИМ (</a:t>
            </a: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ТОГ)</a:t>
            </a: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зим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ть – корень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зим-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зи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ть – корень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зир-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270320" y="990720"/>
            <a:ext cx="43401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еж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ститутский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верх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тересн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оязычные приставки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ез-; контр-; пан-; пост-;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уб-; супер-; транс-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ез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формац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онтр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р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упер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фен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ле числительных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ух-; трех-; четырех-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вух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ольный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рех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мпульсный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1E2D-A8D5-49F9-B339-B6885AE91A7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Прямая со стрелкой 6"/>
          <p:cNvCxnSpPr/>
          <p:nvPr/>
        </p:nvCxnSpPr>
        <p:spPr>
          <a:xfrm>
            <a:off x="2819520" y="1752120"/>
            <a:ext cx="30528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br>
              <a:rPr sz="2200"/>
            </a:b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CC4D-2818-44F0-89B0-B07732503E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066320"/>
            <a:ext cx="36576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л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п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ем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п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70320" y="1066320"/>
            <a:ext cx="36576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л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п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п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533520" y="3733920"/>
            <a:ext cx="7391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е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609480" y="434340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вьте пропущенные бук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л..жить мысль, перел..гать стихи, пол..жение в обществе, сложное предл..жение, сосл..гательное наклонение, изл..гать идею, пол..г для ко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143000"/>
            <a:ext cx="36576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ст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\-р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щ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ст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ст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щ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нны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267080" y="1143000"/>
            <a:ext cx="36576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р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3E91-9E44-4D79-9895-1072B02832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33520" y="3200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ения: 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к, 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вщик, 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слав, 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в; от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8"/>
          <p:cNvSpPr/>
          <p:nvPr/>
        </p:nvSpPr>
        <p:spPr>
          <a:xfrm>
            <a:off x="228600" y="3657600"/>
            <a:ext cx="86868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вьте пропущенные букв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спределите в 2 столб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..сли, р..стительность, р..стениеводство, взр..щенный, р..сточек, Р..стов-на-Дону, подр..стает, водор..сли, зар..сти, ср..щивание, р..стовщик, выр..щивание, Р..стислав, «Р..сти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3"/>
          <p:cNvSpPr/>
          <p:nvPr/>
        </p:nvSpPr>
        <p:spPr>
          <a:xfrm>
            <a:off x="1998720" y="3465360"/>
            <a:ext cx="722160" cy="2880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Arial"/>
              </a:rPr>
              <a:t>ЧЕРЕДОВАНИЕ ГЛАСНЫХ И СОГЛАСНЫХ </a:t>
            </a:r>
            <a:r>
              <a:rPr b="1" lang="en-US" sz="2200" spc="-1" strike="noStrike">
                <a:solidFill>
                  <a:srgbClr val="575f6d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575f6d"/>
                </a:solidFill>
                <a:latin typeface="Arial"/>
              </a:rPr>
              <a:t>В КОРНЯ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Содержимое 2"/>
          <p:cNvSpPr/>
          <p:nvPr/>
        </p:nvSpPr>
        <p:spPr>
          <a:xfrm>
            <a:off x="457200" y="838080"/>
            <a:ext cx="36576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г</a:t>
            </a:r>
            <a:r>
              <a:rPr b="1" lang="ru-RU" sz="2400" spc="-1" strike="noStrike">
                <a:solidFill>
                  <a:srgbClr val="7598d9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ударн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3200" spc="-1" strike="noStrike">
                <a:solidFill>
                  <a:srgbClr val="7598d9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3200" spc="-1" strike="noStrike">
                <a:solidFill>
                  <a:srgbClr val="7598d9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3200" spc="-1" strike="noStrike">
                <a:solidFill>
                  <a:srgbClr val="7598d9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одержимое 3"/>
          <p:cNvSpPr/>
          <p:nvPr/>
        </p:nvSpPr>
        <p:spPr>
          <a:xfrm>
            <a:off x="4267080" y="838080"/>
            <a:ext cx="36576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г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уда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ва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ка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457200" y="4343400"/>
            <a:ext cx="762012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шите, вставьте пропущенные бук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г_рел на солнце, г_рящая спичка, г_ри, г_ри ясно; пища приг_рела, выг_рки на сковороде, г_ревый след, уг_рный газ, шоколадный заг_р, паровозная изг_рь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2057400" y="3885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лю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г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ь, выг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066680"/>
            <a:ext cx="365760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з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тв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тв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г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к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к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-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ь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в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ств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в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ь (бож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з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н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й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70320" y="1066680"/>
            <a:ext cx="365760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з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тв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г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к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я, з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ниц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в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ние, тв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и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ние, г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ящ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к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ние, ск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и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A2E2-8726-46FC-B711-570F79C361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авая фигурная скобка 5"/>
          <p:cNvSpPr/>
          <p:nvPr/>
        </p:nvSpPr>
        <p:spPr>
          <a:xfrm>
            <a:off x="1828800" y="1143000"/>
            <a:ext cx="533520" cy="220968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2209680"/>
              <a:gd name="textAreaBottom" fmla="*/ 2196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7"/>
                  <a:pt x="10800" y="434"/>
                </a:cubicBezTo>
                <a:lnTo>
                  <a:pt x="10800" y="10366"/>
                </a:lnTo>
                <a:cubicBezTo>
                  <a:pt x="10800" y="10583"/>
                  <a:pt x="16200" y="10800"/>
                  <a:pt x="21600" y="10800"/>
                </a:cubicBezTo>
                <a:cubicBezTo>
                  <a:pt x="16200" y="10800"/>
                  <a:pt x="10800" y="11017"/>
                  <a:pt x="10800" y="11234"/>
                </a:cubicBezTo>
                <a:lnTo>
                  <a:pt x="10800" y="21166"/>
                </a:lnTo>
                <a:cubicBezTo>
                  <a:pt x="10800" y="2138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2514600" y="11430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ударением и в безударно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авая фигурная скобка 7"/>
          <p:cNvSpPr/>
          <p:nvPr/>
        </p:nvSpPr>
        <p:spPr>
          <a:xfrm>
            <a:off x="5638680" y="1143000"/>
            <a:ext cx="533520" cy="152388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1523880"/>
              <a:gd name="textAreaBottom" fmla="*/ 15102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8"/>
          <p:cNvSpPr/>
          <p:nvPr/>
        </p:nvSpPr>
        <p:spPr>
          <a:xfrm>
            <a:off x="6400800" y="1143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зударном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br>
              <a:rPr sz="2200"/>
            </a:b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76560" y="990360"/>
            <a:ext cx="235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BE11-85EF-478D-8B8E-ADC886CF09B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11"/>
          <p:cNvSpPr/>
          <p:nvPr/>
        </p:nvSpPr>
        <p:spPr>
          <a:xfrm>
            <a:off x="6320880" y="990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2"/>
          <p:cNvSpPr/>
          <p:nvPr/>
        </p:nvSpPr>
        <p:spPr>
          <a:xfrm flipV="1">
            <a:off x="6168960" y="99036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Дуга 14"/>
          <p:cNvSpPr/>
          <p:nvPr/>
        </p:nvSpPr>
        <p:spPr>
          <a:xfrm>
            <a:off x="1143000" y="990720"/>
            <a:ext cx="1905120" cy="6858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бер-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б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дер-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д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тер-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т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ть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пер-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т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ть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ер-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у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ть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тел-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за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т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ть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жег-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вы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-блест- бл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т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ть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ет-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ы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т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Дуга 20"/>
          <p:cNvSpPr/>
          <p:nvPr/>
        </p:nvSpPr>
        <p:spPr>
          <a:xfrm>
            <a:off x="5334120" y="990720"/>
            <a:ext cx="1904760" cy="6858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1"/>
          <p:cNvSpPr/>
          <p:nvPr/>
        </p:nvSpPr>
        <p:spPr>
          <a:xfrm>
            <a:off x="1447920" y="1066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нет  суф.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3"/>
          <p:cNvSpPr/>
          <p:nvPr/>
        </p:nvSpPr>
        <p:spPr>
          <a:xfrm>
            <a:off x="4343400" y="1447920"/>
            <a:ext cx="350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а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д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а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т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а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п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а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м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-а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ст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-а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ж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-а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б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-а- бл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ч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-а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5"/>
          <p:cNvSpPr/>
          <p:nvPr/>
        </p:nvSpPr>
        <p:spPr>
          <a:xfrm>
            <a:off x="609480" y="4952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ени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ие, 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6"/>
          <p:cNvSpPr/>
          <p:nvPr/>
        </p:nvSpPr>
        <p:spPr>
          <a:xfrm>
            <a:off x="228600" y="55627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 однокоренные слова с корня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ер-\-мир-а- (в значении смерть, а затем в значении ми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ег-\-жиг-а- \-жеч-\-жг-\-жж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br>
              <a:rPr sz="2200"/>
            </a:b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2057400"/>
            <a:ext cx="36576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ж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ч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з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267080" y="2057400"/>
            <a:ext cx="36576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ж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з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EF6C-B8CC-4088-8FB8-873A8E4268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30492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(я) – им а,     а (я) – ин 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оловина рамки 6"/>
          <p:cNvSpPr/>
          <p:nvPr/>
        </p:nvSpPr>
        <p:spPr>
          <a:xfrm rot="2661600">
            <a:off x="3781080" y="1031400"/>
            <a:ext cx="208080" cy="2224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оловина рамки 8"/>
          <p:cNvSpPr/>
          <p:nvPr/>
        </p:nvSpPr>
        <p:spPr>
          <a:xfrm rot="2661600">
            <a:off x="5914800" y="1031760"/>
            <a:ext cx="207720" cy="2224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оловина рамки 10"/>
          <p:cNvSpPr/>
          <p:nvPr/>
        </p:nvSpPr>
        <p:spPr>
          <a:xfrm rot="2661600">
            <a:off x="5673240" y="2089080"/>
            <a:ext cx="157320" cy="1652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оловина рамки 11"/>
          <p:cNvSpPr/>
          <p:nvPr/>
        </p:nvSpPr>
        <p:spPr>
          <a:xfrm rot="2661600">
            <a:off x="5825880" y="3613320"/>
            <a:ext cx="156960" cy="1648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оловина рамки 12"/>
          <p:cNvSpPr/>
          <p:nvPr/>
        </p:nvSpPr>
        <p:spPr>
          <a:xfrm rot="2661600">
            <a:off x="5825880" y="3232080"/>
            <a:ext cx="156960" cy="1652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оловина рамки 13"/>
          <p:cNvSpPr/>
          <p:nvPr/>
        </p:nvSpPr>
        <p:spPr>
          <a:xfrm rot="2661600">
            <a:off x="5597280" y="2851200"/>
            <a:ext cx="156960" cy="1648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оловина рамки 14"/>
          <p:cNvSpPr/>
          <p:nvPr/>
        </p:nvSpPr>
        <p:spPr>
          <a:xfrm rot="2661600">
            <a:off x="5597280" y="2470320"/>
            <a:ext cx="156960" cy="1648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5"/>
          <p:cNvSpPr/>
          <p:nvPr/>
        </p:nvSpPr>
        <p:spPr>
          <a:xfrm>
            <a:off x="533520" y="4800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 второго столбика запишите в форме 2 лица, ед. ч., наст. 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ш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оловина рамки 15"/>
          <p:cNvSpPr/>
          <p:nvPr/>
        </p:nvSpPr>
        <p:spPr>
          <a:xfrm rot="2661600">
            <a:off x="5368680" y="3994200"/>
            <a:ext cx="156960" cy="1648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ЧЕРЕДОВАНИЕ ГЛАСНЫХ И СОГЛАСНЫХ </a:t>
            </a:r>
            <a:br>
              <a:rPr sz="2200"/>
            </a:b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В КОРНЯ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кос- ( нет  - а-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е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у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ительн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6708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кас- (есть – а- 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ь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117C-6DC3-4B49-85E9-1F88D2D661C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оловина рамки 5"/>
          <p:cNvSpPr/>
          <p:nvPr/>
        </p:nvSpPr>
        <p:spPr>
          <a:xfrm rot="2661600">
            <a:off x="6524280" y="1641600"/>
            <a:ext cx="208080" cy="2221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оловина рамки 6"/>
          <p:cNvSpPr/>
          <p:nvPr/>
        </p:nvSpPr>
        <p:spPr>
          <a:xfrm rot="2661600">
            <a:off x="2714400" y="1641240"/>
            <a:ext cx="207720" cy="2221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533520" y="3429000"/>
            <a:ext cx="8001000" cy="274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берите слова из данных морф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с  кос  кос   кос     ание  ательный  аться  аюс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ас  кас  кас   кас     нусь  новение   нись  нуться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b-204</cp:lastModifiedBy>
  <dcterms:modified xsi:type="dcterms:W3CDTF">2012-02-16T10:51:58Z</dcterms:modified>
  <cp:revision>97</cp:revision>
  <dc:subject/>
  <dc:title>Слайд 1</dc:title>
</cp:coreProperties>
</file>