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6C4-2AF4-419A-A988-7514C6DF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DBE-42EA-45A5-801A-A5D13DB5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C27-30D6-4A89-8899-E8CB47A6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F94-4D11-41FA-B6FB-B078A894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C10B-65C5-4241-82B5-8C980DE0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6EEF-C74C-4A5C-A0A1-2D4C9C00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D24C-0A14-4030-BDCA-4790E771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3A24-F717-4A28-854A-65490E3D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C5F8-FEBF-447E-AE03-6516117A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B87D-76F3-41A3-92E0-94B5016F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5EDC-269C-4DDA-9B49-B8EF6BD7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933-132C-4013-B4A0-9C0525BC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63E2-B917-4F7A-8276-ADA838E5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F605-0355-41BC-AE5C-F1678607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FBF7-0F7F-4683-87D4-D8B48357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794A-8BE4-4AA6-A86E-824F7004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6802-B203-4C35-8F0C-10B41F3E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5BF-1132-46C2-8AA0-32BB9667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C47-E68C-460F-8E77-5E061F99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920-7C35-4D31-A2C1-C771F91D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81B-49CB-4FAA-8573-D40334B2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7B0-9EFA-4BB5-8EEE-5AC8C818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D28-E8C5-4461-B7BD-E1FA1C97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3A6-6DA8-49B0-BA21-46AFC3BA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1034-FA85-4E1B-8952-7A37FC207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1738-8F14-468A-8049-6F05313743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47920" y="228600"/>
            <a:ext cx="55623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НСИВНОГ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НОСТ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5" descr="Губкинский 031"/>
          <p:cNvPicPr/>
          <p:nvPr/>
        </p:nvPicPr>
        <p:blipFill>
          <a:blip r:embed="rId1"/>
          <a:stretch/>
        </p:blipFill>
        <p:spPr>
          <a:xfrm>
            <a:off x="259092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ознавательных процессов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ь (образная, ассоциативная, эмоциональная, словесно-логическая, механическая, эйдетическая и т.д.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ическое мышлени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имани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ияти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и реализация потенциала интеллектуальных и креативных способностей 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ение психоэмоционального здоровья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840" y="333360"/>
            <a:ext cx="86439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aff0a"/>
                </a:solidFill>
                <a:latin typeface="Times New Roman"/>
                <a:ea typeface="Times New Roman"/>
              </a:rPr>
              <a:t>Что даёт навык быстрого чтения на основе компьютерной программы СИРС</a:t>
            </a: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8b"/>
                </a:solidFill>
                <a:uFillTx/>
                <a:latin typeface="Arial"/>
              </a:rPr>
              <a:t>Ц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447560"/>
            <a:ext cx="4116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увеличения скорости чтения при   качественном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воении текстового матери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увеличения внимания, зрительного вос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увеличения скорости мыслительных  проце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увеличения образной, зрительной, ассоциатив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тивной памят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7617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"/>
              </a:rPr>
              <a:t>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7960" y="1523880"/>
            <a:ext cx="4267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эффективности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ллектуального труда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ить скорост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ового ч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Q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 некоторое количество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Губкинский 135"/>
          <p:cNvPicPr/>
          <p:nvPr/>
        </p:nvPicPr>
        <p:blipFill>
          <a:blip r:embed="rId1"/>
          <a:stretch/>
        </p:blipFill>
        <p:spPr>
          <a:xfrm>
            <a:off x="0" y="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Губкинский 115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Губкинский 142"/>
          <p:cNvPicPr/>
          <p:nvPr/>
        </p:nvPicPr>
        <p:blipFill>
          <a:blip r:embed="rId3"/>
          <a:stretch/>
        </p:blipFill>
        <p:spPr>
          <a:xfrm>
            <a:off x="0" y="4038480"/>
            <a:ext cx="3757680" cy="281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Губкинский 145"/>
          <p:cNvPicPr/>
          <p:nvPr/>
        </p:nvPicPr>
        <p:blipFill>
          <a:blip r:embed="rId4"/>
          <a:stretch/>
        </p:blipFill>
        <p:spPr>
          <a:xfrm>
            <a:off x="5484960" y="4114800"/>
            <a:ext cx="3659040" cy="274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Губкинский 131"/>
          <p:cNvPicPr/>
          <p:nvPr/>
        </p:nvPicPr>
        <p:blipFill>
          <a:blip r:embed="rId5"/>
          <a:stretch/>
        </p:blipFill>
        <p:spPr>
          <a:xfrm>
            <a:off x="2971800" y="2133720"/>
            <a:ext cx="3382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0:19:32Z</dcterms:created>
  <dc:creator>USER</dc:creator>
  <dc:description/>
  <dc:language>en-US</dc:language>
  <cp:lastModifiedBy>USER</cp:lastModifiedBy>
  <dcterms:modified xsi:type="dcterms:W3CDTF">2010-12-01T09:04:40Z</dcterms:modified>
  <cp:revision>4</cp:revision>
  <dc:subject/>
  <dc:title>Слайд 1</dc:title>
</cp:coreProperties>
</file>