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6C4-C366-4A9A-9230-E026D053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639-1FB5-4B9E-BB76-F901928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B33-1147-43A4-84DA-0188DFF5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9F5-917B-4C93-80A3-9353875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5EB-27EE-46EC-9905-A7767458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B96-31A2-43AE-89E4-E55A984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FB1C-58DA-4C94-A7DD-BCDAA9E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B981-DCBA-4427-9BE2-14A0ECFF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217C-F05E-4A51-887F-CD24025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B6C-FD45-4697-918A-B9E9BBF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564-0DA1-4793-91C4-EFFD1FB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170-1CCB-4E0B-8CFF-424C57B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EED-DA05-49E5-8505-3C0657B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C8C1-9A6D-44C8-A002-FF5D816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57F-43B0-4C47-8277-CF2148AD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D76A-9271-4D41-9BF6-4A0379C5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07FB-8B07-4A50-9A8B-EED0DF9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F760-3EE5-46BF-AD17-3DA13FC0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34B9-49D2-4686-832E-25B7E9E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76F6-16CB-4D53-AE5C-E591E92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ACA7-D8DF-441F-A97B-443C651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9795-402B-4F5F-8C66-7D382C63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771-1734-41F3-B29A-923B983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2D23-52AF-488B-AF74-FA6F105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0F86-0E0D-475E-BEED-17463C3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A121-28AA-435B-8DE5-ED1ABE3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FD65-399E-4D39-B870-D6458632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627F-827E-4F74-BA82-79742F7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CAFB-F383-4D3B-9048-3CC6F5A2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372D-38B9-4AC2-A8A8-D02850E7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BF1A-211F-4198-BC78-630B175C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6621-A29A-47E9-8442-F58DCDE9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0319-FBA7-427C-994F-C1898185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5CC-E756-446C-9EB0-5286AF4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5C94-C35C-465F-A1CF-FCB986F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986C-B98A-4B3D-8412-0124983F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1742-30D3-4273-8E0B-F2270EB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B095-A0B2-44E0-8B92-B72B486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AB20-9E81-476A-B157-5A9957D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F504-6885-4BA8-99E0-D76478E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AF4D-CB81-4D41-99B4-BBFC957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A669-7502-49D6-A7FA-FD8DF03B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A17F-1E15-4BBE-A0A2-0AE73038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5DD-5DF0-4203-B3F7-9B4A7881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767-A4D9-4A89-82FE-265AED4E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19E-0F43-459C-AED5-3B408BA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CC5-CB9C-4693-98E0-F5980BA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BDA-EF39-4257-8024-A7C0F42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8548-0148-4C45-9E6C-1010C0B1A1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4E73-C199-4472-9685-DCB1ED3D6D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3E3-E49D-4318-B8FE-07FE23A263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656-62C2-4786-9A78-05C99290B8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189000"/>
            <a:ext cx="727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прощение выраж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03280" y="206064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(в+с)=ав+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360" y="4076640"/>
            <a:ext cx="61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(в-с)=ав-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92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умею раскрывать скобки, используя распределительное свойство умножения относительно действий сложения и вычитания (могу допустить ошибк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умею выносить одинаковый множитель за скобки, используя распределительное свойство умножения относительно действий сложения и вычитания ( не допускаю ошиб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могу упростить выра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могу решить урав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могу составить уравнение для решения задачи и решить ег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4000" y="141300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18а+20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860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40а+а+2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63700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51а-20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157720"/>
            <a:ext cx="43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37а+14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84720" y="1413000"/>
            <a:ext cx="52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) 41а-21а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63700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31а+9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78936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38а-а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501336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) 43а-а-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404640"/>
            <a:ext cx="67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1280" y="333360"/>
            <a:ext cx="662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ный сч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763640" y="1916280"/>
            <a:ext cx="5327640" cy="2076840"/>
            <a:chOff x="1763640" y="1916280"/>
            <a:chExt cx="5327640" cy="2076840"/>
          </a:xfrm>
        </p:grpSpPr>
        <p:sp>
          <p:nvSpPr>
            <p:cNvPr id="277" name=""/>
            <p:cNvSpPr/>
            <p:nvPr/>
          </p:nvSpPr>
          <p:spPr>
            <a:xfrm flipV="1">
              <a:off x="1763640" y="2204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091280" y="213156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51280" y="191628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aramond"/>
                </a:rPr>
                <a:t>96с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06920" y="26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63640" y="2852640"/>
              <a:ext cx="374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63640" y="2421000"/>
              <a:ext cx="532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63640" y="2637000"/>
              <a:ext cx="532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6920" y="285264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4560" y="2924280"/>
              <a:ext cx="136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aramond"/>
                </a:rPr>
                <a:t>11хс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38560" y="2849760"/>
              <a:ext cx="107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aramond"/>
                </a:rPr>
                <a:t>5хс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333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12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ставьте по рисунку уравнение и решите 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68880" y="39337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0880" y="392904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6720" y="39290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3929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9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3168720" cy="3024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11280" y="260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книге напечатаны рассказ и повесть, которые вместе занимают 70 страниц. Повесть занимает в 4 раза больше страниц, чем рассказ. Сколько страниц занимает рассказ и сколько пов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1125360"/>
            <a:ext cx="1297080" cy="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40000" y="2492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в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80000" y="285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с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3357720"/>
            <a:ext cx="100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1280" y="23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с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4000" y="2565360"/>
            <a:ext cx="136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70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2702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ставим уравн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2000" y="35082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378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41497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70 : 5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557360"/>
            <a:ext cx="2952720" cy="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4508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00720" y="6237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4888080"/>
            <a:ext cx="453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р. занимает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сск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5300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70 – 14 = 5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ст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28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сск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565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59500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твет: рассказ занимает 14 стр., а повесть – 56 с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16000" y="404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стоятельная рабо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1557360"/>
            <a:ext cx="302436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 №568(а,г),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67(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1557360"/>
            <a:ext cx="33112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. №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80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7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35280" y="162864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5338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1700280"/>
            <a:ext cx="352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. №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18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07(3)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25(в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1755720"/>
            <a:ext cx="2952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 №612(а,б)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13(а)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14(а,в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38:37Z</dcterms:created>
  <dc:creator>FuckYouBill</dc:creator>
  <dc:description/>
  <dc:language>en-US</dc:language>
  <cp:lastModifiedBy>FuckYouBill</cp:lastModifiedBy>
  <dcterms:modified xsi:type="dcterms:W3CDTF">2011-01-30T16:01:43Z</dcterms:modified>
  <cp:revision>7</cp:revision>
  <dc:subject/>
  <dc:title>Слайд 1</dc:title>
</cp:coreProperties>
</file>