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47-03D1-4ED6-9939-0694CD0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F63-18A0-44F4-BC26-D29A140C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2A8-8080-4509-AAA5-E4A384DB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F84-E121-4DBB-B74D-ECF33FB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002-9AA6-4C77-B09D-BCF67A65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F1E3-49A8-4042-A233-94CECC2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B6CA-9E21-4693-B5D2-1A9882C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C77-8ABB-48E3-BABC-9ADEA28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409-E8DD-4DEF-B1C8-160CC57E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C85-A8CC-4CB4-9D3A-DF9A704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C5FC-5F34-4FDC-97F6-C15BA38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8DF-2606-426F-8E68-20F72EFD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2A88-A880-4EB8-8D11-63487FB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D751-0E13-44C4-A133-881718C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3B76-52A4-43B5-88E7-18735997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8B2-8018-47C3-BEB1-EE4C41F2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8E7-18CF-4D58-9DE9-A234DE7F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FA7-E8AF-47A1-AD8F-1D05560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391-37DD-4EED-B0A3-2FA9778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203-1306-4F70-8FE6-C5778DA5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158-1779-4DEE-BFD1-E1C991E7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67B-63A6-4A15-8213-3997C81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873-7615-4029-B9A8-6916719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128-8E57-4718-8949-0B9FEF2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129-461D-4163-BCA9-983FE90F29B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B68-38F0-402A-B6E7-96E14AB2642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99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60962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1640" y="333000"/>
            <a:ext cx="6085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Лечение компьютерной зависимости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сихолог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Близкие люд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Осознание красоты реальной жизн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Помни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нет Интернет другом вам или врагом - зависит только от вас. Самое главное, что теперь вы знаете всё об интернете. Решать вам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10" descr="Интернет зависимость "/>
          <p:cNvPicPr/>
          <p:nvPr/>
        </p:nvPicPr>
        <p:blipFill>
          <a:blip r:embed="rId1"/>
          <a:stretch/>
        </p:blipFill>
        <p:spPr>
          <a:xfrm>
            <a:off x="4473720" y="2484360"/>
            <a:ext cx="2844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8560" y="717120"/>
            <a:ext cx="73371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7d47d"/>
                </a:solidFill>
                <a:latin typeface="Times New Roman"/>
              </a:rPr>
              <a:t>Интернет-</a:t>
            </a:r>
            <a:br>
              <a:rPr sz="6600"/>
            </a:br>
            <a:r>
              <a:rPr b="0" lang="en-US" sz="6600" spc="-1" strike="noStrike">
                <a:solidFill>
                  <a:srgbClr val="f7d47d"/>
                </a:solidFill>
                <a:latin typeface="Times New Roman"/>
              </a:rPr>
              <a:t>зависимость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Picture 9" descr="auja"/>
          <p:cNvPicPr/>
          <p:nvPr/>
        </p:nvPicPr>
        <p:blipFill>
          <a:blip r:embed="rId1"/>
          <a:stretch/>
        </p:blipFill>
        <p:spPr>
          <a:xfrm>
            <a:off x="5148360" y="4076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сихологические симптом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119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хорошее самочувствие или эйфория за компьютеро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евозможность остановитьс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величение количества времени, проводимого за компьютеро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енебрежение семьей и друзьям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щущение пустоты, депрессии, раздражения при нахождении не за компьютеро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ложь работодателям или членам семьи о своей деятельност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блемы с работой или учеб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Физические симптом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771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ндром карпального канала (туннельное поражение нервных стволов руки, связанное с длительным перенапряжением мышц)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ухость в глазах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оловные боли по типу мигрени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оли в спине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регулярное питание, пропуск приемов пищи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небрежение личной гигиеной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стройства сна, изменение режима с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8560" y="428400"/>
            <a:ext cx="7327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Кимберли  Янг</a:t>
            </a:r>
            <a:br>
              <a:rPr sz="4000"/>
            </a:br>
            <a:r>
              <a:rPr b="0" lang="ru-RU" sz="1800" spc="-1" strike="noStrike">
                <a:solidFill>
                  <a:srgbClr val="f7d47d"/>
                </a:solidFill>
                <a:latin typeface="Times New Roman"/>
              </a:rPr>
              <a:t> профессор психологии Питтсбургского университета </a:t>
            </a:r>
            <a:br>
              <a:rPr sz="2800"/>
            </a:b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630440" y="1913040"/>
            <a:ext cx="38131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едвестники интернет-зависим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36241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навязчивое стремление постоянно проверять электронную почту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едвкушение следующего онлайнового сеанс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увеличение времени, проводимого в онлайновом сеансе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увеличение количества денег, расходуемых на Интерн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t"/>
          <p:cNvPicPr/>
          <p:nvPr/>
        </p:nvPicPr>
        <p:blipFill>
          <a:blip r:embed="rId5"/>
          <a:stretch/>
        </p:blipFill>
        <p:spPr>
          <a:xfrm>
            <a:off x="4538520" y="2478240"/>
            <a:ext cx="2843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даптированный вариант те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Чувствуете ли вы себя озабоченным Интернетом (думаете ли вы о предыдущих онлайновых сеансах и предвкушаете ли последующие)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щущаете ли вы потребность в увеличении времени, проведенного в Сети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едпринимались ли вами или вашими родственниками безуспешные по пытки контролировать, ограничить или прекратить использование Интернета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Чувствуете ли вы себя усталым, угнетенным или раздраженным при попытках ограничить или прекратить пользование Интернетом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аходитесь ли вы в онлайновом режиме больше, чем предполагали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ыли ли у вас случаи, когда вы рисковали получить проблемы в учебе или в личной жизни из-за Интернета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лучалось ли вам лгать членам семьи, врачам или другим людям, чтобы скрыть время пребывания в Сети?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спользуете ли вы Интернет для того, чтобы уйти от проблем или от дурного настроения (например, от чувства беспомощности, виновности, раздраженности или депрессии)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Times New Roman"/>
              </a:rPr>
              <a:t>ОСНОВНЫЕ ВРЕДНЫЕ ФАКТОРЫ, ДЕЙСТВУЮЩИЕ НА ЧЕЛОВЕКА ЗА КОМПЬЮТЕРОМ</a:t>
            </a:r>
            <a:r>
              <a:rPr b="0" lang="en-US" sz="3200" spc="-1" strike="noStrike">
                <a:solidFill>
                  <a:srgbClr val="f7d47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сидячее положение в течение      длительного времен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воздействие электромагнитного излучения монитор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томление глаз, нагрузка на зрение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ерегрузка суставов кистей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стресс при потере информац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Причины компьютерной зависимост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Недостаток общения</a:t>
            </a: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Отсутствие хобб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Неудачливость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43:07Z</dcterms:created>
  <dc:creator>ДОМ</dc:creator>
  <dc:description/>
  <dc:language>en-US</dc:language>
  <cp:lastModifiedBy>ДОМ</cp:lastModifiedBy>
  <dcterms:modified xsi:type="dcterms:W3CDTF">2012-02-18T14:22:12Z</dcterms:modified>
  <cp:revision>10</cp:revision>
  <dc:subject/>
  <dc:title>Слайд 1</dc:title>
</cp:coreProperties>
</file>