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934E-7599-40D4-A381-EF8A14FDA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3A13-00F8-49CE-AFDE-B36AC582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E091-9EA9-424F-A36E-155960EB0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0997-A39C-4E02-BFD5-F27826179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F736-5833-42FC-880E-A4616654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BD86-622E-46C0-9A8E-FB4FAFD3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0A3C-086A-4299-BE7A-9740C744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519E-78F3-4DF2-A1AD-0E13279A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4818-2071-4B53-9ACE-C4817A5B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9F81-1B29-4C07-B70A-0C977B20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0D55-E156-45DA-BA42-A2E58DE3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B852-9E80-421E-8050-BCEF2C34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Admin\Рабочий стол\для шаблонов\Копия луг.gif"/>
          <p:cNvPicPr/>
          <p:nvPr/>
        </p:nvPicPr>
        <p:blipFill>
          <a:blip r:embed="rId3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709C-0B69-403A-AFF4-147DC9BDF1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Documents and Settings\Admin\Рабочий стол\для шаблонов\Копия луг.gif"/>
          <p:cNvPicPr/>
          <p:nvPr/>
        </p:nvPicPr>
        <p:blipFill>
          <a:blip r:embed="rId3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Documents and Settings\Admin\Рабочий стол\для шаблонов\луг.gif"/>
          <p:cNvPicPr/>
          <p:nvPr/>
        </p:nvPicPr>
        <p:blipFill>
          <a:blip r:embed="rId4"/>
          <a:stretch/>
        </p:blipFill>
        <p:spPr>
          <a:xfrm>
            <a:off x="0" y="285840"/>
            <a:ext cx="9126360" cy="6572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Documents and Settings\Admin\Рабочий стол\угадай\Синий.gif"/>
          <p:cNvPicPr/>
          <p:nvPr/>
        </p:nvPicPr>
        <p:blipFill>
          <a:blip r:embed="rId5"/>
          <a:stretch/>
        </p:blipFill>
        <p:spPr>
          <a:xfrm>
            <a:off x="7715160" y="6429240"/>
            <a:ext cx="1214640" cy="258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МБДОУ детского сада № 15 «Светлячок» по реализации программы «Здоровье дошкольника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116000" y="5584680"/>
            <a:ext cx="6904080" cy="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ые образовательные услуг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95280" y="1341000"/>
            <a:ext cx="82296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ми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ритми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игирующая гимнастика (для детей с нарушениями  осанки и стопы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 занятия на тренажер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тбол- аэроб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Школа мяча и скакалк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ние на велосипедах и самокат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жок «Азбука дорожного движени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вание в бассейне (200 детей). С детьми работают квалифицированный инструктор по плаванию, медсестра бассейна. Дети 3-4 лет посещают бассейн 1 раз в неделю, со среднего дошкольного возраста - 2 раза в недел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катанию на роликовых коньках для детей 5-7 лет проводит инструктор по физкультуре 1 раз в неделю в теплое время года во внутреннем дворике, имеющем специализированное покрыт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и достиж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134136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а за участие в городском спортивном празднике «Праздник мяча и скакалки»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а за оригинальность и творческий подход в городском  конкурсе по безопасности дорожного движения «Подарок юному пешеходу»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лом за участие в городском конкурсе детских рисунков «Чистота - залог здоровья», организованном группой компаний «ПРОГРЕСС  СЕРВИС»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а за участие в  городском спортивном  празднике «Зимние забавы»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а за первое место в соревнованиях по горнолыжному спорту «Пингвиньи старты» на призы Фирмы «ЮНАЙК»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а за первое место в 4 традиционном  детском марафоне на коньках среди мальчиков старшей группы детского сада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ы  ДЮСШ УО за призовые места в спортивной эстафете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ломы  за первое место в «Предновогодних стартах СДЮСШОР «Комета»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лом и благодарность за участие в городском проекте «Земля- наш общий дом»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имся опытом работ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МО для музыкальных руководителей ДОУ «Музыкально-ритмическое воспитание детей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МО для воспитателей групп раннего возраста «Речь на кончиках пальцев» - пальчиковая гимнастика и игровые упражнения на развитие мелкой моторики рук как средство формирования активной речи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а консультация для педагогов города «Деятельностный подход к организации образовательной деятельности дошкольников», материал которой был опубликован на сайте ММЦ УО, сайте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ww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sportal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u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ая разработка ««Двигательная активность дошкольников в режиме дня» опубликована на сайт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ww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sportal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u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 об участии детского сада в областном конкурсе «Зеленый огонек» был размещен на сайте Министерства образования Московской области, в газете «ВИП Юго-Восток», на сайте Управления образования администрации г.о. Колом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ломенском телевидени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ортаж о работе ДОУ по обучению детей правилам дорожного движения и формированию основ безопасного повед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репортаж об участии в областном конкурсе «Зеленый огонек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леканале ТВ-Центр показан репортаж из опыта работы ДОУ «Вырастить из ребенка «здоровую личность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вовали в городском проекте «Земля - наш общий дом»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ограммы «Здоровье дошкольника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5280" y="134100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ение, укрепление здоровья детей, обеспечение их гармоничного развития, безопасности жизнедеятельности, эмоционально – психологического благополучия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у родителей, педагогов, воспитанников представлений о здоровом образе жизни, осмысленного отношения к здоровью как важной жизненной цен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программ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2"/>
          <p:cNvSpPr/>
          <p:nvPr/>
        </p:nvSpPr>
        <p:spPr>
          <a:xfrm>
            <a:off x="395280" y="1052640"/>
            <a:ext cx="8353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психолого-педагогических условий развития двигательной сферы и здоровья детей на основе их творческой актив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комплекса здоровьесберегающих технологий в ходе воспитательно-образовательного проце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профессиональной компетенции педагогов по организации и проведению физкультурно - оздоровительной работы с дошкольни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изация взаимодействия с родителями (законными представителями) по сохранению и укреплению здоровья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социального партнерства с МБОУ СОШ № 16 и МБОУ ДЮСШ по сохранению и укреплению здоровья детей, их физическому развитию и формированию основ здорового образа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еализации программы разработана нормативно- правовая база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мотрены в соответствии с новыми нормами СанПиН и ФГ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й план ДО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им пребывания дошкольников в ДОУ в холодный и теплый период года, режим в адаптационный пери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исание непосредственно образовательной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 дневное мен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медицинского обслуживания дет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гательный режим в каждой возрастной групп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ограммы работы музыкального и физкультурного залов, бассей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кции по охране жизни и здоровья дет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Определена система физкультурно- оздоровительной работы с деть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ы договоры о сотрудничестве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СОШ № 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ДЮС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ая школа им. А. Алябье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К Коломенская филармо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У ВПО МГОСГ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физкультурно- оздоровительной работы включает несколько блоков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964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бно- профилактические мероприят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итамино-, аэрофито-, фитонцидотерапия, закаливание и другие мероприятия по медицинскому обслуживанию дошкольников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ее проведения оснащен медицинский блок, включающий медицинский кабинет, прививочный кабинет, изолятор на 2 места, второй медицинский кабинет находится в помещении бассейн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беспечение психологической безопасности личности ребенка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и комфортная организация режимных моментов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мальный двигательный режим, правильное распределен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х и интеллектуальных нагрузок, доброжелательный стиль общения взрослого с детьми, использование приемов релаксации в режиме дня, психогимнастика, музыкотерапия, сказкотерапия, организация адаптационного режима детей, индивидуальная и подгрупповая работа с детьми педагога - психолог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Рисунок 7" descr="SAM_0481.JPG"/>
          <p:cNvPicPr/>
          <p:nvPr/>
        </p:nvPicPr>
        <p:blipFill>
          <a:blip r:embed="rId1"/>
          <a:stretch/>
        </p:blipFill>
        <p:spPr>
          <a:xfrm>
            <a:off x="2548080" y="3352680"/>
            <a:ext cx="426060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здоровительная направленность воспитательно- образовательного процесса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требований к максимальной нагрузке на детей дошкольного возраста в организованных формах обучения, валеологизация образовательного пространства для детей, использование современных физкультурно-оздоровительных, здоровьесберегающих и здоровьеформирующих технологий, бережное отношение к нервной системе: учет индивидуальных особенностей и интересов, предоставление свободы выбора, создание условий для самореализации; ориентация на зону ближайшего развития ребенка, личностно- ориентированный, деятельностный подход к организации ВОП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Рисунок 3" descr="DSC03445.JPG"/>
          <p:cNvPicPr/>
          <p:nvPr/>
        </p:nvPicPr>
        <p:blipFill>
          <a:blip r:embed="rId1"/>
          <a:stretch/>
        </p:blipFill>
        <p:spPr>
          <a:xfrm>
            <a:off x="2693880" y="3925800"/>
            <a:ext cx="354168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сберегающие технологи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и сохранения и стимулирования здоровь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мика, динамические паузы, подвижные и спортивные игры, релаксация, гимнастика пальчиковая, гимнастика для глаз, гимнастика дыхательная, гимнастика бодрящая, гимнастика корригирующая, стопотерапия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и обучения здоровому образу жизн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культурное занятие, проблемно-игровые (игротреннинги и игротерапия), коммуникативные игры, занятия по валеологии, самомассаж, точечный самомассаж, массаж с Су-Джо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онные технологи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отерапия, сказкотерапия, технологии воздействия цветом, технологии коррекции поведения, психогимнастика, фонетическая и логопедическая ритм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Формирование валеологической культуры ребенка, основ валеологического сознания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я о здоровье, умения сберегать, поддерживать и сохранять его, формирование осознанного отношения к здоровью и жизни через организацию бесед, занятий, реализацию различных тематических проек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5" descr="DSC01659.JPG"/>
          <p:cNvPicPr/>
          <p:nvPr/>
        </p:nvPicPr>
        <p:blipFill>
          <a:blip r:embed="rId1"/>
          <a:stretch/>
        </p:blipFill>
        <p:spPr>
          <a:xfrm>
            <a:off x="2548080" y="2633760"/>
            <a:ext cx="432900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4T10:58:35Z</dcterms:created>
  <dc:creator>ТАТЬЯНА</dc:creator>
  <dc:description/>
  <dc:language>en-US</dc:language>
  <cp:lastModifiedBy>Agap4uk</cp:lastModifiedBy>
  <dcterms:modified xsi:type="dcterms:W3CDTF">2012-02-19T15:27:42Z</dcterms:modified>
  <cp:revision>24</cp:revision>
  <dc:subject/>
  <dc:title>Слайд 1</dc:title>
</cp:coreProperties>
</file>