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7559675" cy="10439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49BE6-D0BC-461F-A4DA-FB1A3ADFE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78000" y="417240"/>
            <a:ext cx="6805440" cy="17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78000" y="2436840"/>
            <a:ext cx="6805440" cy="32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78000" y="6035400"/>
            <a:ext cx="6805440" cy="32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EEEB8-CB8B-4350-BC1C-260E8DED0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78000" y="417240"/>
            <a:ext cx="6805440" cy="17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78000" y="2436840"/>
            <a:ext cx="3321000" cy="32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5320" y="2436840"/>
            <a:ext cx="3321000" cy="32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78000" y="6035400"/>
            <a:ext cx="3321000" cy="32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865320" y="6035400"/>
            <a:ext cx="3321000" cy="32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88AE1-3530-4815-9114-19473BD3C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78000" y="417240"/>
            <a:ext cx="6805440" cy="17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78000" y="2436840"/>
            <a:ext cx="2190960" cy="32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78760" y="2436840"/>
            <a:ext cx="2190960" cy="32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979880" y="2436840"/>
            <a:ext cx="2190960" cy="32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78000" y="6035400"/>
            <a:ext cx="2190960" cy="32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78760" y="6035400"/>
            <a:ext cx="2190960" cy="32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979880" y="6035400"/>
            <a:ext cx="2190960" cy="32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89E05-9DAB-44E6-B5ED-5B2232653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78000" y="417240"/>
            <a:ext cx="6805440" cy="17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78000" y="2436840"/>
            <a:ext cx="6805440" cy="68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BAFCB-22CC-4283-A24E-0E0D252F7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78000" y="417240"/>
            <a:ext cx="6805440" cy="17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78000" y="2436840"/>
            <a:ext cx="6805440" cy="688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AF5B5-9A2A-4BBA-96B0-FD5FB4A2B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78000" y="417240"/>
            <a:ext cx="6805440" cy="17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78000" y="2436840"/>
            <a:ext cx="3321000" cy="688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865320" y="2436840"/>
            <a:ext cx="3321000" cy="688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95A00-7B72-47B3-A31D-103E11207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78000" y="417240"/>
            <a:ext cx="6805440" cy="17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1E533-825A-4C2D-B720-89321B169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78000" y="417240"/>
            <a:ext cx="6805440" cy="80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BACC0-00EA-4A24-83AC-23AE69F9A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78000" y="417240"/>
            <a:ext cx="6805440" cy="17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78000" y="2436840"/>
            <a:ext cx="3321000" cy="32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865320" y="2436840"/>
            <a:ext cx="3321000" cy="688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78000" y="6035400"/>
            <a:ext cx="3321000" cy="32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70DFA-2AE7-4B9C-9040-876292B3B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78000" y="417240"/>
            <a:ext cx="6805440" cy="17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78000" y="2436840"/>
            <a:ext cx="3321000" cy="688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65320" y="2436840"/>
            <a:ext cx="3321000" cy="32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65320" y="6035400"/>
            <a:ext cx="3321000" cy="32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BD9DB-1D73-40D4-84D4-104395308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78000" y="417240"/>
            <a:ext cx="6805440" cy="17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78000" y="2436840"/>
            <a:ext cx="3321000" cy="32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65320" y="2436840"/>
            <a:ext cx="3321000" cy="32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78000" y="6035400"/>
            <a:ext cx="6805440" cy="32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CA5A6-96F4-4221-866F-20F007228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78000" y="417240"/>
            <a:ext cx="6805440" cy="17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78000" y="2436840"/>
            <a:ext cx="6805440" cy="688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77640" y="9507240"/>
            <a:ext cx="176508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83000" y="9507240"/>
            <a:ext cx="239544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418000" y="9507240"/>
            <a:ext cx="176544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0A604-21C7-4713-84CD-B9CB251A431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3" descr="j153934_1253272875th"/>
          <p:cNvPicPr/>
          <p:nvPr/>
        </p:nvPicPr>
        <p:blipFill>
          <a:blip r:embed="rId1"/>
          <a:stretch/>
        </p:blipFill>
        <p:spPr>
          <a:xfrm>
            <a:off x="-34920" y="0"/>
            <a:ext cx="7596360" cy="10441080"/>
          </a:xfrm>
          <a:prstGeom prst="rect">
            <a:avLst/>
          </a:prstGeom>
          <a:ln w="0">
            <a:noFill/>
          </a:ln>
        </p:spPr>
      </p:pic>
      <p:sp>
        <p:nvSpPr>
          <p:cNvPr id="42" name="WordArt 14"/>
          <p:cNvSpPr txBox="1"/>
          <p:nvPr/>
        </p:nvSpPr>
        <p:spPr>
          <a:xfrm>
            <a:off x="1260360" y="2052720"/>
            <a:ext cx="525636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cap="rnd" w="9360">
                  <a:solidFill>
                    <a:srgbClr val="990033"/>
                  </a:solidFill>
                  <a:custDash>
                    <a:ds d="100000" sp="1000"/>
                  </a:custDash>
                  <a:miter/>
                </a:ln>
                <a:gradFill rotWithShape="0">
                  <a:gsLst>
                    <a:gs pos="0">
                      <a:srgbClr val="990033"/>
                    </a:gs>
                    <a:gs pos="100000">
                      <a:srgbClr val="d60093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«Родителям на заметку"</a:t>
            </a:r>
            <a:endParaRPr b="0" lang="en-US" sz="1800" spc="1" strike="noStrike">
              <a:ln cap="rnd" w="9360">
                <a:solidFill>
                  <a:srgbClr val="990033"/>
                </a:solidFill>
                <a:custDash>
                  <a:ds d="100000" sp="1000"/>
                </a:custDash>
                <a:miter/>
              </a:ln>
              <a:gradFill rotWithShape="0">
                <a:gsLst>
                  <a:gs pos="0">
                    <a:srgbClr val="990033"/>
                  </a:gs>
                  <a:gs pos="100000">
                    <a:srgbClr val="d60093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3" name="WordArt 15"/>
          <p:cNvSpPr txBox="1"/>
          <p:nvPr/>
        </p:nvSpPr>
        <p:spPr>
          <a:xfrm>
            <a:off x="324000" y="468360"/>
            <a:ext cx="595296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0">
                  <a:noFill/>
                </a:ln>
                <a:solidFill>
                  <a:srgbClr val="990033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ГОУ детский сад № 1138</a:t>
            </a:r>
            <a:endParaRPr b="0" i="1" lang="en-US" sz="2000" spc="1" strike="noStrike">
              <a:ln w="0">
                <a:noFill/>
              </a:ln>
              <a:solidFill>
                <a:srgbClr val="990033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44" name="Picture 17" descr="pers32"/>
          <p:cNvPicPr/>
          <p:nvPr/>
        </p:nvPicPr>
        <p:blipFill>
          <a:blip r:embed="rId2"/>
          <a:stretch/>
        </p:blipFill>
        <p:spPr>
          <a:xfrm>
            <a:off x="684360" y="2771640"/>
            <a:ext cx="6121080" cy="4219560"/>
          </a:xfrm>
          <a:prstGeom prst="rect">
            <a:avLst/>
          </a:prstGeom>
          <a:ln w="0">
            <a:noFill/>
          </a:ln>
        </p:spPr>
      </p:pic>
      <p:sp>
        <p:nvSpPr>
          <p:cNvPr id="45" name="AutoShape 18"/>
          <p:cNvSpPr/>
          <p:nvPr/>
        </p:nvSpPr>
        <p:spPr>
          <a:xfrm>
            <a:off x="1476360" y="4213080"/>
            <a:ext cx="4824360" cy="1727280"/>
          </a:xfrm>
          <a:prstGeom prst="flowChartAlternateProcess">
            <a:avLst/>
          </a:prstGeom>
          <a:solidFill>
            <a:srgbClr val="ffecd9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WordArt 16"/>
          <p:cNvSpPr txBox="1"/>
          <p:nvPr/>
        </p:nvSpPr>
        <p:spPr>
          <a:xfrm>
            <a:off x="1836720" y="4645080"/>
            <a:ext cx="41767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2600">
                  <a:solidFill>
                    <a:srgbClr val="d60093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Развитие речи дошкольников</a:t>
            </a:r>
            <a:endParaRPr b="1" lang="en-US" sz="2000" spc="1" strike="noStrike">
              <a:ln w="12600">
                <a:solidFill>
                  <a:srgbClr val="d60093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7" name="Text Box 19"/>
          <p:cNvSpPr/>
          <p:nvPr/>
        </p:nvSpPr>
        <p:spPr>
          <a:xfrm>
            <a:off x="3041280" y="8072280"/>
            <a:ext cx="148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20049"/>
                </a:solidFill>
                <a:latin typeface="Arial"/>
              </a:rPr>
              <a:t>Москва, 20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1237225967_vosp"/>
          <p:cNvPicPr/>
          <p:nvPr/>
        </p:nvPicPr>
        <p:blipFill>
          <a:blip r:embed="rId1"/>
          <a:stretch/>
        </p:blipFill>
        <p:spPr>
          <a:xfrm>
            <a:off x="0" y="0"/>
            <a:ext cx="7570800" cy="10441080"/>
          </a:xfrm>
          <a:prstGeom prst="rect">
            <a:avLst/>
          </a:prstGeom>
          <a:ln w="0">
            <a:noFill/>
          </a:ln>
        </p:spPr>
      </p:pic>
      <p:sp>
        <p:nvSpPr>
          <p:cNvPr id="49" name="WordArt 3"/>
          <p:cNvSpPr txBox="1"/>
          <p:nvPr/>
        </p:nvSpPr>
        <p:spPr>
          <a:xfrm>
            <a:off x="2052720" y="898560"/>
            <a:ext cx="4319640" cy="592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cap="rnd" w="9360">
                  <a:solidFill>
                    <a:srgbClr val="b00000"/>
                  </a:solidFill>
                  <a:custDash>
                    <a:ds d="100000" sp="1000"/>
                  </a:custDash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Зачем нужны сказочные истории</a:t>
            </a:r>
            <a:endParaRPr b="1" lang="en-US" sz="2000" spc="1" strike="noStrike">
              <a:ln cap="rnd" w="9360">
                <a:solidFill>
                  <a:srgbClr val="b00000"/>
                </a:solidFill>
                <a:custDash>
                  <a:ds d="100000" sp="1000"/>
                </a:custDash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50" name="Group 4"/>
          <p:cNvGrpSpPr/>
          <p:nvPr/>
        </p:nvGrpSpPr>
        <p:grpSpPr>
          <a:xfrm>
            <a:off x="252360" y="0"/>
            <a:ext cx="1800360" cy="1873080"/>
            <a:chOff x="252360" y="0"/>
            <a:chExt cx="1800360" cy="1873080"/>
          </a:xfrm>
        </p:grpSpPr>
        <p:pic>
          <p:nvPicPr>
            <p:cNvPr id="51" name="Picture 5" descr="7cb91c090231t"/>
            <p:cNvPicPr/>
            <p:nvPr/>
          </p:nvPicPr>
          <p:blipFill>
            <a:blip r:embed="rId4"/>
            <a:stretch/>
          </p:blipFill>
          <p:spPr>
            <a:xfrm>
              <a:off x="252360" y="0"/>
              <a:ext cx="1800360" cy="187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Rectangle 6"/>
            <p:cNvSpPr/>
            <p:nvPr/>
          </p:nvSpPr>
          <p:spPr>
            <a:xfrm>
              <a:off x="1152720" y="1580040"/>
              <a:ext cx="618480" cy="175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3" name="Picture 7" descr="post-54958-1233847846"/>
          <p:cNvPicPr/>
          <p:nvPr/>
        </p:nvPicPr>
        <p:blipFill>
          <a:blip r:embed="rId5"/>
          <a:stretch/>
        </p:blipFill>
        <p:spPr>
          <a:xfrm>
            <a:off x="5940360" y="8818560"/>
            <a:ext cx="1621080" cy="162252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8"/>
          <p:cNvSpPr/>
          <p:nvPr/>
        </p:nvSpPr>
        <p:spPr>
          <a:xfrm>
            <a:off x="755640" y="1468440"/>
            <a:ext cx="6335640" cy="87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ассказывание историй – древнейший способ человеческого общения и, пожалуй, один из наиболее подходящих детям. 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ак пишет про это известный психолог и психотерапевт Д. Бретт. «Нам, взрослым, следует помнить, что если мы хотим научить ребенка чему-либо или передать ему какую-то важную мысль, нужно делать так, чтобы это было узнаваемо, удобоваримо и понятно. Общаясь с детьми, старайтесь говорить с ними на языке, который им понятен и на который они лучше отзываются — на языке детской фантазии и воображения. В сказках поднимаются важные для детского мировосприятия проблемы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на самом деле, рассказывание историй, для родителей – вещь уникальная. Вы сами знаете, что вечернее чтение ребенку – одно из лучших средств примирения. Дело в том, что дети – в каком-то роде инопланетяне на нашей «взрослой» планете. Прилетевшие в гости и, по воле судьбы, решившие остаться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десь навсегда.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ни видят мир совершенно по-другому, чем мы. Они наблюдают взрослых, слушают их, стараются понять и стать похожими на них. Однако этого хватает не всегд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ети постоянно сталкиваются   с проблемами, схожих с которыми нет во «взрослом» мире. Даже если они и встречаются - все равно наши способы решения бесполезны для них. Объяснения и увещевания отлетают «как от стенки горох» – не правда ли знакомая картина? В результате дети, мышление которых предельно однозначно («да-нет», «плохо-хорошо»), приходят к выводу о том, что вы им помочь не может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ногда  взрослый, желая что-то подсказать ребенку «по жизни»  или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сто выразить свои чувства, не может найти для этого подходящих слов, не знает, как можно дать  понять ребенку, что он не оставлен «один на один» со своими проблемам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ыход здесь один – самому погрузиться в мир фантазии и волшебства, в котором ребенок чувствует себя как «рыба в воде». В мир, где возможны самые непредсказуемые сочетания событий, героев и пр.,  но из которого ребенок с легкостью берет информацию для жизни в реальном мире. Надо отметить еще раз – фантазия абсолютно  реальна для детей. И не потому, что дети не видят настоящей жизни. Просто фантазия, является для детей наилучшим способом анализа окружающего мира. Это их язык, который мы, взрослые, успешно забыли. Значит надо вспоминать, – и именно в этом вам помогут сказочные истории. Огромную роль здесь могут сослужить самые обычные волшебные сказки, которые вы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читаете или читали на ночь своему ребенку. Волшебна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казка настолько универсальна, что ее  структура  одинаков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о всем мире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6" descr="dad7f94a7e8ft"/>
          <p:cNvPicPr/>
          <p:nvPr/>
        </p:nvPicPr>
        <p:blipFill>
          <a:blip r:embed="rId1"/>
          <a:stretch/>
        </p:blipFill>
        <p:spPr>
          <a:xfrm>
            <a:off x="0" y="0"/>
            <a:ext cx="7561440" cy="1044108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2"/>
          <p:cNvSpPr/>
          <p:nvPr/>
        </p:nvSpPr>
        <p:spPr>
          <a:xfrm>
            <a:off x="2771640" y="2268360"/>
            <a:ext cx="3853080" cy="10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«Сказка развивает внутренние силы ребенка, благодаря которым, человек не может не делать добра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.А. Сухомлинск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4"/>
          <p:cNvSpPr/>
          <p:nvPr/>
        </p:nvSpPr>
        <p:spPr>
          <a:xfrm>
            <a:off x="1260360" y="3197160"/>
            <a:ext cx="5183280" cy="575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о-первых, они рождают у ребенка ощущение, что вы его понимаете, что вас интересуют его проблемы, что вы не «стоите в стороне», а готовы оказать посильную помощь. Реакция ребенка на эти истории может оказаться для него единственным способом, которым он «откроет» вам свою душу, расскажет о своих трудностях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о-вторых,  у детей формируется "механизм самопомощи". Они усваивают такой подход к жизни: «ищи силы для разрешения конфликта в себе самом, ты их обязательно найдешь и ты наверняка победишь трудности». Таким образом, они начинают следовать основной идее сказочных историй: «в сложной ситуации необходимо искать ресурсы внутри самого себя, и это обязательно приведет к успеху»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-третьих, истории представляют детям россыпи возможных вариантов выхода из сложнейших жизненных ситуаций. Они показывают детям, что выход есть всегда, надо только внимательно посмотреть, поискать 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кончание обязательно будет счастливы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амый простой и естественный способ – чтени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ебенку вслух. Даже если ребенок прекрасно читает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ажно, чтобы это делали вы. В этом случае, 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одержание сказки как бы автоматически одобряетс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ами и разрешается для обсуждения. Да и потом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акое несказанное удовольствие можно получить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ттого, что «тебе читают!», хотя, в общем  уже совершенно  не обязаны этого делать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WordArt 5"/>
          <p:cNvSpPr txBox="1"/>
          <p:nvPr/>
        </p:nvSpPr>
        <p:spPr>
          <a:xfrm>
            <a:off x="1836720" y="1405080"/>
            <a:ext cx="4248000" cy="1222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Что могут дать сказочные истории</a:t>
            </a:r>
            <a:endParaRPr b="1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1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ашим детям?</a:t>
            </a:r>
            <a:endParaRPr b="1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 </a:t>
            </a:r>
            <a:endParaRPr b="1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6" descr="8569b22c279ft"/>
          <p:cNvPicPr/>
          <p:nvPr/>
        </p:nvPicPr>
        <p:blipFill>
          <a:blip r:embed="rId1"/>
          <a:srcRect l="0" t="0" r="0" b="36558"/>
          <a:stretch/>
        </p:blipFill>
        <p:spPr>
          <a:xfrm>
            <a:off x="0" y="0"/>
            <a:ext cx="7561440" cy="71643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" descr="8569b22c279ft"/>
          <p:cNvPicPr/>
          <p:nvPr/>
        </p:nvPicPr>
        <p:blipFill>
          <a:blip r:embed="rId2"/>
          <a:srcRect l="0" t="60355" r="0" b="0"/>
          <a:stretch/>
        </p:blipFill>
        <p:spPr>
          <a:xfrm>
            <a:off x="0" y="6875640"/>
            <a:ext cx="7561440" cy="356544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2"/>
          <p:cNvSpPr/>
          <p:nvPr/>
        </p:nvSpPr>
        <p:spPr>
          <a:xfrm>
            <a:off x="1116000" y="1399320"/>
            <a:ext cx="5977080" cy="511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сем хочется, чтобы ребенок был самым умным, здоровым, красивым. Но всё ли мы делаем для этого? Много ли времени мы уделяем своему ребёнку, играя с ним? А ведь особенность дошкольного возраста «играя обучать и развивать». Игра для ребёнка – это искра, зажигающая огонёк пытливости и любознательност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едлагаем несколько игр, в которые можно поиграть с детьми не только дома, но и в поликлинике, в поездке, в различных ситуациях, когда приходится находиться с ребёнком в очереди и т.д. И, хотя ожидание в нашей жизни и обычное явление, мало кто из наших детей умеет быть терпеливым. Но есть отличный способ превратить ожидание в игру. Эти простые игры направлены на развитие речи, мышления, воображения, зрительного внимания, памят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ru-RU" sz="1400" spc="-1" strike="noStrike">
                <a:solidFill>
                  <a:srgbClr val="960000"/>
                </a:solidFill>
                <a:latin typeface="Arial"/>
              </a:rPr>
              <a:t>«Наоборот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ебёнку называют слово, а он называет его противоположное значение. /Например: большой – маленький, сухой – мокрый, злой – добрый, грязный – чистый…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cc"/>
                </a:solidFill>
                <a:latin typeface="Arial"/>
              </a:rPr>
              <a:t>            </a:t>
            </a:r>
            <a:r>
              <a:rPr b="1" lang="ru-RU" sz="1400" spc="-1" strike="noStrike">
                <a:solidFill>
                  <a:srgbClr val="0000cc"/>
                </a:solidFill>
                <a:latin typeface="Arial"/>
              </a:rPr>
              <a:t>«Кто я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зрослый спрашивает ребёнка: «Кто я?» и изображает жестами, мимикой,  если необходимо – звуками поезд, машину, самолёт, чайник…  Когда ребёнок научится угадывать, загадывайте с ним по очереди.</a:t>
            </a:r>
            <a:r>
              <a:rPr b="1" lang="ru-RU" sz="1400" spc="-1" strike="noStrike">
                <a:solidFill>
                  <a:srgbClr val="ff6600"/>
                </a:solidFill>
                <a:latin typeface="Arial"/>
              </a:rPr>
              <a:t>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WordArt 3"/>
          <p:cNvSpPr txBox="1"/>
          <p:nvPr/>
        </p:nvSpPr>
        <p:spPr>
          <a:xfrm>
            <a:off x="1547640" y="684360"/>
            <a:ext cx="489744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804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cap="rnd" w="9360">
                  <a:solidFill>
                    <a:srgbClr val="ac0000"/>
                  </a:solidFill>
                  <a:custDash>
                    <a:ds d="100000" sp="1000"/>
                  </a:custDash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Несколько хороших идей для совместных игр </a:t>
            </a:r>
            <a:endParaRPr b="1" lang="en-US" sz="1800" spc="1" strike="noStrike">
              <a:ln cap="rnd" w="9360">
                <a:solidFill>
                  <a:srgbClr val="ac0000"/>
                </a:solidFill>
                <a:custDash>
                  <a:ds d="100000" sp="1000"/>
                </a:custDash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cap="rnd" w="9360">
                  <a:solidFill>
                    <a:srgbClr val="ac0000"/>
                  </a:solidFill>
                  <a:custDash>
                    <a:ds d="100000" sp="1000"/>
                  </a:custDash>
                  <a:miter/>
                </a:ln>
                <a:blipFill rotWithShape="0">
                  <a:blip r:embed="rId5"/>
                  <a:srcRect/>
                  <a:stretch/>
                </a:blip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родителей и  детей</a:t>
            </a:r>
            <a:endParaRPr b="1" lang="en-US" sz="1800" spc="1" strike="noStrike">
              <a:ln cap="rnd" w="9360">
                <a:solidFill>
                  <a:srgbClr val="ac0000"/>
                </a:solidFill>
                <a:custDash>
                  <a:ds d="100000" sp="1000"/>
                </a:custDash>
                <a:miter/>
              </a:ln>
              <a:blipFill rotWithShape="0">
                <a:blip r:embed="rId6"/>
                <a:srcRect/>
                <a:stretch/>
              </a:blip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3" name="Rectangle 5"/>
          <p:cNvSpPr/>
          <p:nvPr/>
        </p:nvSpPr>
        <p:spPr>
          <a:xfrm>
            <a:off x="1620720" y="6010200"/>
            <a:ext cx="475164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6600"/>
                </a:solidFill>
                <a:latin typeface="Arial"/>
              </a:rPr>
              <a:t>«Поиск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ообща рассматривать книжку с картинками. Например, взрослый говорит: «Я вижу что-то, оно красное! Что это?» Когда это что-то будет найдено, поменяться ролям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0066"/>
                </a:solidFill>
                <a:latin typeface="Arial"/>
              </a:rPr>
              <a:t>«Назови целое по его части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ебёнку называют часть предмета, а он находит целое. /Например: колесо – автомобиль, автобус, велосипед; шнурок – ботинки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россовки, туфли и т.д.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02T04:21:05Z</dcterms:created>
  <dc:creator>User</dc:creator>
  <dc:description/>
  <dc:language>en-US</dc:language>
  <cp:lastModifiedBy>Ирина</cp:lastModifiedBy>
  <dcterms:modified xsi:type="dcterms:W3CDTF">2012-02-19T10:16:49Z</dcterms:modified>
  <cp:revision>21</cp:revision>
  <dc:subject/>
  <dc:title>Слайд 1</dc:title>
</cp:coreProperties>
</file>