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352-0742-460B-8D57-071D33BA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6A8-00A9-4AD9-93EB-B5B7895D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A62-4EE4-4E30-A1BA-539A54B4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5F2-7B47-400A-86EB-12651CB1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6D9-AFC1-46F5-B170-26FCCAEC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5F4-909C-451F-AC80-72B05FA4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FB3-3FF6-4C1C-9818-7FE2B9EF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1AB-0DBF-48E1-A862-4BFAD944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4D5-4C6A-4525-A905-7370DB5E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A77-E18D-45ED-9FDC-522AC50E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D63-80F4-4F64-95ED-32B826C9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852-214C-45E2-BADE-D4EADEFC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A15F-B6E2-4410-8276-D5E43525CF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qiq.ru/showim/460532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439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Блокада Ленинграда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Мы не помнить об этом невправе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6120" y="5072040"/>
            <a:ext cx="51292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одготовила воспитатель ГП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ГБОУ НОШ «Школа здоровья» № 17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Горшкова М.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28800" y="2214720"/>
            <a:ext cx="42066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орма выдачи хлеба в осажденном Ленинград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Музее истории Ленинграда (Санкт-Петербурга) хранится чёрствый, потемневший не от времени, а тёмный с самого своего появления на свет ломоть хле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28760" y="3571920"/>
            <a:ext cx="3357360" cy="25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s16.radikal.ru/i190/1105/61/f00930d69d74.jpg"/>
          <p:cNvPicPr/>
          <p:nvPr/>
        </p:nvPicPr>
        <p:blipFill>
          <a:blip r:embed="rId2"/>
          <a:stretch/>
        </p:blipFill>
        <p:spPr>
          <a:xfrm>
            <a:off x="4857840" y="2786040"/>
            <a:ext cx="34290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photo1.jpg"/>
          <p:cNvPicPr/>
          <p:nvPr/>
        </p:nvPicPr>
        <p:blipFill>
          <a:blip r:embed="rId1"/>
          <a:stretch/>
        </p:blipFill>
        <p:spPr>
          <a:xfrm>
            <a:off x="5715000" y="3214800"/>
            <a:ext cx="2959200" cy="2697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невник Тани Савичевой</a:t>
            </a:r>
            <a:br>
              <a:rPr sz="3200"/>
            </a:b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 В маленьком блокноте, ставшим впоследствии блокадным дневником, в алфавитном порядке на букву "Ж" появилась первая трагическая запись, сделанная рукой Тани: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 "Женя умерла 28 дек в 12.30 час утра 1941 г"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2" descr="7"/>
          <p:cNvPicPr/>
          <p:nvPr/>
        </p:nvPicPr>
        <p:blipFill>
          <a:blip r:embed="rId2"/>
          <a:stretch/>
        </p:blipFill>
        <p:spPr>
          <a:xfrm>
            <a:off x="571680" y="3429000"/>
            <a:ext cx="4714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Ленинградские школьники не только учились, но чем могли, помогали взрослым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Школьники дежурили на крышах и тушили зажигательные бомбы. Они работали в госпиталях: мыли полы, кормили раненых, давали им лекарства. Становились станочниками, сборщиками, выпускали боеприпасы и оружие для фро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" descr="http://img-fotki.yandex.ru/get/4202/babs71.13f/0_3188e_17531ffc_L.jpg"/>
          <p:cNvPicPr/>
          <p:nvPr/>
        </p:nvPicPr>
        <p:blipFill>
          <a:blip r:embed="rId1"/>
          <a:stretch/>
        </p:blipFill>
        <p:spPr>
          <a:xfrm>
            <a:off x="142920" y="2857680"/>
            <a:ext cx="3214800" cy="224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img1.liveinternet.ru/images/attach/c/2/66/657/66657042_1289906277_348037705.jpg"/>
          <p:cNvPicPr/>
          <p:nvPr/>
        </p:nvPicPr>
        <p:blipFill>
          <a:blip r:embed="rId2"/>
          <a:stretch/>
        </p:blipFill>
        <p:spPr>
          <a:xfrm>
            <a:off x="5929200" y="2928960"/>
            <a:ext cx="3071880" cy="2131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Дети-герои Великой Отечественной войны , картинка номер 4605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14800" y="4643280"/>
            <a:ext cx="3071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835812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стоял Ленинград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отни юных ленинградцев были награждены орденами, тысячи – медалями «За оборону Ленинграда», медалями жителю блокадного Ленингр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4" descr="http://www.proza.ru/pics/2010/08/14/1005.jpg"/>
          <p:cNvPicPr/>
          <p:nvPr/>
        </p:nvPicPr>
        <p:blipFill>
          <a:blip r:embed="rId1"/>
          <a:stretch/>
        </p:blipFill>
        <p:spPr>
          <a:xfrm>
            <a:off x="1857240" y="3286080"/>
            <a:ext cx="1285920" cy="2157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nasledie.dubna.ru/pictures/1834_3.jpg"/>
          <p:cNvPicPr/>
          <p:nvPr/>
        </p:nvPicPr>
        <p:blipFill>
          <a:blip r:embed="rId2"/>
          <a:stretch/>
        </p:blipFill>
        <p:spPr>
          <a:xfrm>
            <a:off x="4929120" y="3286080"/>
            <a:ext cx="20718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27 января 1944 года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блокада Ленинграда была окончательно снята. Город праздновал своё освобождение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амятник-ансамбль «Разорванное кольцо»  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 Здесь начиналась «Дорога жизни» 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085"/>
          <p:cNvPicPr/>
          <p:nvPr/>
        </p:nvPicPr>
        <p:blipFill>
          <a:blip r:embed="rId1"/>
          <a:stretch/>
        </p:blipFill>
        <p:spPr>
          <a:xfrm>
            <a:off x="357120" y="3071880"/>
            <a:ext cx="364356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www.websib.ru/fio/works/119/group1/doroga.jpg"/>
          <p:cNvPicPr/>
          <p:nvPr/>
        </p:nvPicPr>
        <p:blipFill>
          <a:blip r:embed="rId2"/>
          <a:stretch/>
        </p:blipFill>
        <p:spPr>
          <a:xfrm>
            <a:off x="4714920" y="3714840"/>
            <a:ext cx="37861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8688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искарёвское кладбище в Ленинграде – огромный мемориальный памятник. В вечном молчании, высоко-высоко поднялась здесь фигура скорбящей женщины. Кругом цветы. И как клятва, как боль, слова на граните: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«Никто не забыт, ничто не забыт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2" descr="http://static.panoramio.com/photos/original/4660526.jpg"/>
          <p:cNvPicPr/>
          <p:nvPr/>
        </p:nvPicPr>
        <p:blipFill>
          <a:blip r:embed="rId1"/>
          <a:stretch/>
        </p:blipFill>
        <p:spPr>
          <a:xfrm>
            <a:off x="2714760" y="214308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Защитникам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города-героя Ленинграда – вечная памя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14520" y="1785960"/>
            <a:ext cx="47862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клонимся великим тем год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Тем славным командирам и бойц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И маршалам страны и рядовы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клонимся и мёртвым и живы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Всем тем которых забывать нельз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клонимся, поклонимся друзья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http://www.edu.cap.ru/home/4317/foto/65.jpg"/>
          <p:cNvPicPr/>
          <p:nvPr/>
        </p:nvPicPr>
        <p:blipFill>
          <a:blip r:embed="rId1"/>
          <a:stretch/>
        </p:blipFill>
        <p:spPr>
          <a:xfrm>
            <a:off x="571680" y="3500280"/>
            <a:ext cx="3643200" cy="2732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MCj04281470000[1]"/>
          <p:cNvPicPr/>
          <p:nvPr/>
        </p:nvPicPr>
        <p:blipFill>
          <a:blip r:embed="rId2"/>
          <a:stretch/>
        </p:blipFill>
        <p:spPr>
          <a:xfrm rot="20495400">
            <a:off x="5819400" y="4640040"/>
            <a:ext cx="1638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8688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22 июня 1941 года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 рассвете войска фашистской Германии вероломно, без предупреждения напали на нашу Родину. Началась великая отечественная война советского народа против фашистских захватчиков.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Фашисты говорили, что Москва – это сердце России, а Ленинград её душа. Поэтому один из основных ударов они направили на Ленинград с  целью стереть его с лица земли. Но фашисты глубоко просчитались. Все жители мужественно обороняли свой гор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g6"/>
          <p:cNvPicPr/>
          <p:nvPr/>
        </p:nvPicPr>
        <p:blipFill>
          <a:blip r:embed="rId1"/>
          <a:stretch/>
        </p:blipFill>
        <p:spPr>
          <a:xfrm>
            <a:off x="2643120" y="3429000"/>
            <a:ext cx="37148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78688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 августе 1941 года город Ленинград оказался в блокаде, то есть в кольце фашистских полчищ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Дорога жизни» по ладожскому озе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000760" y="3357720"/>
            <a:ext cx="3571920" cy="3267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карта23"/>
          <p:cNvPicPr/>
          <p:nvPr/>
        </p:nvPicPr>
        <p:blipFill>
          <a:blip r:embed="rId2"/>
          <a:stretch/>
        </p:blipFill>
        <p:spPr>
          <a:xfrm>
            <a:off x="285840" y="2500200"/>
            <a:ext cx="41432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Началась блокада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Начались страшные дни Ленинград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Вид Невского проспекта во время  вражеского артобстрела 1942 г. Место съемки: Ленинград Автор съемки: Кудояров Борис Павлович РГАКФД ед. хр. 1-104942"/>
          <p:cNvPicPr/>
          <p:nvPr/>
        </p:nvPicPr>
        <p:blipFill>
          <a:blip r:embed="rId1"/>
          <a:stretch/>
        </p:blipFill>
        <p:spPr>
          <a:xfrm>
            <a:off x="2286000" y="2286000"/>
            <a:ext cx="4429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857268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ышел из строя водопровод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590025227" descr="http://knight-spb.ucoz.ru/_ph/44/2/590025227.jpg"/>
          <p:cNvPicPr/>
          <p:nvPr/>
        </p:nvPicPr>
        <p:blipFill>
          <a:blip r:embed="rId1"/>
          <a:stretch/>
        </p:blipFill>
        <p:spPr>
          <a:xfrm>
            <a:off x="2714760" y="2286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е было топлива. Не было электри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Разборка домов на топливо  Место съемки: Ленинград Автор съемки: Струнников Сергей Николаевич ЦАОПИМ Ф.8744. Оп.1. д.7"/>
          <p:cNvPicPr/>
          <p:nvPr/>
        </p:nvPicPr>
        <p:blipFill>
          <a:blip r:embed="rId1"/>
          <a:stretch/>
        </p:blipFill>
        <p:spPr>
          <a:xfrm>
            <a:off x="2786040" y="1643040"/>
            <a:ext cx="36432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585792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чался гол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pobeda-1941-1945.narod.ru/photo/63-5.jpg"/>
          <p:cNvPicPr/>
          <p:nvPr/>
        </p:nvPicPr>
        <p:blipFill>
          <a:blip r:embed="rId1"/>
          <a:stretch/>
        </p:blipFill>
        <p:spPr>
          <a:xfrm>
            <a:off x="5786280" y="1428840"/>
            <a:ext cx="2567160" cy="328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Блокада Ленинграда (голодные люди) - фото"/>
          <p:cNvPicPr/>
          <p:nvPr/>
        </p:nvPicPr>
        <p:blipFill>
          <a:blip r:embed="rId2"/>
          <a:stretch/>
        </p:blipFill>
        <p:spPr>
          <a:xfrm>
            <a:off x="1214280" y="2857680"/>
            <a:ext cx="3889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868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По Ленинграду ходила смерть. </a:t>
            </a: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Свыше 650 тысяч ленинградцев погибли от голод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7"/>
          <p:cNvPicPr/>
          <p:nvPr/>
        </p:nvPicPr>
        <p:blipFill>
          <a:blip r:embed="rId1"/>
          <a:stretch/>
        </p:blipFill>
        <p:spPr>
          <a:xfrm>
            <a:off x="571680" y="2214720"/>
            <a:ext cx="3071520" cy="3516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img-fotki.yandex.ru/get/5902/ldni.13/0_6ed28_bbac2722_L"/>
          <p:cNvPicPr/>
          <p:nvPr/>
        </p:nvPicPr>
        <p:blipFill>
          <a:blip r:embed="rId2"/>
          <a:stretch/>
        </p:blipFill>
        <p:spPr>
          <a:xfrm>
            <a:off x="4357800" y="278604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Хлеб блокадного Ленинграда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5357880" y="1571760"/>
            <a:ext cx="335736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frontalbum.ru/wp-content/uploads/2011/12/18-600x403.jpg"/>
          <p:cNvPicPr/>
          <p:nvPr/>
        </p:nvPicPr>
        <p:blipFill>
          <a:blip r:embed="rId2"/>
          <a:stretch/>
        </p:blipFill>
        <p:spPr>
          <a:xfrm>
            <a:off x="500040" y="3214800"/>
            <a:ext cx="37861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3:15:18Z</dcterms:created>
  <dc:creator>Admin</dc:creator>
  <dc:description/>
  <dc:language>en-US</dc:language>
  <cp:lastModifiedBy>Admin</cp:lastModifiedBy>
  <dcterms:modified xsi:type="dcterms:W3CDTF">2012-02-19T13:12:01Z</dcterms:modified>
  <cp:revision>13</cp:revision>
  <dc:subject/>
  <dc:title>Слайд 1</dc:title>
</cp:coreProperties>
</file>