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161-CBCC-47FB-BB63-7612D0B8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0B7-5061-49A7-81A1-F611847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CEE-442E-4560-9692-DF34DAC9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753-09CE-442D-9B76-8143DBF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191-EB4C-43AC-962E-D41937E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20A-C127-4077-8B34-2F352F1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4E1-2DDD-4E8B-A2FE-D34990EB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45F-5598-4E4C-8A8A-8C08511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9E8-FA85-4A71-8D5A-CA1D08F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604-FAE1-4429-92E9-5DA7501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D73-B920-43CD-BF19-2D244DD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55B-3882-4753-8CF6-A71D943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095-36C5-4826-9CDC-FF913D5B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 Детский сад № 83 « Звёзд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44640"/>
            <a:ext cx="92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ременные 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практике учителя – логопед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а работы по формированию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429264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ковой Арины Анато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54936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тивопоказания для заня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" y="1982880"/>
            <a:ext cx="412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бсолютны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жёлые нарушения псих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грубые нарушения интелл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рождённые порок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06064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носи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болевания ОРВ, ОР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болевания серд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перированные де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ети младше 4 –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"/>
                            </p:stCondLst>
                            <p:childTnLst>
                              <p:par>
                                <p:cTn id="31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850"/>
                            </p:stCondLst>
                            <p:childTnLst>
                              <p:par>
                                <p:cTn id="32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11280" y="2781360"/>
            <a:ext cx="43340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 за  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1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332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476280"/>
            <a:ext cx="8109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Биологическая Обратная Связь  ( БОС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хнология формирования физическ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укрепления здоровь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480" y="4869000"/>
            <a:ext cx="821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тель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Сметанк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чёный – физиоло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Санкт –Петербургского НОУ « Институт БОС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идент Российской Ассоциации Биологической Обрат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2663640" cy="1998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79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89000"/>
            <a:ext cx="778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 методики – диафрагмально – релаксационный тип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доровительная дыхательная гимнастика по методу БОС уникальна тем, что человек сознательно участвует в процессе оздоровления организма. Он учится управлять своим здоровьем, дыханием и эмоциями с помощью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2843280" y="2564280"/>
            <a:ext cx="345600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и логопед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6084720" y="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вается 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"/>
          <p:cNvSpPr/>
          <p:nvPr/>
        </p:nvSpPr>
        <p:spPr>
          <a:xfrm>
            <a:off x="324000" y="4292640"/>
            <a:ext cx="3240000" cy="2171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укрепляю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здоров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"/>
          <p:cNvSpPr/>
          <p:nvPr/>
        </p:nvSpPr>
        <p:spPr>
          <a:xfrm>
            <a:off x="0" y="2013120"/>
            <a:ext cx="3203640" cy="2145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ершенству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рушение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250920" y="189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имся        говорить правильно на выдо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3203640" y="47628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ыш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центрация            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788000" y="4365720"/>
            <a:ext cx="3311280" cy="2219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ршенствуютсялексико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6156360" y="21337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з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333360"/>
            <a:ext cx="703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вдох – живот надувается, грудная клетка расши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дохе – живот медленно втягивается, грудь опуск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ина выдоха – 5-7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3280" y="476280"/>
            <a:ext cx="32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268280"/>
            <a:ext cx="2808360" cy="141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ика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з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492280"/>
            <a:ext cx="2881080" cy="16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воение, формиров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репление нав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южет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3789360"/>
            <a:ext cx="2879640" cy="180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189000"/>
            <a:ext cx="78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я проводятся индивидуально, начиная с 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ются учебные электронные пособ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« Здоровая Азбу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« Здоровая 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« Один –много, один – ни одного, много – ма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« Счёт, сравнение, сложение, вычи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« Длинный- корот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977080" cy="3641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45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87640" y="4046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240" y="1773360"/>
            <a:ext cx="169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вод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2-3 ми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з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042920" y="105264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3760" y="3213000"/>
            <a:ext cx="217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7-9 ми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южетный матери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компьют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1052640"/>
            <a:ext cx="1656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234936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итель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3-5 ми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ятие псих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физического напря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92360" y="436572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92360" y="69228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ы работы по технологии Б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26920" y="1413000"/>
            <a:ext cx="115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2120" y="2205000"/>
            <a:ext cx="2256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нцип нагляд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стематич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ователь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ступ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484280"/>
            <a:ext cx="2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78136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нци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фференцирова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34136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65760" y="2708280"/>
            <a:ext cx="168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нц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изаци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00360" y="1484280"/>
            <a:ext cx="100800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92160" y="4121280"/>
            <a:ext cx="188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нц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емств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3:42:49Z</dcterms:created>
  <dc:creator>Арина</dc:creator>
  <dc:description/>
  <dc:language>en-US</dc:language>
  <cp:lastModifiedBy>Арина</cp:lastModifiedBy>
  <dcterms:modified xsi:type="dcterms:W3CDTF">2012-02-19T11:59:12Z</dcterms:modified>
  <cp:revision>13</cp:revision>
  <dc:subject/>
  <dc:title>Слайд 1</dc:title>
</cp:coreProperties>
</file>