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38.wmf" ContentType="image/x-wmf"/>
  <Override PartName="/ppt/media/image2.jpeg" ContentType="image/jpeg"/>
  <Override PartName="/ppt/media/image36.jpeg" ContentType="image/jpeg"/>
  <Override PartName="/ppt/media/image20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AB0-1C4D-4C12-AC2D-C79C9D34F2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DA6F-3C6B-415D-8A9C-24E0A7854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3DC-8ED4-4CDA-B5A1-00E804A7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F3B-BD8C-430E-8819-F58A41DE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80A-5454-4558-931B-268B2045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4BE-2FDA-4E24-91A7-A7C20D76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E3BD-D0EF-4E60-BB6D-9F6DA35C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6459-D461-456D-A48B-9A58DB0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1421-55DD-4128-BB2B-CEA52FC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0AD4-05A5-41E1-8E05-3772677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BC0-6A17-4FE5-8F23-E3902FDD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B2A-E9BB-4CBF-9706-F4E93634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554C-033D-4F41-87EB-5890BCA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D41-AA8E-408D-86BD-ED4AB4D3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3A03-EEB4-42CC-BF4E-222A916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4DE-6B7A-4E0C-B9BA-AC03334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37D1-7A97-4BAF-B499-B061A45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A11-CBF5-4244-92EA-EE7AC9E7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FA82-4B6B-4B1D-928B-9D1246AF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67E-E127-483A-9D47-2684B0C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429-2466-4768-8DB5-7D301B0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8AB-CA51-4A39-AF5C-7BFD3EB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3FD-16DE-463D-9DB6-ADC1D60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B77-625A-46B3-A6DC-1ACBE74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CB5-D59F-4C75-801C-AA0AC4E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EF5-B274-4AB7-AE8A-D0D14DFF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BDA-C318-4C3B-A05C-5ADE741130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7C30-92F0-4C26-B521-A7B16AF114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ЕГО ВЕЛИЧЕСТВО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020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iano5"/>
          <p:cNvPicPr/>
          <p:nvPr/>
        </p:nvPicPr>
        <p:blipFill>
          <a:blip r:embed="rId1"/>
          <a:stretch/>
        </p:blipFill>
        <p:spPr>
          <a:xfrm>
            <a:off x="395280" y="2924280"/>
            <a:ext cx="28195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РАНЦУЗСКИЕ  КЛАВЕСИ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7" descr="250px-Clavecin_fran%C3%A7ais"/>
          <p:cNvPicPr/>
          <p:nvPr/>
        </p:nvPicPr>
        <p:blipFill>
          <a:blip r:embed="rId1"/>
          <a:stretch/>
        </p:blipFill>
        <p:spPr>
          <a:xfrm>
            <a:off x="395280" y="234936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300px-Flemish_harpsichord"/>
          <p:cNvPicPr/>
          <p:nvPr/>
        </p:nvPicPr>
        <p:blipFill>
          <a:blip r:embed="rId2"/>
          <a:stretch/>
        </p:blipFill>
        <p:spPr>
          <a:xfrm>
            <a:off x="4788000" y="2349360"/>
            <a:ext cx="3600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ОМПОЗИТОРЫ - КЛАВЕСИНИСТ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4" descr="klaves11"/>
          <p:cNvPicPr/>
          <p:nvPr/>
        </p:nvPicPr>
        <p:blipFill>
          <a:blip r:embed="rId1"/>
          <a:stretch/>
        </p:blipFill>
        <p:spPr>
          <a:xfrm>
            <a:off x="250920" y="2060640"/>
            <a:ext cx="8424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Й КЛАВЕС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4" descr="220px-Harpsichord_1980"/>
          <p:cNvPicPr/>
          <p:nvPr/>
        </p:nvPicPr>
        <p:blipFill>
          <a:blip r:embed="rId1"/>
          <a:stretch/>
        </p:blipFill>
        <p:spPr>
          <a:xfrm>
            <a:off x="2414520" y="2308320"/>
            <a:ext cx="47512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ольфганг Амадей Моц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616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льфганг Амадей Моцарт австрийский композитор. Представитель венской школы. Был известен как  выдающийся исполнитель на клавишных инструм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славился главным образом игрой на клавес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250px-Wolfgang-amadeus-mozart_1"/>
          <p:cNvPicPr/>
          <p:nvPr/>
        </p:nvPicPr>
        <p:blipFill>
          <a:blip r:embed="rId1"/>
          <a:stretch/>
        </p:blipFill>
        <p:spPr>
          <a:xfrm>
            <a:off x="468360" y="1817640"/>
            <a:ext cx="38163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ЙОЗЕФ  ГАЙД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ранц Йозеф Гайд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 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еликий австрийский композитор, представитель венской школы, один из основоположников таких музыкальных жанров, как симфония и струнный кварт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200px-Haydn_portrait_by_Thomas_Hardy_%28small%29"/>
          <p:cNvPicPr/>
          <p:nvPr/>
        </p:nvPicPr>
        <p:blipFill>
          <a:blip r:embed="rId1"/>
          <a:stretch/>
        </p:blipFill>
        <p:spPr>
          <a:xfrm>
            <a:off x="374760" y="1773360"/>
            <a:ext cx="40068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ГО ВЕЛИЧЕСТВО ФОРТЕПИАН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16" descr="2"/>
          <p:cNvPicPr/>
          <p:nvPr/>
        </p:nvPicPr>
        <p:blipFill>
          <a:blip r:embed="rId1"/>
          <a:stretch/>
        </p:blipFill>
        <p:spPr>
          <a:xfrm>
            <a:off x="468360" y="1773360"/>
            <a:ext cx="75596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Изобретатель Фортепиан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ртоломе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стоф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709 году создал фортепи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Бартоломео Кристофори"/>
          <p:cNvPicPr/>
          <p:nvPr/>
        </p:nvPicPr>
        <p:blipFill>
          <a:blip r:embed="rId1"/>
          <a:stretch/>
        </p:blipFill>
        <p:spPr>
          <a:xfrm>
            <a:off x="828720" y="1886040"/>
            <a:ext cx="3165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ервый молоточковый инструмен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ортепиано Кристофори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0066"/>
                </a:solidFill>
                <a:latin typeface="Arial"/>
              </a:rPr>
              <a:t>1722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-cristofori"/>
          <p:cNvPicPr/>
          <p:nvPr/>
        </p:nvPicPr>
        <p:blipFill>
          <a:blip r:embed="rId1"/>
          <a:stretch/>
        </p:blipFill>
        <p:spPr>
          <a:xfrm>
            <a:off x="5197320" y="1884240"/>
            <a:ext cx="33973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ВНУТРИ ФОРТЕПИАН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616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3"/>
              </a:rPr>
              <a:t>Внутри фортепиано находится множество молоточков, которые при нажатии клавиши ударяются о струны образуя музыкальные зв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8" descr="123"/>
          <p:cNvPicPr/>
          <p:nvPr/>
        </p:nvPicPr>
        <p:blipFill>
          <a:blip r:embed="rId1"/>
          <a:stretch/>
        </p:blipFill>
        <p:spPr>
          <a:xfrm>
            <a:off x="612720" y="1746360"/>
            <a:ext cx="3238560" cy="238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вап"/>
          <p:cNvPicPr/>
          <p:nvPr/>
        </p:nvPicPr>
        <p:blipFill>
          <a:blip r:embed="rId2"/>
          <a:stretch/>
        </p:blipFill>
        <p:spPr>
          <a:xfrm>
            <a:off x="539640" y="4292640"/>
            <a:ext cx="331164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200" y="202680"/>
            <a:ext cx="74170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ВЕРТИКАЛЬНОЕ                        ФОРТЕПИАНО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6" descr="tch-m-1-b"/>
          <p:cNvPicPr/>
          <p:nvPr/>
        </p:nvPicPr>
        <p:blipFill>
          <a:blip r:embed="rId1"/>
          <a:stretch/>
        </p:blipFill>
        <p:spPr>
          <a:xfrm>
            <a:off x="4714920" y="2459160"/>
            <a:ext cx="3889440" cy="3562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yamaha-piano-2"/>
          <p:cNvPicPr/>
          <p:nvPr/>
        </p:nvPicPr>
        <p:blipFill>
          <a:blip r:embed="rId2"/>
          <a:stretch/>
        </p:blipFill>
        <p:spPr>
          <a:xfrm>
            <a:off x="468360" y="2459160"/>
            <a:ext cx="38894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628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ПРЕДШЕСТВЕННИКИ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ФОРТЕПИАНО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klaves08"/>
          <p:cNvPicPr/>
          <p:nvPr/>
        </p:nvPicPr>
        <p:blipFill>
          <a:blip r:embed="rId1"/>
          <a:stretch/>
        </p:blipFill>
        <p:spPr>
          <a:xfrm>
            <a:off x="468360" y="2349360"/>
            <a:ext cx="3743280" cy="324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klaves09"/>
          <p:cNvPicPr/>
          <p:nvPr/>
        </p:nvPicPr>
        <p:blipFill>
          <a:blip r:embed="rId2"/>
          <a:stretch/>
        </p:blipFill>
        <p:spPr>
          <a:xfrm>
            <a:off x="5292720" y="2276640"/>
            <a:ext cx="3530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уил Майкапа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8" name="Picture 7" descr="25191-0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464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6520" y="1719360"/>
            <a:ext cx="4246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муил  Майкапар - известный пианист и композит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носторонне одаренный музыкант, Майкапар был известен как автор целого ряда фортепианных пьес для детей . В частности, большую популярность завоевал его цикл фортепианных миниатюр «Бирюльк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ександр Гедике 1877-195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616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дике Александр Федорович – русский  композитор, пианист, органист и педагог. Окончив Московскую консерваторию 50 лет был профессором по классу фортепиа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ой популярностью пользуются его произведения для юных исполн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gedike"/>
          <p:cNvPicPr/>
          <p:nvPr/>
        </p:nvPicPr>
        <p:blipFill>
          <a:blip r:embed="rId1"/>
          <a:stretch/>
        </p:blipFill>
        <p:spPr>
          <a:xfrm>
            <a:off x="324000" y="170028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митрий  Кабалевский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904-198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616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Кабалевский - русский композитор, педагог. Окончил Московскую консерваторию. С Самого начала творческой деятельности большой интерес проявлял к детской тематике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Kabalevsky_"/>
          <p:cNvPicPr/>
          <p:nvPr/>
        </p:nvPicPr>
        <p:blipFill>
          <a:blip r:embed="rId1"/>
          <a:stretch/>
        </p:blipFill>
        <p:spPr>
          <a:xfrm>
            <a:off x="468360" y="1749600"/>
            <a:ext cx="359892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527280" cy="44658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ергей Рахманинов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873-194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0336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гей Васильевич Рахманинов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усский  композитор, пианист, дириж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хманинов на протяжении всей жизни концертировал как пианист. Для фортепиано им написано множество произведений. Творчество великого композитора- гордость отечественной класс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ЙДИ МАШ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Picture 6" descr="гуси-лебеди"/>
          <p:cNvPicPr/>
          <p:nvPr/>
        </p:nvPicPr>
        <p:blipFill>
          <a:blip r:embed="rId1"/>
          <a:stretch/>
        </p:blipFill>
        <p:spPr>
          <a:xfrm>
            <a:off x="1857240" y="1781280"/>
            <a:ext cx="5096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" descr="3208"/>
          <p:cNvPicPr/>
          <p:nvPr/>
        </p:nvPicPr>
        <p:blipFill>
          <a:blip r:embed="rId1"/>
          <a:stretch/>
        </p:blipFill>
        <p:spPr>
          <a:xfrm>
            <a:off x="684360" y="981000"/>
            <a:ext cx="66974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132"/>
          <p:cNvPicPr/>
          <p:nvPr/>
        </p:nvPicPr>
        <p:blipFill>
          <a:blip r:embed="rId1"/>
          <a:stretch/>
        </p:blipFill>
        <p:spPr>
          <a:xfrm>
            <a:off x="1979640" y="333360"/>
            <a:ext cx="48355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blue-boys"/>
          <p:cNvPicPr/>
          <p:nvPr/>
        </p:nvPicPr>
        <p:blipFill>
          <a:blip r:embed="rId1"/>
          <a:stretch/>
        </p:blipFill>
        <p:spPr>
          <a:xfrm>
            <a:off x="1476360" y="878040"/>
            <a:ext cx="619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гентинское  Танг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5" name="Picture 7" descr="апр"/>
          <p:cNvPicPr/>
          <p:nvPr/>
        </p:nvPicPr>
        <p:blipFill>
          <a:blip r:embed="rId1"/>
          <a:stretch/>
        </p:blipFill>
        <p:spPr>
          <a:xfrm>
            <a:off x="539640" y="177336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танг"/>
          <p:cNvPicPr/>
          <p:nvPr/>
        </p:nvPicPr>
        <p:blipFill>
          <a:blip r:embed="rId2"/>
          <a:stretch/>
        </p:blipFill>
        <p:spPr>
          <a:xfrm>
            <a:off x="5580000" y="1916280"/>
            <a:ext cx="3168720" cy="234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анго"/>
          <p:cNvPicPr/>
          <p:nvPr/>
        </p:nvPicPr>
        <p:blipFill>
          <a:blip r:embed="rId3"/>
          <a:stretch/>
        </p:blipFill>
        <p:spPr>
          <a:xfrm>
            <a:off x="3419640" y="4149720"/>
            <a:ext cx="3112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ЖД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Picture 10" descr="d445_110"/>
          <p:cNvPicPr/>
          <p:nvPr/>
        </p:nvPicPr>
        <p:blipFill>
          <a:blip r:embed="rId1"/>
          <a:stretch/>
        </p:blipFill>
        <p:spPr>
          <a:xfrm>
            <a:off x="963720" y="1719360"/>
            <a:ext cx="3025800" cy="4411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то идет там по дорожк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ьи я вижу тоненькие ножк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за моим окошком Вдаль уходит мокрый, грустный дожд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5" descr="59"/>
          <p:cNvPicPr/>
          <p:nvPr/>
        </p:nvPicPr>
        <p:blipFill>
          <a:blip r:embed="rId1"/>
          <a:stretch/>
        </p:blipFill>
        <p:spPr>
          <a:xfrm>
            <a:off x="1690560" y="1728720"/>
            <a:ext cx="5904000" cy="426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1440" y="169920"/>
            <a:ext cx="69436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ЛАВИКОРД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Концертный  Рояль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4" descr="boh-dvorak-b"/>
          <p:cNvPicPr/>
          <p:nvPr/>
        </p:nvPicPr>
        <p:blipFill>
          <a:blip r:embed="rId1"/>
          <a:stretch/>
        </p:blipFill>
        <p:spPr>
          <a:xfrm>
            <a:off x="1476360" y="1773360"/>
            <a:ext cx="5688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Кабинетный  Рояль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4" name="Object 7"/>
          <p:cNvGraphicFramePr/>
          <p:nvPr/>
        </p:nvGraphicFramePr>
        <p:xfrm>
          <a:off x="5106960" y="1600200"/>
          <a:ext cx="40370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1600200"/>
                    <a:ext cx="40370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Picture 4" descr="mos-cab-1-b"/>
          <p:cNvPicPr/>
          <p:nvPr/>
        </p:nvPicPr>
        <p:blipFill>
          <a:blip r:embed="rId3"/>
          <a:stretch/>
        </p:blipFill>
        <p:spPr>
          <a:xfrm>
            <a:off x="395280" y="1484280"/>
            <a:ext cx="3382920" cy="374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white"/>
          <p:cNvPicPr/>
          <p:nvPr/>
        </p:nvPicPr>
        <p:blipFill>
          <a:blip r:embed="rId4"/>
          <a:stretch/>
        </p:blipFill>
        <p:spPr>
          <a:xfrm>
            <a:off x="5076720" y="2565360"/>
            <a:ext cx="338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да этих клавиш коснется рука……….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Picture 6" descr="piano"/>
          <p:cNvPicPr/>
          <p:nvPr/>
        </p:nvPicPr>
        <p:blipFill>
          <a:blip r:embed="rId1"/>
          <a:stretch/>
        </p:blipFill>
        <p:spPr>
          <a:xfrm>
            <a:off x="1619280" y="1628640"/>
            <a:ext cx="54007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 НОВЫХ ВСТРЕ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1" name="Picture 10" descr="bluthner"/>
          <p:cNvPicPr/>
          <p:nvPr/>
        </p:nvPicPr>
        <p:blipFill>
          <a:blip r:embed="rId1"/>
          <a:stretch/>
        </p:blipFill>
        <p:spPr>
          <a:xfrm>
            <a:off x="611280" y="1628640"/>
            <a:ext cx="4171680" cy="4243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100"/>
          <p:cNvPicPr/>
          <p:nvPr/>
        </p:nvPicPr>
        <p:blipFill>
          <a:blip r:embed="rId2"/>
          <a:stretch/>
        </p:blipFill>
        <p:spPr>
          <a:xfrm>
            <a:off x="4859280" y="1916280"/>
            <a:ext cx="3816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ринный  Клавикор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4" descr="650"/>
          <p:cNvPicPr/>
          <p:nvPr/>
        </p:nvPicPr>
        <p:blipFill>
          <a:blip r:embed="rId1"/>
          <a:stretch/>
        </p:blipFill>
        <p:spPr>
          <a:xfrm>
            <a:off x="1547640" y="1844640"/>
            <a:ext cx="5543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5502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пособ извлечения звука на клавикорд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60"/>
          <p:cNvPicPr/>
          <p:nvPr/>
        </p:nvPicPr>
        <p:blipFill>
          <a:blip r:embed="rId1"/>
          <a:stretch/>
        </p:blipFill>
        <p:spPr>
          <a:xfrm>
            <a:off x="250920" y="1557360"/>
            <a:ext cx="705636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50560" y="4653000"/>
            <a:ext cx="7057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нгент клавикорда вделан в задний конец клавиши. Струна располагается над тангентом. Если нажать клавишу, тангент поднимется и ударит струну.</a:t>
            </a:r>
            <a:r>
              <a:rPr b="0" lang="ru-RU" sz="26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330066"/>
                </a:solidFill>
                <a:latin typeface="Arial"/>
              </a:rPr>
              <a:t>КЛАВЕСИН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4" descr="Клавесин"/>
          <p:cNvPicPr/>
          <p:nvPr/>
        </p:nvPicPr>
        <p:blipFill>
          <a:blip r:embed="rId1"/>
          <a:stretch/>
        </p:blipFill>
        <p:spPr>
          <a:xfrm>
            <a:off x="5187960" y="1976400"/>
            <a:ext cx="3225960" cy="3468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Клавесин"/>
          <p:cNvPicPr/>
          <p:nvPr/>
        </p:nvPicPr>
        <p:blipFill>
          <a:blip r:embed="rId2"/>
          <a:stretch/>
        </p:blipFill>
        <p:spPr>
          <a:xfrm>
            <a:off x="755640" y="1844640"/>
            <a:ext cx="3311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весин. Веймарская книга чудес. 1440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klaves05"/>
          <p:cNvPicPr/>
          <p:nvPr/>
        </p:nvPicPr>
        <p:blipFill>
          <a:blip r:embed="rId1"/>
          <a:stretch/>
        </p:blipFill>
        <p:spPr>
          <a:xfrm>
            <a:off x="2127240" y="1955880"/>
            <a:ext cx="52531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соб извлечения звука на клавесин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4" descr="450px-Clavecin_sautereau_fonctionnement"/>
          <p:cNvPicPr/>
          <p:nvPr/>
        </p:nvPicPr>
        <p:blipFill>
          <a:blip r:embed="rId1"/>
          <a:stretch/>
        </p:blipFill>
        <p:spPr>
          <a:xfrm>
            <a:off x="971640" y="2171880"/>
            <a:ext cx="69134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рехмануальный клавесин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4" descr="klaves06"/>
          <p:cNvPicPr/>
          <p:nvPr/>
        </p:nvPicPr>
        <p:blipFill>
          <a:blip r:embed="rId1"/>
          <a:stretch/>
        </p:blipFill>
        <p:spPr>
          <a:xfrm>
            <a:off x="2987640" y="1886040"/>
            <a:ext cx="34736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3:04:18Z</dcterms:created>
  <dc:creator>Admin</dc:creator>
  <dc:description/>
  <dc:language>en-US</dc:language>
  <cp:lastModifiedBy>Admin</cp:lastModifiedBy>
  <dcterms:modified xsi:type="dcterms:W3CDTF">2010-01-30T09:23:59Z</dcterms:modified>
  <cp:revision>39</cp:revision>
  <dc:subject/>
  <dc:title>ЕГО ВЕЛИЧЕСТВО</dc:title>
</cp:coreProperties>
</file>