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9E2-B733-4404-B03A-D0D3166A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A99-D58A-4AB0-8679-19330E0C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D6B-4065-4FA1-9B45-BB44363D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EE4-63C4-4EF9-989D-4332E133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2083-993E-436F-93AF-7C79B79D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A75E-B87E-4753-89D6-D0D8B465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F56D-DA15-4163-908B-9918033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842A-0D4D-4A3A-A947-2E38714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FD01-F902-4BDB-944A-EA808AFD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93DF-5910-4EA5-A561-83F3D01A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29D5-6AA5-4B82-8A5B-88A4318F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E3F-C398-44E5-B087-50AC36E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BA90-99EE-4109-A89C-A74FA9D9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CE1-677D-4C45-9BBE-AC50E04F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455E-8E42-43CC-8E72-E88E4A19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3033-E10D-416D-9AFE-B8BB77C5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98E9-F2A7-4CD1-A184-021CDAB3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10F-572D-4554-8197-3200EF2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351-AAB2-43F7-B2C5-588FE15F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564-A456-4E38-B74E-AEC7905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65A-623E-43CC-AE23-C0000BEB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CD4-DA9D-4722-96E4-BC3EFD8C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A83-5308-4DAA-A081-46D2E950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3E5-D825-49EC-92DE-20568DA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219-BCE1-4B27-A75C-8AD38F9E3C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DB86-BA31-4671-85CF-865B28F394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1800" y="228600"/>
            <a:ext cx="8553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СОШ №27 г. Нижнего Нов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культминутки, как элемент здоровьесберега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й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ель Ири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396252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9880" y="365760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733920" cy="28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733560" cy="2876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04920" y="4191120"/>
            <a:ext cx="2819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8080" y="609480"/>
            <a:ext cx="7391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624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тклонения в состоянии здоровь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600200" cy="274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21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86600" y="1371600"/>
            <a:ext cx="162072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04920" y="4648320"/>
            <a:ext cx="31240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80880" y="380880"/>
            <a:ext cx="8304480" cy="6095880"/>
            <a:chOff x="380880" y="380880"/>
            <a:chExt cx="8304480" cy="6095880"/>
          </a:xfrm>
        </p:grpSpPr>
        <p:cxnSp>
          <p:nvCxnSpPr>
            <p:cNvPr id="106" name="_s151568"/>
            <p:cNvCxnSpPr>
              <a:stCxn id="107" idx="1"/>
              <a:endCxn id="108" idx="2"/>
            </p:cNvCxnSpPr>
            <p:nvPr/>
          </p:nvCxnSpPr>
          <p:spPr>
            <a:xfrm rot="10800000">
              <a:off x="2871360" y="1251000"/>
              <a:ext cx="830880" cy="4790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09" name="_s151566"/>
            <p:cNvCxnSpPr>
              <a:stCxn id="110" idx="1"/>
              <a:endCxn id="108" idx="2"/>
            </p:cNvCxnSpPr>
            <p:nvPr/>
          </p:nvCxnSpPr>
          <p:spPr>
            <a:xfrm rot="10800000">
              <a:off x="2871360" y="1251000"/>
              <a:ext cx="830880" cy="34840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1" name="_s151565"/>
            <p:cNvCxnSpPr>
              <a:stCxn id="112" idx="1"/>
              <a:endCxn id="108" idx="2"/>
            </p:cNvCxnSpPr>
            <p:nvPr/>
          </p:nvCxnSpPr>
          <p:spPr>
            <a:xfrm rot="10800000">
              <a:off x="2871360" y="1251000"/>
              <a:ext cx="830880" cy="2177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3" name="_s151564"/>
            <p:cNvCxnSpPr>
              <a:stCxn id="114" idx="1"/>
              <a:endCxn id="108" idx="2"/>
            </p:cNvCxnSpPr>
            <p:nvPr/>
          </p:nvCxnSpPr>
          <p:spPr>
            <a:xfrm rot="10800000">
              <a:off x="2871360" y="1251000"/>
              <a:ext cx="830880" cy="8715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08" name="_s151560"/>
            <p:cNvSpPr/>
            <p:nvPr/>
          </p:nvSpPr>
          <p:spPr>
            <a:xfrm>
              <a:off x="380880" y="380880"/>
              <a:ext cx="4982760" cy="87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ункциональный характе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зкультминут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51561"/>
            <p:cNvSpPr/>
            <p:nvPr/>
          </p:nvSpPr>
          <p:spPr>
            <a:xfrm>
              <a:off x="3702600" y="1686960"/>
              <a:ext cx="4982760" cy="87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ля мозгового кровообращен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и расслабления глаз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51562"/>
            <p:cNvSpPr/>
            <p:nvPr/>
          </p:nvSpPr>
          <p:spPr>
            <a:xfrm>
              <a:off x="3702600" y="2993400"/>
              <a:ext cx="4982760" cy="87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ля снятия утомления с плечевого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ояс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51563"/>
            <p:cNvSpPr/>
            <p:nvPr/>
          </p:nvSpPr>
          <p:spPr>
            <a:xfrm>
              <a:off x="3702600" y="4299480"/>
              <a:ext cx="4982760" cy="87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ля снятия напряжения с мышц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уловищ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1567"/>
            <p:cNvSpPr/>
            <p:nvPr/>
          </p:nvSpPr>
          <p:spPr>
            <a:xfrm>
              <a:off x="3702600" y="5605920"/>
              <a:ext cx="4982760" cy="87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ля мелкой моторики ру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хема проведения физкультмин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(через 10 минут после начала урока и на 20 мину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менее 1,5-2 минуты каж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(на 20-25 мину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менее 3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676520"/>
            <a:ext cx="30481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52880" y="167652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-4 класс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Упражнения для гла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3009960" cy="2373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2361960" cy="281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553080" y="228600"/>
            <a:ext cx="230508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629400" y="3733920"/>
            <a:ext cx="2133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альчиков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2230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2408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276360" cy="213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инутки со звукоподраж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81480" y="27432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3429000" cy="207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3429000" cy="218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1066680"/>
            <a:ext cx="3504960" cy="838440"/>
          </a:xfrm>
          <a:prstGeom prst="cloudCallout">
            <a:avLst>
              <a:gd name="adj1" fmla="val -43750"/>
              <a:gd name="adj2" fmla="val 146402"/>
            </a:avLst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Я-КРЯ-КР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5562720"/>
            <a:ext cx="3733560" cy="838080"/>
          </a:xfrm>
          <a:prstGeom prst="cloudCallout">
            <a:avLst>
              <a:gd name="adj1" fmla="val -50467"/>
              <a:gd name="adj2" fmla="val -74050"/>
            </a:avLst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-га-г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505320"/>
            <a:ext cx="3581280" cy="761760"/>
          </a:xfrm>
          <a:prstGeom prst="cloudCallout">
            <a:avLst>
              <a:gd name="adj1" fmla="val 77393"/>
              <a:gd name="adj2" fmla="val 36041"/>
            </a:avLst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-ж-ж-ж-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минки на уроках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103032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103032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103032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1030320" cy="1447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238880" y="1523880"/>
            <a:ext cx="1030320" cy="144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990720" y="3124080"/>
            <a:ext cx="54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400" y="5562720"/>
            <a:ext cx="542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191120" y="3124080"/>
            <a:ext cx="54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91320" y="3200400"/>
            <a:ext cx="54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467480" y="3200400"/>
            <a:ext cx="54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1600200" y="4343400"/>
            <a:ext cx="1123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4038480" y="4267080"/>
            <a:ext cx="1123920" cy="1228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6324480" y="4267080"/>
            <a:ext cx="1123920" cy="1228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828800" y="5638680"/>
            <a:ext cx="54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14600" y="3124080"/>
            <a:ext cx="54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29400" y="5562720"/>
            <a:ext cx="542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итель Александр Болеслалович</cp:lastModifiedBy>
  <dcterms:modified xsi:type="dcterms:W3CDTF">2012-02-19T15:22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