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12.gif" ContentType="image/gif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D25-2897-4D7C-9F38-CA726056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1DC-A37C-4C63-950F-52BC120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196-05D9-4561-A751-2D7F30E7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102-6E4A-422C-8B97-91EC794E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A1E-06C1-4496-B714-8EAB452D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25E-3672-447B-8C35-2D72103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B6D-0EDD-4E7B-B6A9-ED4EED3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12E-FE6E-4DEE-A114-987A2263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013-2712-454D-A157-51B4B30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653-0731-44CC-8250-1AB41257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0EF-2D87-403E-BF7A-A472D701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BA1-E02C-46BF-AB32-182A0AD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D78D-682B-4113-A7C8-5E1ED4A1A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Где зимуют птиц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8680" y="5072040"/>
            <a:ext cx="46436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готовила воспитатель ГПД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ГБОУ НОШ «Школа здоровья» № 1702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Горшкова М.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72240" y="285840"/>
            <a:ext cx="1357560" cy="153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\Рабочий стол\птицы\21.jpg"/>
          <p:cNvPicPr/>
          <p:nvPr/>
        </p:nvPicPr>
        <p:blipFill>
          <a:blip r:embed="rId2"/>
          <a:stretch/>
        </p:blipFill>
        <p:spPr>
          <a:xfrm>
            <a:off x="785880" y="2214720"/>
            <a:ext cx="37861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виристель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Обитает в хвойных и смешанных лесах, на зарастающих гарях и вырубках. Летом питаются насекомыми, которых нередко ловят на лету, личинками, различными ягодами и молодыми побегами растений. В иное время питаются преимущественно ягодами и плодами, например, брусникой, калиной. В зимнее время часто встречается в городах средней полосы России, где питаются преимущественно ряби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Documents and Settings\ADMIN\Рабочий стол\птицы\33.jpg"/>
          <p:cNvPicPr/>
          <p:nvPr/>
        </p:nvPicPr>
        <p:blipFill>
          <a:blip r:embed="rId1"/>
          <a:stretch/>
        </p:blipFill>
        <p:spPr>
          <a:xfrm>
            <a:off x="1643040" y="2714760"/>
            <a:ext cx="58104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850104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олубь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дикой природе сизый голубь обычно селится на прибрежных скалах, в горных ущельях либо вдоль обрывистых берегов рек, часто поблизости от зарослей кустарника или сельскохозяйственных угодий. Их полудомашние потомки легко адаптировались к жизни возле человеческого жилья, поскольку каменные постройки напоминают природные места обитания, а пищевые отходы служат надёжной кормовой базой в любое время года. Сизый голубь питается преимущественно растительными кормами: семенами, ягодами, плодами фруктовых деревьев. В местах проживания человека легко приспосабливается к употреблению в пищу пищевых отбросов и бросового зерна (пшеницы, ячменя, кукурузы и др.) Изредка употребляет в пищу насекомых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ADMIN\Рабочий стол\1.gif"/>
          <p:cNvPicPr/>
          <p:nvPr/>
        </p:nvPicPr>
        <p:blipFill>
          <a:blip r:embed="rId1"/>
          <a:stretch/>
        </p:blipFill>
        <p:spPr>
          <a:xfrm>
            <a:off x="2214720" y="3398760"/>
            <a:ext cx="45003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719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учите птиц в мороз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 своему окну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тоб без песен не пришлось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м встречать весну.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ADMIN\Рабочий стол\птицы\36.jpg"/>
          <p:cNvPicPr/>
          <p:nvPr/>
        </p:nvPicPr>
        <p:blipFill>
          <a:blip r:embed="rId1"/>
          <a:stretch/>
        </p:blipFill>
        <p:spPr>
          <a:xfrm>
            <a:off x="5786280" y="285840"/>
            <a:ext cx="3000600" cy="2311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Рабочий стол\птицы\26.jpg"/>
          <p:cNvPicPr/>
          <p:nvPr/>
        </p:nvPicPr>
        <p:blipFill>
          <a:blip r:embed="rId2"/>
          <a:stretch/>
        </p:blipFill>
        <p:spPr>
          <a:xfrm>
            <a:off x="500040" y="2928960"/>
            <a:ext cx="50720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иниц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яготеет к жилью человека, часто встречается в крупных городах и других населённых пунктах, в пригородах, в садах и парках. Питается преимущественно мелкими насекомыми и другими беспозвоночными. Уничтожая большое количество вредителей леса, приносит несомненную пользу природе. Зимой сбивается в смешанные стайки с другими птицами и кочует в поисках корма. Охотно посещает кормушки, где кормится семечками подсолнуха, несолёным салом, сливками из молочных пакет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птицы\34.jpg"/>
          <p:cNvPicPr/>
          <p:nvPr/>
        </p:nvPicPr>
        <p:blipFill>
          <a:blip r:embed="rId1"/>
          <a:stretch/>
        </p:blipFill>
        <p:spPr>
          <a:xfrm>
            <a:off x="1857240" y="278604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оробей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Это одна из самых известных птиц, обитающих по соседству с жилищем человека (отсюда её видовое название «домовый») и хорошо узнаваемых как по внешнему виду, так и по характерному чириканью. Питается в основном растительной пищей, лишь весной частично насекомыми. В рацион воробья входят семена сельскохозяйственных культур, отбросы различных продуктов, которые он подбирает в человеческих поселени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ADMIN\Рабочий стол\птицы\25.jpg"/>
          <p:cNvPicPr/>
          <p:nvPr/>
        </p:nvPicPr>
        <p:blipFill>
          <a:blip r:embed="rId1"/>
          <a:stretch/>
        </p:blipFill>
        <p:spPr>
          <a:xfrm>
            <a:off x="1643040" y="2571840"/>
            <a:ext cx="53578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орона.</a:t>
            </a:r>
            <a:br>
              <a:rPr sz="24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Предпочтение отдаёт городам, населённым пунктам. Всеядна. Эти сообразительные птицы пpeкрасно приспособились к соседству человека. В последние годы они, например, научились систематически проверять вывешенные зимой за окно сумки с продуктами. Умеют поднимать крыши скворечников, если они не прикручены проволо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\Рабочий стол\птицы\38.jpg"/>
          <p:cNvPicPr/>
          <p:nvPr/>
        </p:nvPicPr>
        <p:blipFill>
          <a:blip r:embed="rId1"/>
          <a:stretch/>
        </p:blipFill>
        <p:spPr>
          <a:xfrm>
            <a:off x="1714680" y="2643120"/>
            <a:ext cx="5000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5836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негир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негирь живёт в лесах с густым подлеском, также его можно встретить в садах и парках городов. Зимой стаи снегирей очень хорошо различимы, как и отдельные птички на безлиственных деревьях парка на белоснежном фоне. У самцов снегирей грудка розовато-красного цвета, у самок — буровато-серого. Питается снегирь преимущественно семенами, почками и ягод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ADMIN\Рабочий стол\птицы\15.jpg"/>
          <p:cNvPicPr/>
          <p:nvPr/>
        </p:nvPicPr>
        <p:blipFill>
          <a:blip r:embed="rId1"/>
          <a:stretch/>
        </p:blipFill>
        <p:spPr>
          <a:xfrm>
            <a:off x="1714680" y="2500200"/>
            <a:ext cx="5786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ва.</a:t>
            </a:r>
            <a:br>
              <a:rPr sz="16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овы расселены по всему свету, от экватора до холодных северных стран, их можно найти везде: и на морском берегу, и в горах, и в пустыне, и в степи, и даже в городах. Большая часть сов держится в лесах или в лесистых местностях. Обычную пищу сов составляют мелкие грызуны; более мелкие виды сов питаются преимущественно крупными насекомыми, а некоторые — рыбами. По-видимому, при охоте на грызунов в почти полной темноте совы ориентируются по звуку, так как обладают очень хорошим сл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DMIN\Рабочий стол\птицы\20.jpg"/>
          <p:cNvPicPr/>
          <p:nvPr/>
        </p:nvPicPr>
        <p:blipFill>
          <a:blip r:embed="rId1"/>
          <a:stretch/>
        </p:blipFill>
        <p:spPr>
          <a:xfrm>
            <a:off x="2071800" y="300024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ро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Обыкновенные сороки являются оседлыми птицами. Они обитают в небольших лесах, парках, садах, рощах, перелесках, часто неподалёку от человеческого жилья. Избегают густого леса.  Сороки питаются самой разной пищей. В её рацион входят как мелкие млекопитающие, так и насекомые. Также сороки часто разоряют птичьи гнёзда, таская яйца и птенцов. А иногда даже таскают у собак кости. Живущие по соседству с человеком сороки не боятся украсть какую-нибудь пищу. Сорока – всеядная птица. Она питается как животным, так и растительным корм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ADMIN\Рабочий стол\птицы\38.jpg"/>
          <p:cNvPicPr/>
          <p:nvPr/>
        </p:nvPicPr>
        <p:blipFill>
          <a:blip r:embed="rId1"/>
          <a:stretch/>
        </p:blipFill>
        <p:spPr>
          <a:xfrm>
            <a:off x="1785960" y="2928960"/>
            <a:ext cx="55958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лёс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Живёт в хвойных и смешанных, но преимущественно в еловых, реже сосновых и лиственничных лесах, но не в кедровых. Характеризуется мощным клювом с перекрещивающимися кончиками и питанием семенами ели и других хвойных деревь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Рабочий стол\птицы\40.jpg"/>
          <p:cNvPicPr/>
          <p:nvPr/>
        </p:nvPicPr>
        <p:blipFill>
          <a:blip r:embed="rId1"/>
          <a:stretch/>
        </p:blipFill>
        <p:spPr>
          <a:xfrm>
            <a:off x="1500120" y="2286000"/>
            <a:ext cx="5715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ятел.</a:t>
            </a:r>
            <a:br>
              <a:rPr sz="24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ятлы владеют обширным арсеналом способов добычи пропитания. Они вполне справляются с долблением древесины и при случае могут побаловаться жирными личинками насекомых, обитающими в её толще, однако чаще довольствуются простым собирательством, трудолюбиво обшаривая стволы и ветви в поисках членистоногих. Но их главный навык по части питания состоит в умении добывать семена из шишек. Именно от урожая ели и сосны зависит в зимнюю пору благополучие больших пестрых дятлов. В неурожайные годы им приходится кочевать в поисках тех мест, где хвойные деревья плодоносят обильно. Дятлы всю зиму живут на постоянных участках и обычно не улетают далеко от привычных «кузниц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Documents and Settings\ADMIN\Рабочий стол\птицы\31.jpg"/>
          <p:cNvPicPr/>
          <p:nvPr/>
        </p:nvPicPr>
        <p:blipFill>
          <a:blip r:embed="rId1"/>
          <a:stretch/>
        </p:blipFill>
        <p:spPr>
          <a:xfrm>
            <a:off x="2571840" y="3571920"/>
            <a:ext cx="4751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20:16:24Z</dcterms:created>
  <dc:creator>Admin</dc:creator>
  <dc:description/>
  <dc:language>en-US</dc:language>
  <cp:lastModifiedBy>Admin</cp:lastModifiedBy>
  <dcterms:modified xsi:type="dcterms:W3CDTF">2012-02-19T14:26:17Z</dcterms:modified>
  <cp:revision>17</cp:revision>
  <dc:subject/>
  <dc:title>Где зимуют птицы?</dc:title>
</cp:coreProperties>
</file>