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131-D799-4AB5-8964-77CE682D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BBF-063C-42BE-A256-70DD40F2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E66-10D1-4C72-A79A-A498979A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54D-ABFC-42E9-8EDD-DABB9E6F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F96A-E34F-47F6-B7E6-56C1ACC3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D22B-B43C-49A3-89CF-A847D047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9BA9-4A8C-4CC3-9216-5CE58B4B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BAE9-BCDA-4D16-B040-FC3CCD17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06B8-3C82-4E4E-A5E0-580B9395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0E0B-BD9C-4355-A2EB-BE5845B3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E95A-2605-4EB8-95B2-9DD32D38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856D-E350-4AE2-B6AE-E76E91BD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B9CC-CEF0-405D-AF6F-EBD67461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36AC-FB0B-4D7B-9724-98320D9C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EBCE-1111-4984-9D06-B459B4EF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F7BF-DCFE-46D7-9115-F6539EC8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315F-71A4-417D-B4AB-46E220DA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F66-CE8E-447F-BFE0-992CDA2C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D7B-C73E-4AF9-A516-BE1DE703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39F-26A6-48E9-A9F2-DF165004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828-D52E-4C44-84F7-DFADB95F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4ED-862B-4E04-9457-3FACB4C1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930-5FD6-4093-8B51-4640E6AB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1B7-CB55-4BB0-B1F1-C8ECEF97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AACC-D499-4B40-8AC1-214FA405AD4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029F-7AAD-4636-9064-38A77EE1758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66"/>
                </a:solidFill>
                <a:latin typeface="Arial"/>
              </a:rPr>
              <a:t>Химия и медицина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0" y="299736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з чего получают фармацевтические препараты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Неорганические препараты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Сырьем для их получения являютс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горные породы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руды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газы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вода озер и морей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отходы химических производст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cccc"/>
                </a:solidFill>
                <a:uFillTx/>
                <a:latin typeface="Arial"/>
              </a:rPr>
              <a:t>Органические препараты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Сырьем для их получения служа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природный газ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нефть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каменный уголь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сланцы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древес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к классифицируют лекарственные вещества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Фармакологическая классификац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Более удобна для медицинской практи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Лекарственные средства делятся на группы в зависимости их действия на системы и органы челове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6699"/>
                </a:solidFill>
                <a:uFillTx/>
                <a:latin typeface="Arial"/>
              </a:rPr>
              <a:t>Химическая классификац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олее удобна для химиков, работающих в области синтеза лекарственных вещест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Лекарственные средства делятся на органические и неорганическ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Фармакологическая классифик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нгаляционно-наркотические сред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 хлорэтил, этиловый эфир, закись азота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стно-анестезирующие (обезболивающие) средства ( анестезин, ледокаин, новокаин, декаин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нотворные средства. Барбитура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 димедрол, веронал, фенобарбитал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сихотропные средства( ризерпин, аминозин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Фармакологическая классифик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нальгезирующие, жаропонижающие, противовоспалительные( аспирин, парацетамол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тивомикробные ( сульфадимезин, норсульфазол, стрептоцид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уретические средства( гипотиазид, фурасемид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азмолитические средства(но-шпа, дибазол, папаверин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Фармакологическая классифик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итамины ( групп А, В,С,Д,Е и др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нтибиотики (пенициллины,тетрациклины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ормональные средства( преднизолон, гидрокартизон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20:09:46Z</dcterms:created>
  <dc:creator>Rashad</dc:creator>
  <dc:description/>
  <dc:language>en-US</dc:language>
  <cp:lastModifiedBy>Rashad</cp:lastModifiedBy>
  <dcterms:modified xsi:type="dcterms:W3CDTF">2006-12-13T21:16:07Z</dcterms:modified>
  <cp:revision>3</cp:revision>
  <dc:subject/>
  <dc:title>Химия и медицина</dc:title>
</cp:coreProperties>
</file>