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FF7-CE44-487A-9A00-496122B8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EED-36C6-413A-8186-FC8DBFDA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F42-8757-4379-9AF9-E81F5FC1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588-74E8-4601-AD01-0E98F6E6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7903-9DE7-4BBC-90E5-55BA7FB9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5138-990C-4F8F-922D-E21C4EDF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C0C7-4B59-4A09-9F58-64339DCC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4A3A-E1D3-425A-B1F8-152C6DAA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439D-29DE-499D-BCC2-EE88EFE7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03C0-7FDF-45D3-B60D-17591BAE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11B0-C8AB-4F24-83FC-CA2BF74E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418-9BDA-4C79-87B6-0D634189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D251-C242-4C04-9046-C5756BA5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5273-B9FC-4053-8EE2-222AD18D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C98A-E692-4756-A919-19F879ED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6FC9-B798-4FDB-B34F-5E9EB7D0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612F-5038-41BD-AE30-F97D945F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049-9C23-4376-A203-24BBF7BF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B42-B9D2-4C33-A564-41844CB1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14D-5BB2-49FD-8147-DA24D656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CA8-1018-4ED7-BB09-0DD48B31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95F-9431-4429-9BDA-384E5120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FE1-5156-45B1-93E8-1273D014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694-76D1-4B40-B079-2BBBC755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4B55-67B7-4601-BF89-478964C804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4D6B-409B-467C-9539-64F760AED6C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428840" y="57146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1e2e1"/>
                </a:solidFill>
                <a:latin typeface="Arial"/>
              </a:rPr>
              <a:t>Работу выполнили ученики 10Б класс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1e2e1"/>
                </a:solidFill>
                <a:latin typeface="Arial"/>
              </a:rPr>
              <a:t>Маненков Константин, Кирсанов Никола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Прямоугольник 4" descr=""/>
          <p:cNvPicPr/>
          <p:nvPr/>
        </p:nvPicPr>
        <p:blipFill>
          <a:blip r:embed="rId1"/>
          <a:stretch/>
        </p:blipFill>
        <p:spPr>
          <a:xfrm>
            <a:off x="79200" y="1212840"/>
            <a:ext cx="7650360" cy="36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Культура речи- это правильность, точность, выразительность и разнообразие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так, а не иначе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ы мне, друг мой, не перечь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Люди стали жить богаче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 беднее стала реч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аснет устная словес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говорная крас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ступают в неизвест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ечи русской чуде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056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ветьте на вопросы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68360" y="2205000"/>
            <a:ext cx="669600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1.Считаете ли вы, что русский язык меняется не в лучшую сторону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2. Допустимо ли использование жаргонных слов и выражений в СМИ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3.Обращаете ли вы внимание на ошибки на афишах, объявлениях и т.д. Как относитесь к этому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4.Что необходимо сделать для того, чтобы сохранить русский язык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3" descr=""/>
          <p:cNvPicPr/>
          <p:nvPr/>
        </p:nvPicPr>
        <p:blipFill>
          <a:blip r:embed="rId1"/>
          <a:stretch/>
        </p:blipFill>
        <p:spPr>
          <a:xfrm>
            <a:off x="281160" y="566640"/>
            <a:ext cx="739908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ократ сказал: «Человек- творец самого себя»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Picture 2" descr="C:\Documents and Settings\Администратор\Рабочий стол\sokrat_sokrat.jpg"/>
          <p:cNvPicPr/>
          <p:nvPr/>
        </p:nvPicPr>
        <p:blipFill>
          <a:blip r:embed="rId1"/>
          <a:stretch/>
        </p:blipFill>
        <p:spPr>
          <a:xfrm>
            <a:off x="1214280" y="1500120"/>
            <a:ext cx="4857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ев Николаевич Толсто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Picture 2" descr="C:\Documents and Settings\Администратор\Рабочий стол\i.jpeg"/>
          <p:cNvPicPr/>
          <p:nvPr/>
        </p:nvPicPr>
        <p:blipFill>
          <a:blip r:embed="rId1"/>
          <a:stretch/>
        </p:blipFill>
        <p:spPr>
          <a:xfrm>
            <a:off x="214200" y="1571760"/>
            <a:ext cx="2838600" cy="39290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3286080" y="18723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  <a:ea typeface="Times New Roman"/>
              </a:rPr>
              <a:t>Обращаться с языком кое-как -  значит и мыслить кое-как: неточно, приблизительно, неверно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428400"/>
            <a:ext cx="74768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Русские пословицы и поговорки:</a:t>
            </a:r>
            <a:br>
              <a:rPr sz="48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От доброго слова язык не усохн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-Каков разум, таковы и реч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-Ветер горы разрушает, слово народы под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-Что написано пером, того не вырубишь топор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Documents and Settings\Администратор\Рабочий стол\i.jpeg1.jpeg"/>
          <p:cNvPicPr/>
          <p:nvPr/>
        </p:nvPicPr>
        <p:blipFill>
          <a:blip r:embed="rId1"/>
          <a:stretch/>
        </p:blipFill>
        <p:spPr>
          <a:xfrm>
            <a:off x="214200" y="214200"/>
            <a:ext cx="2571840" cy="32860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4"/>
          <p:cNvSpPr/>
          <p:nvPr/>
        </p:nvSpPr>
        <p:spPr>
          <a:xfrm>
            <a:off x="3214800" y="357120"/>
            <a:ext cx="435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аснописец Эзоп утверждал, что лучше языка нет ничего на свете, и что язык- это самое худшее, что есть на свет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3" descr="C:\Documents and Settings\Администратор\Рабочий стол\i.jpeg2.jpeg"/>
          <p:cNvPicPr/>
          <p:nvPr/>
        </p:nvPicPr>
        <p:blipFill>
          <a:blip r:embed="rId2"/>
          <a:stretch/>
        </p:blipFill>
        <p:spPr>
          <a:xfrm>
            <a:off x="4500720" y="3000240"/>
            <a:ext cx="2842920" cy="36864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7"/>
          <p:cNvSpPr/>
          <p:nvPr/>
        </p:nvSpPr>
        <p:spPr>
          <a:xfrm>
            <a:off x="642960" y="4714920"/>
            <a:ext cx="31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2f1311"/>
                </a:solidFill>
                <a:latin typeface="Arial"/>
              </a:rPr>
              <a:t>Философ        Ксанф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Стрелка вправо 12"/>
          <p:cNvSpPr/>
          <p:nvPr/>
        </p:nvSpPr>
        <p:spPr>
          <a:xfrm>
            <a:off x="3286080" y="50720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Администратор\Рабочий стол\3.jpeg"/>
          <p:cNvPicPr/>
          <p:nvPr/>
        </p:nvPicPr>
        <p:blipFill>
          <a:blip r:embed="rId1"/>
          <a:stretch/>
        </p:blipFill>
        <p:spPr>
          <a:xfrm>
            <a:off x="0" y="0"/>
            <a:ext cx="2928960" cy="25718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5"/>
          <p:cNvSpPr/>
          <p:nvPr/>
        </p:nvSpPr>
        <p:spPr>
          <a:xfrm>
            <a:off x="3071880" y="214200"/>
            <a:ext cx="435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Кто б ни был ты, о мой читатель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Друг, недруг, я хочу с тобо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Расстаться нынче как приятель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Прости. Чего бы ты за мно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Здесь ни искал в строфах безбрежных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Воспоминаний ли мятежных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Отдохновенья ль от трудов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Живых картин, иль острых слов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Иль грамматических ошибок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Дай Бог, чтоб в этой книжке т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Для развлеченья, для мечты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Для сердца, для журнальных сшибо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Хотя б крупицу мог найти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За сим расстанемся, прости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28591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Александр Сергеевич Пушкин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378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А.А. Ахматова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2" descr="C:\Documents and Settings\Администратор\Рабочий стол\i.jpeg4.jpeg"/>
          <p:cNvPicPr/>
          <p:nvPr/>
        </p:nvPicPr>
        <p:blipFill>
          <a:blip r:embed="rId1"/>
          <a:stretch/>
        </p:blipFill>
        <p:spPr>
          <a:xfrm>
            <a:off x="0" y="1571760"/>
            <a:ext cx="3029040" cy="44971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3143160" y="526320"/>
            <a:ext cx="43578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«Клятв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Мы знаем, что ныне лежит на весах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И что совершается нын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Час мужества пробил на наших часах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И мужество нас не покинет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Не страшно под пулями мертвыми лечь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Не горько остаться без крова,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И мы сохраним тебя, русская речь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Великое русское слово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Свободным и чистым тебя пронесем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И внукам дадим, и от плена спасе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Навеки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поведи речевого поведения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сегда знай, с какой целью и зачем говориш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мни, что вежливость-основа речевого повед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збегай слов-паразит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овори просто, понятно, четк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ледуй высоким понятия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 думай, что, употребляя грубые слова, ты кажешься взросле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збегай речевого однообраз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8:15:07Z</dcterms:created>
  <dc:creator>Customer</dc:creator>
  <dc:description/>
  <dc:language>en-US</dc:language>
  <cp:lastModifiedBy>Евген</cp:lastModifiedBy>
  <dcterms:modified xsi:type="dcterms:W3CDTF">2012-02-19T06:31:43Z</dcterms:modified>
  <cp:revision>16</cp:revision>
  <dc:subject/>
  <dc:title>И мы сохраним тебя, русская речь, великое русское слово…</dc:title>
</cp:coreProperties>
</file>