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1B4-5372-40D9-AE93-1E01CA37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6AC-0E72-4B2F-92ED-788A8E5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5EF-A47D-4B4A-8E75-246FB5E5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910-1092-464F-8003-53203393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1C55-C95D-4517-B22A-D6E32C28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D0C2-025C-462B-B5F9-DF35F884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7B5E-89E6-4EEE-905D-4D3B2BDB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B358-DA44-457F-9E17-DD38F6F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EF29-4C8C-4165-8B7C-23168205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4DFC-5BE0-4E4D-B4E9-36FA8B2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5C5-169B-4E6D-A9E7-409C2993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F88-5308-40AD-BAC5-BCEB2468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8381-FEE2-446B-B57E-C361222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894-C984-4CB7-A5A9-CF3BA651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6573-390B-493B-B42E-B21AB40A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8C87-5F07-41D8-A71F-F87B2BE1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865B-11FE-45DD-83F4-999D074A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1196-580E-47A0-93BF-F4935029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B582-5A94-466C-A7F3-6F2EB83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D134-D709-4394-9820-ED02BE8B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443C-9DDA-4CEA-ACBE-994CBB39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D1EB-D837-4B5B-8473-DF142BDD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217-4A7B-44B6-B494-41A6956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9DCE-0A3D-424E-8079-C96535C0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C029-63BF-461E-A4C1-D95C49B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60F5-E7FA-485B-A75D-9932ABB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7227-BCAC-4827-927F-84093242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4627-1519-4CC5-BE0C-63A8C9C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33A4-3E5A-4C4C-90FC-2144C55C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A01F2-723D-466E-96D6-4A2A637D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B25-390E-47A2-BD5B-441764FA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548-5FD6-4BCE-B3E5-685723DE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D33-F2B0-40A1-B954-E86081A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0EF-22DB-4CB0-83AD-9B5CA6E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D35-2241-4265-8482-5372E920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0F2-A277-42B5-8E85-BD6C1B63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8CC-D8D6-4126-80A3-0FA9CD4010C5}" type="slidenum">
              <a:rPr b="0" lang="en-US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E25-C4A7-4A34-9531-28E707D0C3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9E56-594B-4A41-A0F1-7A7C63526F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entury Schoolbook"/>
              </a:rPr>
              <a:t>Счастливый  </a:t>
            </a: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entury Schoolbook"/>
              </a:rPr>
              <a:t>случай</a:t>
            </a: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8. Являются ли диагонали прямоугольника взаимно перпендикулярными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200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9. Разделите 100 на половину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СОФЬЯ КОВАЛЕВСКАЯ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10. Первая  женщина математик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5 МЕНЬШЕ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11. Что больше 5 или √ 28  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Прямая соединительная линия 4"/>
          <p:cNvSpPr/>
          <p:nvPr/>
        </p:nvSpPr>
        <p:spPr>
          <a:xfrm>
            <a:off x="7020000" y="2133720"/>
            <a:ext cx="93672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ХОРДА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692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12. Отрезок соединяющий две любые точки окружности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НЕТ КОРНЕЙ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13. Найдите корень уравнения  х² = - 9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3357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Century Schoolbook"/>
              </a:rPr>
              <a:t>«ЗАМОРОЧКИ ИЗ БОЧКИ»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Century Schoolbook"/>
              </a:rPr>
              <a:t>2 гейм</a:t>
            </a:r>
            <a:endParaRPr b="0" lang="en-US" sz="6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entury Schoolbook"/>
              </a:rPr>
              <a:t>180 градусов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Угол, на который поворачивается солдат по команде «Кругом!»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600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Полтрети числа равно 100. Что это за число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14400" indent="0" algn="ctr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3.Полный бидон с молоком весит 30 кг, а наполовину наполненный -  15.5 кг. Сколько весит бидон?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1-й гейм </a:t>
            </a:r>
            <a:br>
              <a:rPr sz="4800"/>
            </a:b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«Дальше, дальше…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НА 19 ДЕНЬ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22160" y="69228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entury Schoolbook"/>
              </a:rPr>
              <a:t>На озере росли лилии, Каждый день их число удваивалось и на 20-й день заросло все озеро. На какой день заросла половина озера?</a:t>
            </a:r>
            <a:endParaRPr b="0" lang="en-US" sz="39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3 МИНУТЫ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Есть две сковородки. На каждую помещается 1 блин. Надо поджарить три блина с двух сторон. Каждая сторона жарится 1 минуту. За какое наименьшее время можно это сделать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2 РУБЛЯ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476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Шоколадка стоит  рубль  и еще полшоколадки. Сколько стоит шокола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ТРИ МЕДВЕДЯ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69080" cy="28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Возле леса у опушки трое их живет в избушке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Там три стула и три кружки,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Три кровати, три подушки.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Угадайте без подсказки,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Кто герои этой сказки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50 КРОЛИКОВ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0 ГУСЕЙ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713800" cy="38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В теплом хлеве у бабуси жили кролики и гуси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Бабка странною была, счет животным так вела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Выйдет утром за порог, сосчитает 300 ног,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А потом без лишних слов сосчитает 100 голов.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И спокойная душой идет снова на покой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Кто ответит поскорей, сколько было там гусей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Кто узнает из ребят, сколько было там крольчат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Электропоезд идет с востока на запад со скоростью 60 км/час.  В том же направлении с востока на запад дует ветер со скоростью 50 км/час. В какую сторону отклониться дым поезда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поезд не  дыми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Сколько ударов в сутки делают часы с боем? 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6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Schoolbook"/>
              </a:rPr>
              <a:t>3 гейм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      </a:t>
            </a:r>
            <a:r>
              <a:rPr b="0" lang="en-US" sz="4800" spc="-1" strike="noStrike">
                <a:solidFill>
                  <a:srgbClr val="ffff66"/>
                </a:solidFill>
                <a:latin typeface="Century Schoolbook"/>
              </a:rPr>
              <a:t>    </a:t>
            </a:r>
            <a:r>
              <a:rPr b="0" lang="en-US" sz="4800" spc="-1" strike="noStrike">
                <a:solidFill>
                  <a:srgbClr val="ffff66"/>
                </a:solidFill>
                <a:latin typeface="Century Schoolbook"/>
              </a:rPr>
              <a:t>Ты – мне,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entury Schoolbook"/>
              </a:rPr>
              <a:t>                      </a:t>
            </a:r>
            <a:r>
              <a:rPr b="0" lang="en-US" sz="4800" spc="-1" strike="noStrike">
                <a:solidFill>
                  <a:srgbClr val="ffff66"/>
                </a:solidFill>
                <a:latin typeface="Century Schoolbook"/>
              </a:rPr>
              <a:t>я - тебе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Schoolbook"/>
              </a:rPr>
              <a:t>4 гейм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        </a:t>
            </a:r>
            <a:r>
              <a:rPr b="0" lang="en-US" sz="4800" spc="-1" strike="noStrike">
                <a:solidFill>
                  <a:srgbClr val="ff99ff"/>
                </a:solidFill>
                <a:latin typeface="Century Schoolbook"/>
              </a:rPr>
              <a:t>Темная лошадка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Гейм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Verdana"/>
              </a:rPr>
              <a:t>ГОНК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Verdana"/>
              </a:rPr>
              <a:t>ЗА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Verdana"/>
              </a:rPr>
              <a:t>ЛИДЕ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Schoolbook"/>
              </a:rPr>
              <a:t>1. 1% от 1 тысячи рублей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10 рублей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В прямоугольном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В каком треугольнике все высоты пересекаются в вершине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10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Число десятков в тысяче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Century Schoolbook"/>
              </a:rPr>
              <a:t>Периметр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Сумма длин сторон многоугольника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Сто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В каком числе столько же цифр, сколько букв в его названии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НОД взаимно простых чисел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0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Сумма противоположных чисел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entury Schoolbook"/>
              </a:rPr>
              <a:t>30 градусов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Какой угол опишет минутная стрелка за 5  минут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"/>
          <p:cNvSpPr/>
          <p:nvPr/>
        </p:nvSpPr>
        <p:spPr>
          <a:xfrm>
            <a:off x="476712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ПИ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Отношение длины окружности к ее диаметру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Касательная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Прямая, имеющая  только одну общую точку с  окружностью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28 см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Площадь квадрата 49 см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²</a:t>
            </a: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Чему равен его периметр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УЗЕЛ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2. Единица скорости на море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Тождество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Равенство, верное при любых значениях переменной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роби</a:t>
            </a: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62028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Какие числа на Руси называли ломаными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16 КИЛОГРАММ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3. Чему равен 1 пуд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4365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ВИЕ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4. Математик, именем которого названа теорема, выражающая связь между коэффицие</a:t>
            </a:r>
            <a:r>
              <a:rPr b="0" lang="en-US" sz="4400" spc="-1" strike="noStrike">
                <a:solidFill>
                  <a:srgbClr val="ffc000"/>
                </a:solidFill>
                <a:latin typeface="Times New Roman"/>
              </a:rPr>
              <a:t>н</a:t>
            </a: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тами квадратного уравнения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Наименьшее натуральное число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АКСИОМА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692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6. Как называется утверждение, принимаемое без доказательств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ИГРЕК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entury Schoolbook"/>
              </a:rPr>
              <a:t>7. Как называется вторая координата точки?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8:28:18Z</dcterms:created>
  <dc:creator>smirnovsv</dc:creator>
  <dc:description/>
  <dc:language>en-US</dc:language>
  <cp:lastModifiedBy>Смирнов Сергей</cp:lastModifiedBy>
  <dcterms:modified xsi:type="dcterms:W3CDTF">2011-01-27T19:45:40Z</dcterms:modified>
  <cp:revision>45</cp:revision>
  <dc:subject/>
  <dc:title>Слайд 1</dc:title>
</cp:coreProperties>
</file>