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4.png" ContentType="image/png"/>
  <Override PartName="/ppt/media/image27.png" ContentType="image/png"/>
  <Override PartName="/ppt/media/image13.jpeg" ContentType="image/jpeg"/>
  <Override PartName="/ppt/media/image5.jpeg" ContentType="image/jpeg"/>
  <Override PartName="/ppt/media/image2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12.png" ContentType="image/png"/>
  <Override PartName="/ppt/media/image23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1A52-3AA8-4EFF-B691-A38E5DCD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DBC2-DCA2-4ABA-824D-C183672C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581-A025-4FD8-81C7-4EA8DD7E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F06-FBFC-41BC-B509-876D9795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A657-CFEB-4654-82D0-3D36C38C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A6BF-BB6B-4C97-8D15-95E754AB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4A3A-BCE8-4375-B914-CD18DC1A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7F54-234D-4E27-B9B0-387BBADF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E4ED-9D23-430D-8117-FB10AD55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6CF5-E5BC-484D-8D91-1FD4F94A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85EF-A6E3-4FD4-BC6E-C2AB7FE0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DE58-230C-47DF-AEEB-13C6BDCA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E3CB-A967-4F2B-A143-21DB5663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9805-C7AB-4179-9EB4-EDB12FB9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FFEB-EC7A-4244-893B-78D67F84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4BFB-705F-4CF0-A5BA-5BA6B681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B4AA-5F69-42A3-BFDA-73DA5EE5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DF0F3-722F-4359-9D94-558BDE1E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353B2-BDF1-4B9A-B335-DC20879D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F55E5-1F27-43D3-9C22-F0D21AAC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9A9D8-EEC7-4224-A397-B1BB4924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222E-1BC0-498B-876B-A93CC880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111-B139-4844-9FC9-9CEBCAED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8ABE5-FD65-4FCA-8924-722A9C40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A8FAD-677D-4B24-8863-2E10DE1F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C518E-EE73-48A9-8120-7F59F081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A7A4B-5BA5-4727-A098-40FFAB2F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2FF53-0CE9-43A2-8069-DE42627E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4F0E4-094D-4862-9813-F6CAA83E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AF2FD-F983-4EF7-941D-BB960EC2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2ABD1-1FE7-4C4D-9753-ADF829A4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AB28C-2EEB-4308-98CE-0AAEBF43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28B0E-07F7-4B67-ACFE-D6BCD972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1C91-4449-48E5-9DF9-6E02A109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DE7A7-47B4-4D89-A375-CEB92281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DA21B-4A51-4696-97DC-50C8010D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C9B27-FCBB-4BF8-B16B-747C56D7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6F343-0C73-41E8-9AD9-D3E35368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38494-2043-4BE6-A04D-EE90AB8F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B9531-4ECA-4D69-B79B-29A935BB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24DAE-634B-4063-87CD-2218FCAF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91574-EE3F-4DAE-A97F-2345C887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D4B10-E242-4711-A860-AEFCBE84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D7B4C-E49D-4F30-AB4C-FD010B3F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9E0-D1CF-4FC4-AFF8-1EF82A9A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3F254-A24C-4414-A942-6251FD04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E9443-4843-4306-8F95-69D788A7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9CFB7-1B4E-461D-B2B8-BF8A3ED3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12FED-0034-4FB4-A82B-D09778A2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EE991-E865-4080-AD60-82EEE582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1FF30-BEEA-429A-ADDB-334B88EE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889AB-7AFC-4D0D-892A-8ED50818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4B38D-D504-4DCD-B3C8-CE4D5A73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F56AA-1CC3-4C58-80E1-CC33D9E3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DA2E0-1884-4D4F-9358-110BFCD9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338E-5D5B-4F4F-984E-1DC7A449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FD2F6-71BB-4193-B1E1-3910E4D2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3FBF1-27A8-4B5E-A31B-E38321B5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3EDE4-B610-4377-A341-DED718FD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4099B-2503-4C0D-A6FB-0A83254B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C9B43-C357-4AB5-B235-F7C26D51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66E3E-772B-4FC1-8E11-6487BFE1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FAB74-729F-438E-9E9D-22D3F49A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64B46-A5E5-4BF3-8EA7-665510AA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015F2-1902-4807-B7FD-4F666581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E6B30-F539-4C57-AFED-708FE583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7E7-8020-40EC-A406-D3441D02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5C40F-5B48-4527-92C3-85B0596F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5B564-740E-4D00-A2CD-31BF0AA7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7E6A9-4BFC-4BEE-B568-75D4AC95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3CABD-743B-44FC-BF0F-4B8308E2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B0BEF-9509-414D-AF6C-5084C178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47025-A62D-4C51-9C51-A88B2D70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CBFE7-1A3C-4797-BE2C-609AC40B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C3435-1151-4C69-B846-4FE6526E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D5F0D-38EA-4412-AC5C-EC0C1E02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18F82-2919-4338-9002-D0846490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7B9D-FE6B-45C6-8447-6F967D6C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7E7A0-188B-4FF2-A47E-EFE3B01A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BC412-62D9-45BE-BC53-4C64430A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15117-AF06-402C-87FB-F16B4F6A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2A4C6-6347-4C18-814C-61EF6372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012D2-685F-4805-840F-578388EA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22B0C-B177-4781-9211-A52036B7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DD520-2214-40AB-B382-F32043DA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20A7F-68B7-47CF-91FE-D374CEC8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1CEB2-5D42-48BA-BF2A-C40ABCFD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E2265-6ED8-4E98-8A44-778BCEC6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C505-3546-4E69-B80F-DC921FCE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A30F3-ACE6-464D-AB27-87365660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AB319-692C-4097-BC89-BAC39C42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7F74A-3248-4838-9632-C4F37B91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DF707-F5FA-462B-83CB-CE937080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04820-4D16-446D-8C3A-FB5A44B4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0C1F0-07B8-4E9C-9A0C-1409F882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A341A-B9C5-46C2-AF57-0B660370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2074-3346-4102-9A01-5334B4EFF1F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2039-045B-4AE6-BBCA-BB69BCFB99D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9EE1-250D-44AE-B052-D39DD2E33C2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159C-4FCA-44E6-A2CF-1DC45036CA8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0314-7FB4-4D8B-9F63-F5368D745DD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B487-3C5D-4C3E-BA93-7C490B59793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2D18-9136-4C5A-8113-847CECD8A86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6EBA-D090-4295-8AAA-57F16AA41DE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500280" y="3428640"/>
            <a:ext cx="5500800" cy="207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Picture 5" descr="logo"/>
          <p:cNvPicPr/>
          <p:nvPr/>
        </p:nvPicPr>
        <p:blipFill>
          <a:blip r:embed="rId1"/>
          <a:stretch/>
        </p:blipFill>
        <p:spPr>
          <a:xfrm>
            <a:off x="1071720" y="500040"/>
            <a:ext cx="6929280" cy="1428840"/>
          </a:xfrm>
          <a:prstGeom prst="rect">
            <a:avLst/>
          </a:prstGeom>
          <a:ln w="0">
            <a:noFill/>
          </a:ln>
        </p:spPr>
      </p:pic>
      <p:pic>
        <p:nvPicPr>
          <p:cNvPr id="372" name="Заголовок 1" descr=""/>
          <p:cNvPicPr/>
          <p:nvPr/>
        </p:nvPicPr>
        <p:blipFill>
          <a:blip r:embed="rId2"/>
          <a:stretch/>
        </p:blipFill>
        <p:spPr>
          <a:xfrm>
            <a:off x="901800" y="762120"/>
            <a:ext cx="788184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457200" y="66600"/>
            <a:ext cx="8229600" cy="1743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:\проекты\азбука\img255.jpg"/>
          <p:cNvPicPr/>
          <p:nvPr/>
        </p:nvPicPr>
        <p:blipFill>
          <a:blip r:embed="rId2"/>
          <a:stretch/>
        </p:blipFill>
        <p:spPr>
          <a:xfrm>
            <a:off x="755640" y="1844640"/>
            <a:ext cx="7632720" cy="4321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971280" y="1481040"/>
            <a:ext cx="784836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171360" y="334800"/>
            <a:ext cx="852804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469800" y="549360"/>
            <a:ext cx="7809120" cy="4284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11844360" y="8724960"/>
            <a:ext cx="7160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856880"/>
            <a:ext cx="82296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314e"/>
                </a:solidFill>
                <a:latin typeface="Lucida Sans Unicode"/>
              </a:rPr>
              <a:t>самостоятельно конструировать свои знани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314e"/>
                </a:solidFill>
                <a:latin typeface="Lucida Sans Unicode"/>
              </a:rPr>
              <a:t>самостоятельно ориентироваться в информационном пространстве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314e"/>
                </a:solidFill>
                <a:latin typeface="Lucida Sans Unicode"/>
              </a:rPr>
              <a:t>самостоятельно планировать свою деятельность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298440" y="122400"/>
            <a:ext cx="86504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92880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314e"/>
                </a:solidFill>
                <a:latin typeface="Lucida Sans Unicode"/>
              </a:rPr>
              <a:t>самостоятельно приобретать новые знания для решения новых познавательных и практических задач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314e"/>
                </a:solidFill>
                <a:latin typeface="Lucida Sans Unicode"/>
              </a:rPr>
              <a:t>способствует практической реализации деятельности ребёнка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314e"/>
                </a:solidFill>
                <a:latin typeface="Lucida Sans Unicode"/>
              </a:rPr>
              <a:t>развивает его индивидуальные интересы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H:\проекты\цифры\img251.jpg"/>
          <p:cNvPicPr/>
          <p:nvPr/>
        </p:nvPicPr>
        <p:blipFill>
          <a:blip r:embed="rId2"/>
          <a:stretch/>
        </p:blipFill>
        <p:spPr>
          <a:xfrm>
            <a:off x="0" y="1071720"/>
            <a:ext cx="2247840" cy="4000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H:\проекты\цифры\img253.jpg"/>
          <p:cNvPicPr/>
          <p:nvPr/>
        </p:nvPicPr>
        <p:blipFill>
          <a:blip r:embed="rId3"/>
          <a:stretch/>
        </p:blipFill>
        <p:spPr>
          <a:xfrm>
            <a:off x="2643120" y="1214280"/>
            <a:ext cx="2935440" cy="47149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H:\проекты\цифры\img257.jpg"/>
          <p:cNvPicPr/>
          <p:nvPr/>
        </p:nvPicPr>
        <p:blipFill>
          <a:blip r:embed="rId4"/>
          <a:stretch/>
        </p:blipFill>
        <p:spPr>
          <a:xfrm>
            <a:off x="5643720" y="1071720"/>
            <a:ext cx="31384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59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H:\проекты\одежда(3)\img275.jpg"/>
          <p:cNvPicPr/>
          <p:nvPr/>
        </p:nvPicPr>
        <p:blipFill>
          <a:blip r:embed="rId2"/>
          <a:stretch/>
        </p:blipFill>
        <p:spPr>
          <a:xfrm>
            <a:off x="928800" y="1500120"/>
            <a:ext cx="2709720" cy="4525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H:\проекты\азбука\img276.jpg"/>
          <p:cNvPicPr/>
          <p:nvPr/>
        </p:nvPicPr>
        <p:blipFill>
          <a:blip r:embed="rId3"/>
          <a:stretch/>
        </p:blipFill>
        <p:spPr>
          <a:xfrm>
            <a:off x="4714920" y="1357200"/>
            <a:ext cx="385776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85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H:\проекты\школа\img285.jpg"/>
          <p:cNvPicPr/>
          <p:nvPr/>
        </p:nvPicPr>
        <p:blipFill>
          <a:blip r:embed="rId2"/>
          <a:stretch/>
        </p:blipFill>
        <p:spPr>
          <a:xfrm>
            <a:off x="285840" y="2000160"/>
            <a:ext cx="4525920" cy="32338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H:\проекты\школа\img286.jpg"/>
          <p:cNvPicPr/>
          <p:nvPr/>
        </p:nvPicPr>
        <p:blipFill>
          <a:blip r:embed="rId3"/>
          <a:stretch/>
        </p:blipFill>
        <p:spPr>
          <a:xfrm>
            <a:off x="5013360" y="1428840"/>
            <a:ext cx="41306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59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H:\проекты\растения\img256.jpg"/>
          <p:cNvPicPr/>
          <p:nvPr/>
        </p:nvPicPr>
        <p:blipFill>
          <a:blip r:embed="rId2"/>
          <a:stretch/>
        </p:blipFill>
        <p:spPr>
          <a:xfrm>
            <a:off x="357120" y="1214280"/>
            <a:ext cx="3303720" cy="4714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H:\проекты\растения\img288.jpg"/>
          <p:cNvPicPr/>
          <p:nvPr/>
        </p:nvPicPr>
        <p:blipFill>
          <a:blip r:embed="rId3"/>
          <a:stretch/>
        </p:blipFill>
        <p:spPr>
          <a:xfrm>
            <a:off x="3857760" y="1071720"/>
            <a:ext cx="51181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Заголовок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14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1042560" y="5409720"/>
            <a:ext cx="72010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Lucida Sans Unicode"/>
              </a:rPr>
              <a:t>«Знание  - сила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Picture 7" descr="H:\проекты\знание (3)\img260.jpg"/>
          <p:cNvPicPr/>
          <p:nvPr/>
        </p:nvPicPr>
        <p:blipFill>
          <a:blip r:embed="rId2"/>
          <a:stretch/>
        </p:blipFill>
        <p:spPr>
          <a:xfrm>
            <a:off x="971640" y="1444680"/>
            <a:ext cx="69850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8:18:01Z</dcterms:created>
  <dc:creator>Emachines</dc:creator>
  <dc:description/>
  <dc:language>en-US</dc:language>
  <cp:lastModifiedBy>Admin</cp:lastModifiedBy>
  <dcterms:modified xsi:type="dcterms:W3CDTF">2012-02-19T15:26:15Z</dcterms:modified>
  <cp:revision>137</cp:revision>
  <dc:subject/>
  <dc:title>Реализация ФГОС средствами УМК «Планета знаний»</dc:title>
</cp:coreProperties>
</file>