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gif" ContentType="image/gif"/>
  <Override PartName="/ppt/media/image10.png" ContentType="image/png"/>
  <Override PartName="/ppt/media/applause.wav" ContentType="audio/x-wav"/>
  <Override PartName="/ppt/media/image9.jpeg" ContentType="image/jpeg"/>
  <Override PartName="/ppt/media/image8.jpeg" ContentType="image/jpeg"/>
  <Override PartName="/ppt/media/image2.gif" ContentType="image/gif"/>
  <Override PartName="/ppt/media/image13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12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4.wmf" ContentType="image/x-wmf"/>
  <Override PartName="/ppt/media/chimes.wav" ContentType="audio/x-wav"/>
  <Override PartName="/ppt/media/image4.gif" ContentType="image/gif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6ED-27FC-4BC0-BFC4-494F36B7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613-BB86-49D9-93E1-FB1B561D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4E0-C35E-4C2E-A263-FE0C50AA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A3D-9EC9-4DB8-A227-8C40B878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27DC-D7D8-40EA-944A-0DEF3937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2E8D-4F81-4087-A6B7-8D183D3D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BD2A-C545-4020-A036-3AA2BA7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C8A9-E4AA-4848-904A-CAD22858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4442-9ACD-4994-BEE1-62859104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D1E8-3060-4684-B381-3B9DD4F9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F4CC-8F3E-4AE0-9163-EE921C64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73A-4AA8-4859-B546-08B6C3F1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0C7C-63FC-46BD-8BD6-FD9CDC6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053B-149A-492A-ACE4-D6FFF105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BB94-CC30-49F4-9F05-ED5AE619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3761-B624-4C54-84E6-A45F3AB9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53D1-E82C-4AD4-A364-02B5D50F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D7969-25FA-422F-A647-5E46B9B4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AE1E5-2018-4AF9-B76B-CBACEC0A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0312-07E4-449F-A9BE-EE66F003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772E-98E2-4F94-861F-D89E8569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5FEF-728F-4893-8A06-A659F7CC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229-B773-43C4-8556-B4334C40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8389-495D-461A-9BB1-F329AA67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D6B2-54C7-4C0E-9162-5102D6D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476D-4261-462F-A2A3-12434DFA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C56A-45F0-491D-9BC6-EB2948D0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4A646-ED41-4DB3-8007-1B796522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EFF3-C7EE-44FC-A019-9399F7B2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22EE-6607-4BAE-A9B7-01509C18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BD9E8-6EAF-4A2B-B96A-B55B85CE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53FD-E45A-4A10-A9CA-C2DB876A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8EE58-15C6-4DE0-90F3-463247ED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0F6-2D52-44A7-80AF-965C6B65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E91B9-BF17-49AC-8FE6-B305EFF8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9611-DE18-4AF0-B730-5649EA78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3F41A-EDA9-4893-9F6A-65C62FEC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0F05-3C46-4111-AFFB-1A28A94D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ED7B0-3686-49D6-94BB-B2CE886E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C81B8-8D2F-4AC9-9DB8-816DC9B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4136-CF0A-4647-94E7-FD6CB4AC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BFF6-C414-4907-BDE6-09F89E7A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4AB4C-D2C4-4256-8ECE-03D5F4D2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03FFB-BDB0-443C-BC19-B41908F9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898-DF84-43F0-AC07-746E7E69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CB971-7CF2-493C-8E61-95383092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F161C-C8C7-4BE3-A4B1-9C29A780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69669-5F4C-4CF3-867A-BCDC3E30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12AF9-AC53-48EC-8977-A525B0B0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E2E91-0635-4BE9-9D54-000C7A7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EF68A1-0133-4E92-9800-416EAF54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C01C8-6283-405A-A6DF-DEE18090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79681-2501-4294-ACFA-C26E2EC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5E5E8-CE5F-461C-B7E1-08FDD3CE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C7823-E01D-47D0-934E-9493B12C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663-5205-48F0-B4C2-5157F93C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90A90-5B61-4BE8-9AB3-0048AE14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8540A-E397-47C1-B435-5E26868D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CB3F7-884F-4A07-BBC9-6C5D737D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EE31-2104-42E2-B975-8F5C4F86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5A38D-3BC3-4A7C-AB8A-6D0F0EAF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6902C-CF82-4CEC-BA9C-8300F899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A9E7F-02B9-4A88-9CB9-CAD93A5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A321D-1FAA-49A6-8474-78B68B8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6E92-228A-4972-95F1-EC61ABC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13B53-8828-4BC5-B666-6E13077C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B31-D9FD-4AA3-A290-44D85531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C5227-C307-4A50-A537-06834323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DA863-D52F-4DB9-A1A7-2B85254A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BC675-D5A8-4F2E-9E8D-CF83CF67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5D0-2968-4688-89A0-05DB0B20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CB2-7083-4601-A33B-E83162D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90A0-ADFA-4C4F-BCE3-77D971D6D25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A97D-DBB7-43FE-A21F-53C934283210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8C41-4B1D-4E99-84DC-6BE0935973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15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208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88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F008-17FE-42F8-9B22-A7E3055C7B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398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77B0-CFFE-4849-95FB-B82E24748C7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4045-70A0-4F6D-B6F1-985642A8716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7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имание! Внимание!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рываем творческую лаборатор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"/>
          <p:cNvSpPr/>
          <p:nvPr/>
        </p:nvSpPr>
        <p:spPr>
          <a:xfrm>
            <a:off x="250920" y="4365720"/>
            <a:ext cx="2376360" cy="2138400"/>
          </a:xfrm>
          <a:prstGeom prst="star5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67640" y="620640"/>
            <a:ext cx="1655640" cy="20653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50920" y="2133720"/>
            <a:ext cx="871380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Калории: "ЗА!" и "Против!"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81" name=""/>
          <p:cNvSpPr/>
          <p:nvPr/>
        </p:nvSpPr>
        <p:spPr>
          <a:xfrm>
            <a:off x="5651640" y="4508640"/>
            <a:ext cx="1512720" cy="184932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762120 h 1849320"/>
              <a:gd name="textAreaBottom" fmla="*/ 1087200 h 184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длительном избыточном потреблении калорийной пищи часть жиров и углеводов откладывается в виде подкожной жировой клетча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дефиците- возникает дисбаланс работы орг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1476360" y="1844640"/>
            <a:ext cx="59752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 ту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heel spokes="8"/>
    <p:sndAc>
      <p:stSnd>
        <p:snd r:embed="rId1" name="applause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68360" y="189000"/>
            <a:ext cx="8207280" cy="5976720"/>
          </a:xfrm>
          <a:prstGeom prst="horizontalScrol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4360" y="1844640"/>
            <a:ext cx="77752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счет калорийности обе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heel spokes="8"/>
    <p:sndAc>
      <p:stSnd>
        <p:snd r:embed="rId1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3213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КА ЖЮР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>
            <a:off x="684360" y="155736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ff0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edff0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b83"/>
                </a:solidFill>
                <a:latin typeface="Arial"/>
              </a:rPr>
              <a:t>Быстрота и разумность составления меню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4360" y="2276640"/>
            <a:ext cx="68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ff01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edff0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cb2f"/>
                </a:solidFill>
                <a:latin typeface="Arial"/>
              </a:rPr>
              <a:t>Быстрый подсчет калорий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6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1.02683E-006 L -0.00764 -0.37234 E">
                                      <p:cBhvr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Калорийность пищи не должна быть ниже 1000 ккал в сутк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При росте 165 см и весе 54 кг энергозатраты не должны превышать 1296 ккал в сутк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Дефицит 200 ккал в день позволит похудеть на 500 г за 17,5 дней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applaus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Cloud"/>
          <p:cNvSpPr/>
          <p:nvPr/>
        </p:nvSpPr>
        <p:spPr>
          <a:xfrm>
            <a:off x="755640" y="476280"/>
            <a:ext cx="7920000" cy="575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03280" y="1700280"/>
            <a:ext cx="680580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счет энергозатрат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 определенном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е деятельност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  <p:sndAc>
      <p:stSnd>
        <p:snd r:embed="rId1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уммарный расход энергии человека за сутки равен расходу энергии на основной обмен плюс энергия, истраченная в течение дня на: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ственную работу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нятия спортом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машнюю работу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ческую работу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applaus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5280" y="3213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КА ЖЮР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684360" y="155736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ff0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edff0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b83"/>
                </a:solidFill>
                <a:latin typeface="Arial"/>
              </a:rPr>
              <a:t>Быстрота и разумность составления меню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4360" y="2276640"/>
            <a:ext cx="68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ff01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edff0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cb2f"/>
                </a:solidFill>
                <a:latin typeface="Arial"/>
              </a:rPr>
              <a:t>Быстрый  подсчет калорий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4360" y="3068640"/>
            <a:ext cx="68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ff01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edff0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0c5de"/>
                </a:solidFill>
                <a:latin typeface="Arial"/>
              </a:rPr>
              <a:t>Баланс между потребляемыми и затраченными на определенный вид деятельности калориям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6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1.02683E-006 L -0.00764 -0.37234 E">
                                      <p:cBhvr>
                                        <p:cTn id="253" dur="5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ahoma"/>
              </a:rPr>
              <a:t>Умственная рабо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395280" y="1557360"/>
          <a:ext cx="8493120" cy="4824360"/>
        </p:xfrm>
        <a:graphic>
          <a:graphicData uri="http://schemas.openxmlformats.org/drawingml/2006/table">
            <a:tbl>
              <a:tblPr/>
              <a:tblGrid>
                <a:gridCol w="1631880"/>
                <a:gridCol w="4100760"/>
                <a:gridCol w="276048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эффициент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60 кг, 30 минут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а в классе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,8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 за компьютером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,44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шение задач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,6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етстве каждый мечтает поскорее повзрослеть, но как только это происходит, мы начинаем думать, как этот процесс замедлить. Для только что родившегося ребенка 1 год в 70 раз длиннее, чем для 100-летнего. Ученые установили: </a:t>
            </a:r>
            <a:r>
              <a:rPr b="0" lang="ru-RU" sz="3200" spc="-1" strike="noStrike">
                <a:solidFill>
                  <a:srgbClr val="ccff33"/>
                </a:solidFill>
                <a:latin typeface="Tahoma"/>
              </a:rPr>
              <a:t>Продление молодости напрямую связано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cff33"/>
                </a:solidFill>
                <a:latin typeface="Tahoma"/>
              </a:rPr>
              <a:t>уменьшением  калорийности пита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 ли безобидны питание в бистро, несбалансированное пит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305840" y="4437000"/>
            <a:ext cx="18381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189000"/>
            <a:ext cx="8001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0302"/>
                </a:solidFill>
                <a:latin typeface="Tahoma"/>
              </a:rPr>
              <a:t>Домашняя раб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685800" y="981000"/>
          <a:ext cx="8062920" cy="5281560"/>
        </p:xfrm>
        <a:graphic>
          <a:graphicData uri="http://schemas.openxmlformats.org/drawingml/2006/table">
            <a:tbl>
              <a:tblPr/>
              <a:tblGrid>
                <a:gridCol w="1077840"/>
                <a:gridCol w="4464000"/>
                <a:gridCol w="252108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коэффициент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Уборка дома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42,2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Приготовление еды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79,02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Детские игры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58,22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Покупка продукто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11,6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Перемещение мебели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90,8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Просмотр телевизора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23,4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  <p:sndAc>
      <p:stSnd>
        <p:snd r:embed="rId1" name="applau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520" y="189000"/>
            <a:ext cx="8001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0302"/>
                </a:solidFill>
                <a:latin typeface="Tahoma"/>
              </a:rPr>
              <a:t>Физическая раб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685800" y="981000"/>
          <a:ext cx="8062920" cy="5519880"/>
        </p:xfrm>
        <a:graphic>
          <a:graphicData uri="http://schemas.openxmlformats.org/drawingml/2006/table">
            <a:tbl>
              <a:tblPr/>
              <a:tblGrid>
                <a:gridCol w="1077840"/>
                <a:gridCol w="4464000"/>
                <a:gridCol w="2521080"/>
              </a:tblGrid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коэффициент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Работа в офисе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37,08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Работа массажистом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26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Работа оператором тяжелых машин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79,02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строительство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74,6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Работа барменом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79,02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Работа с тяжелыми инструментами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253,62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  <p:sndAc>
      <p:stSnd>
        <p:snd r:embed="rId1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520" y="189000"/>
            <a:ext cx="8001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0302"/>
                </a:solidFill>
                <a:latin typeface="Tahoma"/>
              </a:rPr>
              <a:t>Спор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685800" y="981000"/>
          <a:ext cx="8062920" cy="5281560"/>
        </p:xfrm>
        <a:graphic>
          <a:graphicData uri="http://schemas.openxmlformats.org/drawingml/2006/table">
            <a:tbl>
              <a:tblPr/>
              <a:tblGrid>
                <a:gridCol w="1077840"/>
                <a:gridCol w="4464000"/>
                <a:gridCol w="252108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коэффициент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бадминтон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42,2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горный велосипед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270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быстрые танцы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908 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ходьба на природе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190,8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катание на роликах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221,4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волейбо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e0302"/>
                          </a:solidFill>
                          <a:latin typeface="Tahoma"/>
                        </a:rPr>
                        <a:t>95,4 ккал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  <p:sndAc>
      <p:stSnd>
        <p:snd r:embed="rId1" name="applaus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68360" y="930240"/>
            <a:ext cx="8424720" cy="48038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2833560" y="1628640"/>
            <a:ext cx="3503880" cy="381636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763640" y="1628640"/>
            <a:ext cx="568800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60a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60a"/>
                </a:solidFill>
                <a:latin typeface="Monotype Corsiva"/>
              </a:rPr>
              <a:t>Соблюдай энергетический баланс между расходуемыми и потребляемыми     калориями</a:t>
            </a:r>
            <a:r>
              <a:rPr b="0" lang="ru-RU" sz="24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6060a"/>
                </a:solidFill>
                <a:latin typeface="Monotype Corsiva"/>
              </a:rPr>
              <a:t>!    </a:t>
            </a:r>
            <a:r>
              <a:rPr b="0" lang="ru-RU" sz="2400" spc="-1" strike="noStrike">
                <a:solidFill>
                  <a:srgbClr val="06060a"/>
                </a:solidFill>
                <a:latin typeface="Monotype Corsiva"/>
              </a:rPr>
              <a:t>       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042920" y="476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Составьте как можно больше слов из слова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9640" y="2205000"/>
            <a:ext cx="81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omic Sans MS"/>
              </a:rPr>
              <a:t>К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6600" spc="-1" strike="noStrike">
                <a:solidFill>
                  <a:srgbClr val="9966ff"/>
                </a:solidFill>
                <a:latin typeface="Comic Sans MS"/>
              </a:rPr>
              <a:t>Л</a:t>
            </a:r>
            <a:r>
              <a:rPr b="0" lang="ru-RU" sz="6600" spc="-1" strike="noStrike">
                <a:solidFill>
                  <a:srgbClr val="00ffff"/>
                </a:solidFill>
                <a:latin typeface="Comic Sans MS"/>
              </a:rPr>
              <a:t>О</a:t>
            </a:r>
            <a:r>
              <a:rPr b="0" lang="ru-RU" sz="6600" spc="-1" strike="noStrike">
                <a:solidFill>
                  <a:srgbClr val="33cc33"/>
                </a:solidFill>
                <a:latin typeface="Comic Sans MS"/>
              </a:rPr>
              <a:t>Р</a:t>
            </a:r>
            <a:r>
              <a:rPr b="0" lang="ru-RU" sz="66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0" lang="ru-RU" sz="6600" spc="-1" strike="noStrike">
                <a:solidFill>
                  <a:srgbClr val="d60093"/>
                </a:solidFill>
                <a:latin typeface="Comic Sans MS"/>
              </a:rPr>
              <a:t>Й</a:t>
            </a:r>
            <a:r>
              <a:rPr b="0" lang="ru-RU" sz="6600" spc="-1" strike="noStrike">
                <a:solidFill>
                  <a:srgbClr val="ff66cc"/>
                </a:solidFill>
                <a:latin typeface="Comic Sans MS"/>
              </a:rPr>
              <a:t>Н</a:t>
            </a:r>
            <a:r>
              <a:rPr b="0" lang="ru-RU" sz="6600" spc="-1" strike="noStrike">
                <a:solidFill>
                  <a:srgbClr val="66ff33"/>
                </a:solidFill>
                <a:latin typeface="Comic Sans MS"/>
              </a:rPr>
              <a:t>О</a:t>
            </a:r>
            <a:r>
              <a:rPr b="0" lang="ru-RU" sz="6600" spc="-1" strike="noStrike">
                <a:solidFill>
                  <a:srgbClr val="cccc00"/>
                </a:solidFill>
                <a:latin typeface="Comic Sans MS"/>
              </a:rPr>
              <a:t>С</a:t>
            </a:r>
            <a:r>
              <a:rPr b="0" lang="ru-RU" sz="6600" spc="-1" strike="noStrike">
                <a:solidFill>
                  <a:srgbClr val="990099"/>
                </a:solidFill>
                <a:latin typeface="Comic Sans MS"/>
              </a:rPr>
              <a:t>Т</a:t>
            </a:r>
            <a:r>
              <a:rPr b="0" lang="ru-RU" sz="6600" spc="-1" strike="noStrike">
                <a:solidFill>
                  <a:srgbClr val="33ccff"/>
                </a:solidFill>
                <a:latin typeface="Comic Sans MS"/>
              </a:rPr>
              <a:t>Ь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6891480" y="514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5076720" y="3322800"/>
            <a:ext cx="3240360" cy="3154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applause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50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5880" fill="hold"/>
                                        <p:tgtEl>
                                          <p:spTgt spid="6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2000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03184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5400720" cy="59770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6659640" y="260280"/>
            <a:ext cx="2016000" cy="17924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1835280" y="3068640"/>
            <a:ext cx="66974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8" name=""/>
          <p:cNvSpPr/>
          <p:nvPr/>
        </p:nvSpPr>
        <p:spPr>
          <a:xfrm>
            <a:off x="714384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4856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3"/>
          <a:stretch/>
        </p:blipFill>
        <p:spPr>
          <a:xfrm>
            <a:off x="7451640" y="5157720"/>
            <a:ext cx="1165320" cy="122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applause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3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3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я необходимая организму энергия  поступает из пищи. Считают, что процесс усвоения пищи схож с горением. Действительно, большая часть продуктов превращается в тепло. В нашей жизни мы постоянно сталкиваемся с понятием «Калория, калорийность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95280" y="2133720"/>
            <a:ext cx="8280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5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Что такое калорийность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20640"/>
            <a:ext cx="1463760" cy="237672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808000" cy="31687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40328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8200" y="639720"/>
            <a:ext cx="779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Для начала ответьте на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179280" y="487692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2000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2000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03184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258920" y="1052640"/>
            <a:ext cx="669780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4" name=""/>
          <p:cNvSpPr/>
          <p:nvPr/>
        </p:nvSpPr>
        <p:spPr>
          <a:xfrm>
            <a:off x="2340000" y="438480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Вы правы!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6804000" y="3716280"/>
            <a:ext cx="1852560" cy="19447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2446200" cy="1835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applause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5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Калорийность-это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541160" cy="18003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88390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02" name="Cloud"/>
          <p:cNvSpPr/>
          <p:nvPr/>
        </p:nvSpPr>
        <p:spPr>
          <a:xfrm>
            <a:off x="395280" y="1773360"/>
            <a:ext cx="8426520" cy="4860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00920" y="560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91184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5"/>
          <a:stretch/>
        </p:blipFill>
        <p:spPr>
          <a:xfrm>
            <a:off x="7348680" y="4869000"/>
            <a:ext cx="1795320" cy="19890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547640" y="2655720"/>
            <a:ext cx="61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Количество тепловой энергии, выделяемой человеком в результате поглощения того или иного продукта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1 калория = 4,19 Джоуле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87494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7494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87494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74988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87494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5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7724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76360" y="1844640"/>
            <a:ext cx="59752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ту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heel spokes="8"/>
    <p:sndAc>
      <p:stSnd>
        <p:snd r:embed="rId1" name="applause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-252360" y="1413000"/>
            <a:ext cx="9001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5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национальная кухня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4000" y="404640"/>
            <a:ext cx="1358640" cy="2205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6516720" y="2924280"/>
            <a:ext cx="2627280" cy="36003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40328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280" y="407664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2fe"/>
                </a:solidFill>
                <a:latin typeface="Arial"/>
              </a:rPr>
              <a:t>Выбрать из предложенного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2fe"/>
                </a:solidFill>
                <a:latin typeface="Arial"/>
              </a:rPr>
              <a:t>перечня  блюд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2fe"/>
                </a:solidFill>
                <a:latin typeface="Arial"/>
              </a:rPr>
              <a:t>национальной кухни обеденное меню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95280" y="3213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А ЖЮРИ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4360" y="155736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ff0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edff0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b83"/>
                </a:solidFill>
                <a:latin typeface="Arial"/>
              </a:rPr>
              <a:t>Быстрота и разумность составления меню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6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383ad"/>
                                      </p:to>
                                    </p:animClr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383ad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1.02683E-006 L -0.00764 -0.37234 E">
                                      <p:cBhvr>
                                        <p:cTn id="155" dur="5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Петрова</cp:lastModifiedBy>
  <dcterms:modified xsi:type="dcterms:W3CDTF">2012-02-19T04:46:48Z</dcterms:modified>
  <cp:revision>24</cp:revision>
  <dc:subject/>
  <dc:title>PowerPoint Presentation</dc:title>
</cp:coreProperties>
</file>