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wmf" ContentType="image/x-wmf"/>
  <Override PartName="/ppt/media/image20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0A9F-96BF-4D30-906E-300133FAB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EF7B-BA0B-493F-8DC6-93421903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FB46-65E1-4269-AB91-4CADEB73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B7A0-9475-4CA4-A6C5-AE4C5D93A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3C50-6806-4D60-897E-6A00BA1FB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244F-081A-4C63-9BCC-01B7C51B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9824-6DD6-4F9E-B86C-20144CCC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9B71-C929-4CEF-B460-CFC7C00E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49AB-A528-46C2-BF67-A9543A64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E7EB-45F9-46D6-A632-91869AFE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DE31-C180-4736-9C93-13593F09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DB6E-7EEF-4BB3-BFCB-4B2F2B6F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7F3F-1CA6-47A0-8B15-547E5675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EF53-5C7D-4554-97CC-64603BF7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94AB-E951-4B23-A38D-DDBFD468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EA1C-25A4-4553-8E35-12BEAAFD7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5F46-DA9F-46E2-9752-8F18992C0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E2CD-0713-4603-9C84-2BA35770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8E30-E7E6-4CD2-A7AE-428D76CC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47D2-DC2E-4A22-BC97-2F999627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3E8C-5004-4B91-BD07-653C8397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00CD-6AB0-4B1C-A42C-62871C1C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CD50-276A-4FD9-A280-2F0E32C1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59FC-7C6A-4609-897E-C45B8572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B917-1197-4735-AC97-50CA78B8F3E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94B3-F1A5-4129-955E-693DF96FFAE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Лаваш-армянский хлеб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528920"/>
            <a:ext cx="4753080" cy="5329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292720" y="1673280"/>
            <a:ext cx="3600360" cy="26938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651640" y="4508640"/>
            <a:ext cx="2808000" cy="20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После приготовления лаваш долго  хранится в сухом виде и не теряет своих качеств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826920" y="1979640"/>
            <a:ext cx="653580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Мы живем в городской квартире и готовим лаваш на большой сковороде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6914880" cy="45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29152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Лаваш можно использовать как скатерть или салфетку во время пикников, для приготовления рулетов с разной начинкой и других блюд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000" y="2923920"/>
            <a:ext cx="8002440" cy="32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448164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627280" y="2637000"/>
            <a:ext cx="3600360" cy="23828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300720" y="4653000"/>
            <a:ext cx="26640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С использованием лаваша можно  обычные продукты превратить в оригинальные закуски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042920" y="1549440"/>
            <a:ext cx="3673440" cy="28731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2832120" cy="2114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12000" y="1906560"/>
            <a:ext cx="2952720" cy="22096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5003640" y="4284720"/>
            <a:ext cx="273708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Также лаваш рекомендуют употреблять как бездрожжевой хлеб людям, находящимся на диете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453708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1280" y="277920"/>
            <a:ext cx="8075520" cy="27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Похожие блюда есть и у других народов. Например маисовая лепешка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Ее пекут узбеки и другие народы.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568800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29152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Кыстыбый – старинное традиционное татарское блюдо из теста с начинкой. Это пресная лепешка с начинкой из каши или картофельного пюре. Обмазывается топленым маслом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6000" y="2491920"/>
            <a:ext cx="757080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95280" y="4351320"/>
            <a:ext cx="3240000" cy="24192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276720" y="3141720"/>
            <a:ext cx="2428920" cy="1898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651640" y="4168800"/>
            <a:ext cx="32414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Распространено и в башкирской кухне. Блюдо можно есть и во время поста, заменив топленое масло на растительное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059280" y="1989000"/>
            <a:ext cx="377316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Хлеб является главным кушаньем на все времена.  Не зря в народе говорят: «Хлеб-всему голова!»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116000" y="1712880"/>
            <a:ext cx="676908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Цель работы: узнать о свойствах лаваш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003640" y="3716280"/>
            <a:ext cx="3594240" cy="2714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562200" cy="52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277560"/>
            <a:ext cx="8362800" cy="58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Задачи</a:t>
            </a:r>
            <a:br>
              <a:rPr sz="3200"/>
            </a:b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Изучить теоретический материал о лаваше</a:t>
            </a:r>
            <a:br>
              <a:rPr sz="3200"/>
            </a:b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Узнать, кто из знакомых употребляет лаваш в пищу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Выяснить способ приготовления и научиться готовить лаваш</a:t>
            </a:r>
            <a:br>
              <a:rPr sz="3200"/>
            </a:b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Дать рекомендации по использованию лаваша, как полуфабриката для приготовления  других блюд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504200" y="5589720"/>
            <a:ext cx="1639800" cy="10969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Результат опрос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187280" y="1268280"/>
          <a:ext cx="6696360" cy="530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268280"/>
                    <a:ext cx="6696360" cy="53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Для приготовления теста берут муку , выращенную на естественном дождевом поливе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181080" y="1773360"/>
            <a:ext cx="5581800" cy="3771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345280" y="1413000"/>
            <a:ext cx="379872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Технология изготовления настоящего лаваша предполагает работу нескольких стряпух одновременно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632484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27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Замешанное тесто, доведенное до кондиции, разбивают на части шарообразной формы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211640" y="3084480"/>
            <a:ext cx="44640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Каждая частьраскатывается тонким слоем  и укрепляется на стенках печи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332000" y="2122560"/>
            <a:ext cx="746748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Дандир-жароудерживающая печь, выкладывается в земле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116000" y="1562040"/>
            <a:ext cx="684072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1T19:46:44Z</dcterms:created>
  <dc:creator>Admin</dc:creator>
  <dc:description/>
  <dc:language>en-US</dc:language>
  <cp:lastModifiedBy>Антон</cp:lastModifiedBy>
  <dcterms:modified xsi:type="dcterms:W3CDTF">2005-12-31T21:33:31Z</dcterms:modified>
  <cp:revision>4</cp:revision>
  <dc:subject/>
  <dc:title>Лаваш-армянский хлеб</dc:title>
</cp:coreProperties>
</file>