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3090-A2F2-4740-ABF1-2FC40BA33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DF75-2635-419B-AACA-DF76A45E3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3D7A-CD53-4044-9C85-15C7D3581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920F-BEE0-4435-9910-6A99D7779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2C3C4-8FD0-42BC-AF57-AA65F593B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75FCC-D9D2-4118-95EF-010D10C49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4E715-839C-4D69-9E3A-214A4E1C2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13175-10C1-4127-BF7B-D3A579169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FF271-803E-47D8-857D-B6D134DAF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8B3FD-7306-4F31-B808-21A0A6C3A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1919F-CA23-4142-B0BE-D56BFCEB5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99DC-9381-4F56-8D0E-D6FF1A7B0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C823C-D368-49D5-986D-E63ECDE13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765BB-882C-4DD1-A6F5-BD88F1522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DFE5E-7736-4200-BE9D-C75E36D68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7F3B5-FAFB-4EF1-8F10-378077D53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B3115-230F-419B-84BE-3C5F74DE3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5596-DED4-42EA-B6DA-4C39DDA1A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4F01-FA64-4319-BFE6-2FAAF19B0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036D-4491-4741-B1B9-1D4FF6D0B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2E96-E5A3-456E-A875-9ED4C0086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776F-B8D3-4161-8FE5-93A08F3E2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439D-42C9-43A2-8F40-7F77AEDAC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DF2A-948B-46BA-B394-796CEB325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305F9-73EF-49C9-8F97-A1AE71EF7B6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0D11A-3253-4882-8BED-C7CA6932DB9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136000" cy="3024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cc"/>
                </a:solidFill>
                <a:latin typeface="Monotype Corsiva"/>
              </a:rPr>
              <a:t>«Мне важно всё, что ты пишешь…»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7640" y="3284640"/>
            <a:ext cx="63374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/Особенности содержания текста письма/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"/>
          <p:cNvSpPr/>
          <p:nvPr/>
        </p:nvSpPr>
        <p:spPr>
          <a:xfrm>
            <a:off x="3780000" y="1125360"/>
            <a:ext cx="45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рок развития реч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"/>
          <p:cNvSpPr/>
          <p:nvPr/>
        </p:nvSpPr>
        <p:spPr>
          <a:xfrm>
            <a:off x="6732720" y="63360"/>
            <a:ext cx="194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6-8 класс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" dur="1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1979640" y="333360"/>
            <a:ext cx="50403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войной  дневник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826920" y="858960"/>
          <a:ext cx="7073640" cy="4029120"/>
        </p:xfrm>
        <a:graphic>
          <a:graphicData uri="http://schemas.openxmlformats.org/drawingml/2006/table">
            <a:tbl>
              <a:tblPr/>
              <a:tblGrid>
                <a:gridCol w="3537720"/>
                <a:gridCol w="3535920"/>
              </a:tblGrid>
              <a:tr h="334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Фразы из текста, которые произвели особое впечатл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6600cc"/>
                      </a:solidFill>
                    </a:lnL>
                    <a:lnR w="5760">
                      <a:solidFill>
                        <a:srgbClr val="6600cc"/>
                      </a:solidFill>
                    </a:lnR>
                    <a:lnT w="5760">
                      <a:solidFill>
                        <a:srgbClr val="6600cc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Комментарии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Что заставило записать именно эту фразу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Какие мысли, вопросы, ассоциации они вызвали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6600cc"/>
                      </a:solidFill>
                    </a:lnL>
                    <a:lnR w="5760">
                      <a:solidFill>
                        <a:srgbClr val="6600cc"/>
                      </a:solidFill>
                    </a:lnR>
                    <a:lnT w="5760">
                      <a:solidFill>
                        <a:srgbClr val="6600cc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6600cc"/>
                      </a:solidFill>
                    </a:lnL>
                    <a:lnR w="5760">
                      <a:solidFill>
                        <a:srgbClr val="6600c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66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6600cc"/>
                      </a:solidFill>
                    </a:lnL>
                    <a:lnR w="5760">
                      <a:solidFill>
                        <a:srgbClr val="6600c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6600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1" name=""/>
          <p:cNvSpPr/>
          <p:nvPr/>
        </p:nvSpPr>
        <p:spPr>
          <a:xfrm>
            <a:off x="1959120" y="25210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plit dir="out" orient="vert"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 rot="20784600">
            <a:off x="693720" y="1911240"/>
            <a:ext cx="3527280" cy="186372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3851280" y="1413000"/>
            <a:ext cx="4681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6600cc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cc"/>
                </a:solidFill>
                <a:latin typeface="Monotype Corsiva"/>
              </a:rPr>
              <a:t>Кто из вас сейчас  вспомнил о своих родителях? Почему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6600cc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cc"/>
                </a:solidFill>
                <a:latin typeface="Monotype Corsiva"/>
              </a:rPr>
              <a:t>Как сын обращается к матери, приветствуя её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6600cc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cc"/>
                </a:solidFill>
                <a:latin typeface="Monotype Corsiva"/>
              </a:rPr>
              <a:t> </a:t>
            </a:r>
            <a:r>
              <a:rPr b="0" lang="ru-RU" sz="2800" spc="-1" strike="noStrike">
                <a:solidFill>
                  <a:srgbClr val="6600cc"/>
                </a:solidFill>
                <a:latin typeface="Monotype Corsiva"/>
              </a:rPr>
              <a:t>Кого из близких вспоминает боец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6600cc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cc"/>
                </a:solidFill>
                <a:latin typeface="Monotype Corsiva"/>
              </a:rPr>
              <a:t> </a:t>
            </a:r>
            <a:r>
              <a:rPr b="0" lang="ru-RU" sz="2800" spc="-1" strike="noStrike">
                <a:solidFill>
                  <a:srgbClr val="6600cc"/>
                </a:solidFill>
                <a:latin typeface="Monotype Corsiva"/>
              </a:rPr>
              <a:t>В чём особенность описания бойцом солдатских будней? Как письма характеризуют его автора, гвардии лейтенанта Малахова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2195640" y="333360"/>
            <a:ext cx="48974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думаем  вместе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split dir="out" orient="vert"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692360" y="736560"/>
            <a:ext cx="6335640" cy="612144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 txBox="1"/>
          <p:nvPr/>
        </p:nvSpPr>
        <p:spPr>
          <a:xfrm>
            <a:off x="1476360" y="260280"/>
            <a:ext cx="57596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« За час до подвига…»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076720" y="5373720"/>
            <a:ext cx="367200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следнее письмо 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.Д. Малахова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split dir="out" orient="vert"/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 rot="20810400">
            <a:off x="684000" y="620640"/>
            <a:ext cx="3960720" cy="532620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4500720" y="3357720"/>
            <a:ext cx="4176720" cy="287964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4711680" y="1197000"/>
            <a:ext cx="4432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Monotype Corsiva"/>
              </a:rPr>
              <a:t>« Хочу, чтобы ещё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Monotype Corsiva"/>
              </a:rPr>
              <a:t>кто - нибудь запомнил его… живого…»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plit dir="out" orient="vert"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2" dur="8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3" dur="8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4" dur="8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697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        </a:t>
            </a:r>
            <a:r>
              <a:rPr b="0" lang="ru-RU" sz="4400" spc="-1" strike="noStrike">
                <a:solidFill>
                  <a:srgbClr val="6600cc"/>
                </a:solidFill>
                <a:latin typeface="Monotype Corsiva"/>
              </a:rPr>
              <a:t>Пишите письма!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cc"/>
                </a:solidFill>
                <a:latin typeface="Monotype Corsiva"/>
              </a:rPr>
              <a:t>    </a:t>
            </a:r>
            <a:r>
              <a:rPr b="0" lang="ru-RU" sz="4400" spc="-1" strike="noStrike">
                <a:solidFill>
                  <a:srgbClr val="6600cc"/>
                </a:solidFill>
                <a:latin typeface="Monotype Corsiva"/>
              </a:rPr>
              <a:t>Пишите так, чтобы они согревали    душевным  теплом ваших  родных  и близких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plit dir="out" orient="vert"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1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2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3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3500"/>
                            </p:stCondLst>
                            <p:childTnLst>
                              <p:par>
                                <p:cTn id="31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7" dur="5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8" dur="5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9" dur="5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178920" y="620640"/>
            <a:ext cx="81378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Monotype Corsiva"/>
              </a:rPr>
              <a:t>     </a:t>
            </a:r>
            <a:r>
              <a:rPr b="0" lang="ru-RU" sz="2800" spc="-1" strike="noStrike">
                <a:solidFill>
                  <a:srgbClr val="0000cc"/>
                </a:solidFill>
                <a:latin typeface="Monotype Corsiva"/>
              </a:rPr>
              <a:t>Язык - самое выразительное, чем человек обладает. З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Monotype Corsiva"/>
              </a:rPr>
              <a:t>своим языком надо следить постоянно. Уметь хорошо писать нужно не только писателю и учёному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Monotype Corsiva"/>
              </a:rPr>
              <a:t>Даже хорошо, свободно и с известной долей юмора написанное письмо другу характеризует вас не меньше, чем устная речь. Через письмо дайте почувствовать себя, своё расположение духа, свою раскованность с обращении к симпатичному вам человеку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Monotype Corsiva"/>
              </a:rPr>
              <a:t> </a:t>
            </a:r>
            <a:r>
              <a:rPr b="0" lang="ru-RU" sz="2800" spc="-1" strike="noStrike">
                <a:solidFill>
                  <a:srgbClr val="0000cc"/>
                </a:solidFill>
                <a:latin typeface="Monotype Corsiva"/>
              </a:rPr>
              <a:t>Но как научиться писать? Чтобы научиться писать, надо писать, писать письма, дневники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Monotype Corsiva"/>
              </a:rPr>
              <a:t>                                                            </a:t>
            </a:r>
            <a:r>
              <a:rPr b="0" lang="ru-RU" sz="2800" spc="-1" strike="noStrike">
                <a:solidFill>
                  <a:srgbClr val="0000cc"/>
                </a:solidFill>
                <a:latin typeface="Monotype Corsiva"/>
              </a:rPr>
              <a:t>Д.С. Лихачёв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plit dir="out" orient="vert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Times New Roman"/>
              </a:rPr>
              <a:t>Эпистолярный жанр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имеющий форму письма, переписки (о литературном жанре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Times New Roman"/>
              </a:rPr>
              <a:t>Письм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бумага с написанным текстом, посылаемая кому-либо для сообщения чего-либо, для общения с кем-либо на расстоянии, а также соответствующее почтовое отправление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Times New Roman"/>
              </a:rPr>
              <a:t>Адресат –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лицо, которому адресуют (пишут)письмо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Times New Roman"/>
              </a:rPr>
              <a:t>Адресан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лицо, которое адресует (пишет) письмо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2124000" y="404640"/>
            <a:ext cx="468000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ловарная работа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split dir="out" orient="vert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2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2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2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2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2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1031760" y="1968480"/>
            <a:ext cx="71964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Times New Roman"/>
              </a:rPr>
              <a:t>ПатрИотиз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tris –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древнегреч. яз.) – Родина (родина), Отечество – любовь к Родине (родине), преданность своему народу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Times New Roman"/>
              </a:rPr>
              <a:t>КоРРеспонденция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rrespond - (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р. яз.) – осведомлять, отвечать. Переписка между отдельными лицами или учреждениями; письмо – корреспонденция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1835280" y="333360"/>
            <a:ext cx="547344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ловарно-орфографическая 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абота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2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2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2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2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 rot="21226200">
            <a:off x="4214880" y="3352680"/>
            <a:ext cx="4605120" cy="32371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0" y="1916280"/>
            <a:ext cx="4932360" cy="360036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684360" y="981000"/>
            <a:ext cx="7773840" cy="47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Monotype Corsiva"/>
              </a:rPr>
              <a:t>Язык, как письменная, так и устная речь, есть самая обильная и прочная связь, соединяющая отжившие, живущие и будущие поколения в одно историческое живое целое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Monotype Corsiva"/>
              </a:rPr>
              <a:t>                                            </a:t>
            </a:r>
            <a:r>
              <a:rPr b="0" lang="ru-RU" sz="3200" spc="-1" strike="noStrike">
                <a:solidFill>
                  <a:srgbClr val="0000cc"/>
                </a:solidFill>
                <a:latin typeface="Monotype Corsiva"/>
              </a:rPr>
              <a:t>К.Д. Ушински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plit dir="out" orient="vert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8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8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900000" y="836640"/>
            <a:ext cx="4017960" cy="55436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4500720" y="1197000"/>
            <a:ext cx="4103640" cy="54720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 txBox="1"/>
          <p:nvPr/>
        </p:nvSpPr>
        <p:spPr>
          <a:xfrm>
            <a:off x="1116000" y="189000"/>
            <a:ext cx="63356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исьмо М.А. Малаховой от К. Воропаевой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split dir="out" orient="vert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9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 rot="20110800">
            <a:off x="394920" y="1844280"/>
            <a:ext cx="3772080" cy="22464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3780000" y="1628280"/>
            <a:ext cx="4751280" cy="46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исьма 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</a:rPr>
              <a:t>документальны, достоверн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их содержание протоколирует  определённые обстоятельства, сохраняя их для будущего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ерез текст узнаём о 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</a:rPr>
              <a:t>душевных переживания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</a:rPr>
              <a:t>адресант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исьма призывают к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</a:rPr>
              <a:t> активному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</a:rPr>
              <a:t>соучастию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в событиях на духовно-эмоциональном уровне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"/>
          <p:cNvSpPr/>
          <p:nvPr/>
        </p:nvSpPr>
        <p:spPr>
          <a:xfrm>
            <a:off x="870120" y="138240"/>
            <a:ext cx="7259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Franklin Gothic Medium"/>
              </a:rPr>
              <a:t>Письма с фронта – историко-культурно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Franklin Gothic Medium"/>
              </a:rPr>
              <a:t>              </a:t>
            </a:r>
            <a:r>
              <a:rPr b="0" lang="ru-RU" sz="2800" spc="-1" strike="noStrike">
                <a:solidFill>
                  <a:srgbClr val="0000cc"/>
                </a:solidFill>
                <a:latin typeface="Franklin Gothic Medium"/>
              </a:rPr>
              <a:t>и языковое наследие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plit dir="out" orient="vert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7" dur="2000" fill="hold"/>
                                        <p:tgtEl>
                                          <p:spTgt spid="16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 rot="1061400">
            <a:off x="2771280" y="3213000"/>
            <a:ext cx="2862360" cy="194148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 txBox="1"/>
          <p:nvPr/>
        </p:nvSpPr>
        <p:spPr>
          <a:xfrm>
            <a:off x="5580000" y="5516640"/>
            <a:ext cx="252108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.А. Малахова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/1898-1994/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4360" y="4581360"/>
            <a:ext cx="2592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.Д. Малахов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/1921-1943/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250920" y="333360"/>
            <a:ext cx="3168720" cy="395928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5435640" y="1844640"/>
            <a:ext cx="3168720" cy="32400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4140360" y="476280"/>
            <a:ext cx="4149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cc"/>
                </a:solidFill>
                <a:latin typeface="Monotype Corsiva"/>
              </a:rPr>
              <a:t>«…У нас семья «большая» - ты да я…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plit dir="out" orient="vert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7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8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9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 rot="21388800">
            <a:off x="539640" y="404640"/>
            <a:ext cx="2443320" cy="352440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 rot="289200">
            <a:off x="2700360" y="549360"/>
            <a:ext cx="2374920" cy="36576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900000" y="4508640"/>
            <a:ext cx="7224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Monotype Corsiva"/>
              </a:rPr>
              <a:t>    </a:t>
            </a:r>
            <a:r>
              <a:rPr b="0" lang="ru-RU" sz="2400" spc="-1" strike="noStrike">
                <a:solidFill>
                  <a:srgbClr val="0000cc"/>
                </a:solidFill>
                <a:latin typeface="Monotype Corsiva"/>
              </a:rPr>
              <a:t>« Спасибо, родная моя, за детство, за то тепло, что ты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Monotype Corsiva"/>
              </a:rPr>
              <a:t>мне дала, за материнскую любовь 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Monotype Corsiva"/>
              </a:rPr>
              <a:t> </a:t>
            </a:r>
            <a:r>
              <a:rPr b="0" lang="ru-RU" sz="2400" spc="-1" strike="noStrike">
                <a:solidFill>
                  <a:srgbClr val="0000cc"/>
                </a:solidFill>
                <a:latin typeface="Monotype Corsiva"/>
              </a:rPr>
              <a:t>Я обязан сражаться, чтобы счастливы были другие дети…»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 rot="21477600">
            <a:off x="5206680" y="1911240"/>
            <a:ext cx="2895480" cy="20908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6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7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8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2T08:23:12Z</dcterms:created>
  <dc:creator> </dc:creator>
  <dc:description/>
  <dc:language>en-US</dc:language>
  <cp:lastModifiedBy>Admin</cp:lastModifiedBy>
  <dcterms:modified xsi:type="dcterms:W3CDTF">2012-02-19T19:10:31Z</dcterms:modified>
  <cp:revision>53</cp:revision>
  <dc:subject/>
  <dc:title>«Мне важно всё, что ты пишешь…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