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F60-AC7B-4106-B191-ECFB8BD1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CA3-224C-4EA8-9E12-36A686DA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EE0-7309-4863-B68B-69AF955C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558-991D-4DBF-8718-329C2D55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DAE8-1237-44E3-90EE-B730248B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EE0A-C871-428A-A899-ADD0E3EF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D1C5-5A71-4952-8491-002821C6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81AB-7614-4E69-A992-32BCCB24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10C9-3658-43AA-A2D1-CB2592B5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A8B9-C4B9-43F5-9369-F840D658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8F93-0FFD-432C-9E30-57E23526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0C0-0914-4283-AA69-5F545C12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1E91-860F-4DD9-97BD-5960B665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69CD-4041-4AD8-BB8C-5FEE5C70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982A-A904-4B79-99E1-575D288C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A85C-9D5A-4784-B27A-33A72B1F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6949-3574-41EA-991E-EA90B80A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E03-3C14-4584-9024-3BEBC7CE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A8A-4A3C-481B-BC21-48C73C30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9CF-D345-4426-A2C8-A4FA6057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211-3C94-427D-BF1E-F4D5C430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F02-6A1F-403D-ACDD-21696560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BF6-8D8E-489E-9F9E-4156A132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677-A97F-4D3F-847C-EF70921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11A2-12D5-4EB3-AB3D-02F8BFA2F2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66DA-EA98-46DC-A9F6-52DD6580454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Молоко и молочные продукт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йте дети молоко будете здоровы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30800" y="2755800"/>
            <a:ext cx="2532240" cy="180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20120" cy="2057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олок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763280" y="3500280"/>
            <a:ext cx="55501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остав молока входят белки -3,6%, жиры - 4%, молочный сахар -5%, минеральные вещества – 0,7%, витамины А, В, С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вода - 87%. 1 литр молока дает организму 600 кал., что составляет около 20% суточной нормы калорий для взрослого челове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151920"/>
            <a:ext cx="687204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ОРОВЬЕ МОЛОКО - продукт секреции молочной железы коров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о представляет собой жидкость белого цвета с желтоватым оттенком и приятным специфическим слегка сладковатым вкусом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ссортимент мол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692360" y="1844640"/>
            <a:ext cx="6336360" cy="4462560"/>
            <a:chOff x="1692360" y="1844640"/>
            <a:chExt cx="6336360" cy="4462560"/>
          </a:xfrm>
        </p:grpSpPr>
        <p:cxnSp>
          <p:nvCxnSpPr>
            <p:cNvPr id="160" name="_s114702"/>
            <p:cNvCxnSpPr>
              <a:stCxn id="161" idx="0"/>
              <a:endCxn id="162" idx="2"/>
            </p:cNvCxnSpPr>
            <p:nvPr/>
          </p:nvCxnSpPr>
          <p:spPr>
            <a:xfrm flipV="1" rot="16200000">
              <a:off x="5522760" y="2966040"/>
              <a:ext cx="893160" cy="2218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14701"/>
            <p:cNvCxnSpPr>
              <a:stCxn id="164" idx="0"/>
              <a:endCxn id="162" idx="2"/>
            </p:cNvCxnSpPr>
            <p:nvPr/>
          </p:nvCxnSpPr>
          <p:spPr>
            <a:xfrm flipV="1">
              <a:off x="4860360" y="3628800"/>
              <a:ext cx="252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14700"/>
            <p:cNvCxnSpPr>
              <a:stCxn id="166" idx="0"/>
              <a:endCxn id="162" idx="2"/>
            </p:cNvCxnSpPr>
            <p:nvPr/>
          </p:nvCxnSpPr>
          <p:spPr>
            <a:xfrm flipH="1" flipV="1" rot="5400000">
              <a:off x="3305160" y="2966400"/>
              <a:ext cx="893160" cy="2218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2" name="_s114696"/>
            <p:cNvSpPr/>
            <p:nvPr/>
          </p:nvSpPr>
          <p:spPr>
            <a:xfrm>
              <a:off x="3909960" y="184464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олок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4697"/>
            <p:cNvSpPr/>
            <p:nvPr/>
          </p:nvSpPr>
          <p:spPr>
            <a:xfrm>
              <a:off x="1692360" y="452232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были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4698"/>
            <p:cNvSpPr/>
            <p:nvPr/>
          </p:nvSpPr>
          <p:spPr>
            <a:xfrm>
              <a:off x="3909960" y="452232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зь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4699"/>
            <p:cNvSpPr/>
            <p:nvPr/>
          </p:nvSpPr>
          <p:spPr>
            <a:xfrm>
              <a:off x="6127920" y="452232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вечь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лень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исломолочные продук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исломолочные продукты - это продукты, вырабатываемые сквашиванием молока или сливок чистыми культурами молочнокислых бактерий с добавлением или без добавления дрожжей или уксуснокислых бактерий. Некоторые кисломолочные продукты получают в результате только молочнокислого брожения; при этом образуется достаточно плотный, однородный сгусток с выраженным кисломолочным вкусом. Другие же продукты получают в результате смешенного брожения - молочнокислого и спиртового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870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исломолочные продукты имеют большое значение в питании человека, благодаря диетическим и лечебным свойствам, приятному вкусу и легкой усвояем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68360" y="1700280"/>
            <a:ext cx="7632000" cy="3599280"/>
            <a:chOff x="468360" y="1700280"/>
            <a:chExt cx="7632000" cy="3599280"/>
          </a:xfrm>
        </p:grpSpPr>
        <p:cxnSp>
          <p:nvCxnSpPr>
            <p:cNvPr id="171" name="_s159758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259600" y="2163240"/>
              <a:ext cx="720360" cy="267192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59757"/>
            <p:cNvCxnSpPr>
              <a:stCxn id="175" idx="0"/>
              <a:endCxn id="173" idx="2"/>
            </p:cNvCxnSpPr>
            <p:nvPr/>
          </p:nvCxnSpPr>
          <p:spPr>
            <a:xfrm flipV="1">
              <a:off x="4284360" y="3139200"/>
              <a:ext cx="2880" cy="72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59756"/>
            <p:cNvCxnSpPr>
              <a:stCxn id="177" idx="0"/>
              <a:endCxn id="173" idx="2"/>
            </p:cNvCxnSpPr>
            <p:nvPr/>
          </p:nvCxnSpPr>
          <p:spPr>
            <a:xfrm flipH="1" flipV="1" rot="5400000">
              <a:off x="2588760" y="2163600"/>
              <a:ext cx="720360" cy="267192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159752"/>
            <p:cNvSpPr/>
            <p:nvPr/>
          </p:nvSpPr>
          <p:spPr>
            <a:xfrm>
              <a:off x="3139560" y="170028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и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исломолоч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родук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59753"/>
            <p:cNvSpPr/>
            <p:nvPr/>
          </p:nvSpPr>
          <p:spPr>
            <a:xfrm>
              <a:off x="468360" y="385992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Простокваш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Йогур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Ацидофильные продук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Кефи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кумы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59754"/>
            <p:cNvSpPr/>
            <p:nvPr/>
          </p:nvSpPr>
          <p:spPr>
            <a:xfrm>
              <a:off x="3139560" y="385992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творо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9755"/>
            <p:cNvSpPr/>
            <p:nvPr/>
          </p:nvSpPr>
          <p:spPr>
            <a:xfrm>
              <a:off x="5810760" y="385992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ас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сы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вильное, здоровое, полноценное питание для детей является основным фактором их будущего иммунитета, это один из кирпичиков их здоровья¸ и правильного образа жизн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6:48:57Z</dcterms:created>
  <dc:creator>Наташа</dc:creator>
  <dc:description/>
  <dc:language>en-US</dc:language>
  <cp:lastModifiedBy>Наташа</cp:lastModifiedBy>
  <dcterms:modified xsi:type="dcterms:W3CDTF">2012-01-26T18:10:20Z</dcterms:modified>
  <cp:revision>3</cp:revision>
  <dc:subject/>
  <dc:title>молок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