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E24-DAF3-4290-A3B1-70FE7B8C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391-54E4-423A-9BE8-F4BA4EF6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6D2-20D5-43F3-91D9-8C956000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A6D-8665-4CAD-9EF7-60FFDF42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1B6-5F15-4E2B-B67F-D536341E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E90-0F19-4666-9781-AD35CB0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233-C8B8-40C4-A7C6-DF32A454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884-6219-4A20-AF1C-0383A514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EEE-78A0-471F-BA99-707072A8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100-3F1A-433E-A6E1-98CD0C7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D07-D959-454B-90B9-A92F0F3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1A6-C148-436B-85C2-7610725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541-116F-46A8-A5E7-AA04C2985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Нарушение  прав  человека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(с  использованием  иллюстраций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к  литературным  произведениям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для  дете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C:\Users\Пользователь\Desktop\права  детей.jpg"/>
          <p:cNvPicPr/>
          <p:nvPr/>
        </p:nvPicPr>
        <p:blipFill>
          <a:blip r:embed="rId1"/>
          <a:stretch/>
        </p:blipFill>
        <p:spPr>
          <a:xfrm>
            <a:off x="2916360" y="3213000"/>
            <a:ext cx="280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 угрожал  жизни, здоровью  и  жилищу  трёх  порося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Пользователь\Desktop\три  поросёнка.jpg"/>
          <p:cNvPicPr/>
          <p:nvPr/>
        </p:nvPicPr>
        <p:blipFill>
          <a:blip r:embed="rId1"/>
          <a:stretch/>
        </p:blipFill>
        <p:spPr>
          <a:xfrm>
            <a:off x="716040" y="1455840"/>
            <a:ext cx="74563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 права  колобка  были нарушены  лис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Пользователь\Desktop\Колобок.jpg"/>
          <p:cNvPicPr/>
          <p:nvPr/>
        </p:nvPicPr>
        <p:blipFill>
          <a:blip r:embed="rId1"/>
          <a:stretch/>
        </p:blipFill>
        <p:spPr>
          <a:xfrm>
            <a:off x="1692360" y="1413000"/>
            <a:ext cx="54720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  что  вы  осуждаете  медведя  из  сказки  «Маша  и  медведь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Пользователь\Desktop\Маша  и  медведь.jpg"/>
          <p:cNvPicPr/>
          <p:nvPr/>
        </p:nvPicPr>
        <p:blipFill>
          <a:blip r:embed="rId1"/>
          <a:stretch/>
        </p:blipFill>
        <p:spPr>
          <a:xfrm>
            <a:off x="1908000" y="1549440"/>
            <a:ext cx="4896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915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 чём  заключалось  нарушение  прав  в  отношении  к  Емеле  и  царевне  Несмеян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Пользователь\Desktop\По  щучьему  велению 2.jpg"/>
          <p:cNvPicPr/>
          <p:nvPr/>
        </p:nvPicPr>
        <p:blipFill>
          <a:blip r:embed="rId1"/>
          <a:stretch/>
        </p:blipFill>
        <p:spPr>
          <a:xfrm>
            <a:off x="324000" y="1836720"/>
            <a:ext cx="7993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 права  ребёнка  нарушили  гуси-лебе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Пользователь\Desktop\Гуси- лебеди.jpg"/>
          <p:cNvPicPr/>
          <p:nvPr/>
        </p:nvPicPr>
        <p:blipFill>
          <a:blip r:embed="rId1"/>
          <a:stretch/>
        </p:blipFill>
        <p:spPr>
          <a:xfrm>
            <a:off x="611280" y="1506600"/>
            <a:ext cx="80643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ила  учитель  начальных  классов  МОУ  «СОШ №3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.Верхняя  Пышм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зеева  Т. 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 права  Кая  были  наруше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ежной  королевой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3967200" y="3086280"/>
            <a:ext cx="120816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Пользователь\Desktop\Снежная  королева.jpg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 чём  заключалось  наруше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  Золуш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Пользователь\Desktop\Золушка.jpg"/>
          <p:cNvPicPr/>
          <p:nvPr/>
        </p:nvPicPr>
        <p:blipFill>
          <a:blip r:embed="rId1"/>
          <a:stretch/>
        </p:blipFill>
        <p:spPr>
          <a:xfrm>
            <a:off x="766800" y="1585800"/>
            <a:ext cx="80532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им  правом  не  воспользовался  Буратино, когда  пошёл  вместо школ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на  представление  кукольного  театра?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ат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Пользователь\Desktop\Буратино.jpg"/>
          <p:cNvPicPr/>
          <p:nvPr/>
        </p:nvPicPr>
        <p:blipFill>
          <a:blip r:embed="rId1"/>
          <a:stretch/>
        </p:blipFill>
        <p:spPr>
          <a:xfrm>
            <a:off x="1042920" y="1555920"/>
            <a:ext cx="74487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 права  были  нарушены  в  отношении  царицы  и  маленького  царевича из  «Сказки  о  царе  Салтане»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Пользователь\Desktop\Сказка  о  царе  Салт..jpg"/>
          <p:cNvPicPr/>
          <p:nvPr/>
        </p:nvPicPr>
        <p:blipFill>
          <a:blip r:embed="rId1"/>
          <a:stretch/>
        </p:blipFill>
        <p:spPr>
          <a:xfrm>
            <a:off x="2124000" y="2089080"/>
            <a:ext cx="4751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8218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 стало  причиной  отравления  царевны  из « Сказки  о  мёртвой  царевне  и  семи  богатырях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Пользователь\Desktop\Сказка  о  мёртвой  царевне.jpeg"/>
          <p:cNvPicPr/>
          <p:nvPr/>
        </p:nvPicPr>
        <p:blipFill>
          <a:blip r:embed="rId1"/>
          <a:stretch/>
        </p:blipFill>
        <p:spPr>
          <a:xfrm>
            <a:off x="1979640" y="1654200"/>
            <a:ext cx="41767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 права  жителей  теремка  были  нарушены  и  к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Пользователь\Desktop\теремок.jpg"/>
          <p:cNvPicPr/>
          <p:nvPr/>
        </p:nvPicPr>
        <p:blipFill>
          <a:blip r:embed="rId1"/>
          <a:stretch/>
        </p:blipFill>
        <p:spPr>
          <a:xfrm>
            <a:off x="963720" y="1600200"/>
            <a:ext cx="7353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 вы  считаете  неправильным  в  поведении  Маши  из  сказки  «Три  медведя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Пользователь\Desktop\три  медведя.jpg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 права  зайца  были  нарушены  и  кем  в  сказке «Заюшкина  избушка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Пользователь\Desktop\Лиса и заяц.jpg"/>
          <p:cNvPicPr/>
          <p:nvPr/>
        </p:nvPicPr>
        <p:blipFill>
          <a:blip r:embed="rId1"/>
          <a:stretch/>
        </p:blipFill>
        <p:spPr>
          <a:xfrm>
            <a:off x="885960" y="1679400"/>
            <a:ext cx="7573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2:50:50Z</dcterms:created>
  <dc:creator>Пользователь</dc:creator>
  <dc:description/>
  <dc:language>en-US</dc:language>
  <cp:lastModifiedBy>Пользователь</cp:lastModifiedBy>
  <dcterms:modified xsi:type="dcterms:W3CDTF">2011-12-08T10:51:13Z</dcterms:modified>
  <cp:revision>28</cp:revision>
  <dc:subject/>
  <dc:title>Нарушение  прав  человека (с  использованием  иллюстраций к  литературным  произведениям для  детей)</dc:title>
</cp:coreProperties>
</file>