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4FC-2550-403E-B98A-FBEF3393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A3B-973E-45CF-B7CD-82C629F7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C54-28C9-4B03-BF86-852D0D07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A14-C2FD-4988-A353-5A79E5E9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82E-DEEF-4B3D-B3B9-23B4C2A3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33C-9AE3-480D-AFC5-6303D5A2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959-8D0A-4786-B44F-F9BE176E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676-148F-42A3-8952-55EB98D2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C55-990E-4ECD-B726-3BC124D1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FD4-A341-48B2-B59D-D7F135C8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EB5-E36B-46BE-B28F-438CC7EF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782-6CBA-44EB-9757-E29963B9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4FCD-A3B6-44CD-81DD-B89E2BFC0D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812 – 2012</a:t>
            </a:r>
            <a:br>
              <a:rPr sz="3200"/>
            </a:b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200 лет Отечественной войне 1812 год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7320" y="5071680"/>
            <a:ext cx="6143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«Ничто не устоит против русского оружия –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Мы сильны и уверены в себе»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                                                  А. В. Сувор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14240" y="1768320"/>
            <a:ext cx="28576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 ночь на 24 июня 1812 года «великая армия» Наполеона без объявления войны, вероломно вторглась на территорию Российской империи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о главе Франции был Наполеон Бонапарт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(1769- 182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9680" y="5571720"/>
            <a:ext cx="83581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«Если я возьму Киев, я схвачу Россию за ног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Если я овладею Петербургом, я возьму её за голов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Заняв Москву, я поражу её в сердце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31431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Бородинское сражение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7 сентября (26 августа) 1812 года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утузов Михаил Илларионови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5857920"/>
            <a:ext cx="748656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ступление Наполеона на Росси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642960" y="2114640"/>
            <a:ext cx="2357280" cy="29732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"/>
          <p:cNvPicPr/>
          <p:nvPr/>
        </p:nvPicPr>
        <p:blipFill>
          <a:blip r:embed="rId2"/>
          <a:stretch/>
        </p:blipFill>
        <p:spPr>
          <a:xfrm>
            <a:off x="3714840" y="2071800"/>
            <a:ext cx="45720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Военный совет русского командования в Филях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1 сентября 1812 года на военном совете в деревне Фили, ради спасения русской армии Кутузов принимает решение отставить Москву. Кутузов говорил: 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«Пока цела армия – цела и Россия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143320"/>
            <a:ext cx="74152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7 октября 1812 года французская армия покинула Москву. Кутузов спланировал действия так, что отступать Наполеон был вынужден по Смоленской дороге, т.е. откуда пришё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28760" y="2295360"/>
            <a:ext cx="4000320" cy="2729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"/>
          <p:cNvPicPr/>
          <p:nvPr/>
        </p:nvPicPr>
        <p:blipFill>
          <a:blip r:embed="rId2"/>
          <a:stretch/>
        </p:blipFill>
        <p:spPr>
          <a:xfrm>
            <a:off x="4572000" y="2214720"/>
            <a:ext cx="41194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 память об Отечественной войне 1812 года народ увековечил имена героев. В Москве есть Кутузовский проспект, Большая и Малая Филёвские улицы, улица 1812 года, Багратионовский проезд. Улицы Дениса Давыдова, генерала Ермолова и Дорохова, Суворовский бульвар, Смоленская улица, Бородинские улицы (Первая и Вторая), Площадь Победы, Поклонная и Манежная улицы.</a:t>
            </a:r>
            <a:br>
              <a:rPr sz="1800"/>
            </a:br>
            <a:br>
              <a:rPr sz="1800"/>
            </a:br>
            <a:r>
              <a:rPr b="0" i="1" lang="ru-RU" sz="3200" spc="-1" strike="noStrike">
                <a:solidFill>
                  <a:srgbClr val="00b050"/>
                </a:solidFill>
                <a:latin typeface="Calibri"/>
              </a:rPr>
              <a:t>Памятники:</a:t>
            </a:r>
            <a:br>
              <a:rPr sz="2500"/>
            </a:b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Бородинский мост.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узей-панорама на Кутузовском проспекте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"Бородинская битва"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90520" y="3392640"/>
            <a:ext cx="3995640" cy="270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000760" y="3429000"/>
            <a:ext cx="37922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риумфальная арка на Кутузовском проспекте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Арку высотой 28 м венчает колесница, запряжённая шестёркой лошадей, которой правит крылатая Богиня Поб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Храм Христа Спасителя.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 самом центре Москвы на народные пожертвования был воздвигнут этот огромный и величественный памятник героям 1812 г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3000240"/>
            <a:ext cx="3781080" cy="276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4979880" y="3000240"/>
            <a:ext cx="36626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осковский Манеж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Был построен в честь 5-й годовщины победы над Наполеоном для проведения парадов, смотр войск, строевых занятий и верховой езды.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Сейчас это Выставочный зал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Александровский сад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азван в честь Александра I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Был открыт после Великого пожара 1812 г. </a:t>
            </a:r>
            <a:br>
              <a:rPr sz="2000"/>
            </a:br>
            <a:br>
              <a:rPr sz="2500"/>
            </a:br>
            <a:br>
              <a:rPr sz="25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57120" y="3214800"/>
            <a:ext cx="4151520" cy="2786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4794120" y="3714840"/>
            <a:ext cx="397836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5:37:20Z</dcterms:created>
  <dc:creator>Admin</dc:creator>
  <dc:description/>
  <dc:language>en-US</dc:language>
  <cp:lastModifiedBy>Admin</cp:lastModifiedBy>
  <dcterms:modified xsi:type="dcterms:W3CDTF">2012-02-18T20:08:46Z</dcterms:modified>
  <cp:revision>23</cp:revision>
  <dc:subject/>
  <dc:title> Классный час:  «Отечественная война 1812 года» </dc:title>
</cp:coreProperties>
</file>