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9B5-F90C-4CF9-A5CF-AD36898F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ED8-BB63-42EF-A35C-5EE8BACC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C4C-262A-457B-96DD-90C7DAF4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152-5CBA-4524-BFCE-1DCF5911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0E6-AEA7-4A56-9D31-2140481D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3C00-83D9-4646-A8B7-A1283B3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234-BBE6-4D8A-A9C2-419E77B8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2DE-3D44-461F-8206-A8379BAD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95E7-6BAD-4FF9-8F65-52C5778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4443-8A48-4EAA-AEC7-BB9DB014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8F1E-FBB5-4FA2-9D75-0FFFDFC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19D-0899-45EE-915D-E26C700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FCC8-03A6-4C9F-BE6A-A96EF16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2C2-82A1-4241-A048-3D6DC01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828C-0EEF-401E-B6B8-5DBA293C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F0C-6CEE-4F45-8754-CFE9A2F8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B4A5-3E02-451D-8FBA-764D3A74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59B-4327-4C16-8D74-ACE342B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CDB-53C8-4D99-B158-C28B82B2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1D1-09B6-4363-9176-8EDE3DE4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F6E-A464-461A-8C00-8FF48D2A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0E7-C5E1-4A54-A691-3458AEF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EA9-4DF1-424F-8293-A80078D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5FD-EBA1-4B8C-B821-8BDA87B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D705-BCC8-4D2C-A00F-43F136BD9B3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C1A0-E78B-4E37-806B-000C925FA7E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371600" y="380880"/>
            <a:ext cx="6324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Урок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274320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математи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274320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математи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048120" y="2394000"/>
          <a:ext cx="1904760" cy="20700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181480" y="313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= 16 см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3240" y="1239120"/>
            <a:ext cx="73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Работа над новым материалом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775440"/>
            <a:ext cx="33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Задание №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 72 – 40) : 4 =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1840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56 – 40) : 4 = 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358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48 – 40) : 4 =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3139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 64 – 40) : 4 =6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000" y="2164320"/>
            <a:ext cx="875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– стр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дача №6 – стр.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тр.53 – задача на смекалку.  (Желающи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00400" y="83736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Обобще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33920" y="1600200"/>
          <a:ext cx="2971800" cy="259092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614760" y="4463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= 9 см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38240" y="1676880"/>
            <a:ext cx="9422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Минутка чтения.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Продолжайте читать художественную кни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Ждет нас сегодня работа важн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 мы знаем – будем повторя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 забыли – будем вспоми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математике люб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е обходится без устного сч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013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Устный счет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 мы знаем – будем повторя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 забыли – будем вспоми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математике люб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е обходится без устного сч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1041120"/>
            <a:ext cx="792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Устный с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Вычислите и назовите ответ: 24 : 4 * 2 : 4 * 6 : 9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Задача: Из 21 кг свежей малины получается 3 кг сухой. Сколько взяли свежей малины, если получили 5 кг сухой? (21:3·5=35 к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28 уменьшите в 4 раза. (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9 увеличьте в 3 раза (2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60 уменьшите на 2 (5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•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«Цепочка».  72→:8→∙4→+6→:7→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аждое из чисел 72, 56, 48, 64 уменьши на 40, а                     результат уменьши в 4 р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2, 16, 8,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, 4,   2, 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42120" y="2407320"/>
            <a:ext cx="725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Чтобы площадь измеря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Очень важно мерки з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Мерки непростые, плоские та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(Показать 1 см2 , 1 дм2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9760" y="2021760"/>
            <a:ext cx="666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Тема урок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«Площадь фиг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Квадратный сантиметр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93888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Цел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ознакомить с единицей измерения площади – квадратный сантиме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Учить находить площадь фигуры, использую новую едини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Закреплять умение решать составные за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овершенствовать вычислительные навы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865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495680" y="1981080"/>
          <a:ext cx="609840" cy="6854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5555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i="1" lang="ru-RU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555555"/>
                          </a:solidFill>
                          <a:latin typeface="Times New Roman"/>
                          <a:ea typeface="Times New Roman"/>
                        </a:rPr>
                        <a:t> 1 см</a:t>
                      </a:r>
                      <a:r>
                        <a:rPr b="0" lang="en-US" sz="1200" spc="-1" strike="noStrike">
                          <a:solidFill>
                            <a:srgbClr val="555555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371600" y="2885400"/>
            <a:ext cx="6324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Квадрат, сторона котор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 см, -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единица площад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т.е. квадратный сантиметр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74720" y="2802600"/>
            <a:ext cx="51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1200" spc="-1" strike="noStrike">
                <a:solidFill>
                  <a:srgbClr val="555555"/>
                </a:solidFill>
                <a:latin typeface="Arial"/>
                <a:ea typeface="Times New Roman"/>
              </a:rPr>
              <a:t>В                       7 </a:t>
            </a:r>
            <a:r>
              <a:rPr b="0" i="1" lang="en-US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м</a:t>
            </a:r>
            <a:r>
              <a:rPr b="0" i="1" lang="en-US" sz="1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                                                                       </a:t>
            </a:r>
            <a:r>
              <a:rPr b="1" lang="en-US" sz="1200" spc="-1" strike="noStrike">
                <a:solidFill>
                  <a:srgbClr val="555555"/>
                </a:solidFill>
                <a:latin typeface="Arial"/>
                <a:ea typeface="Times New Roman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352680" y="3201840"/>
          <a:ext cx="3581280" cy="517680"/>
        </p:xfrm>
        <a:graphic>
          <a:graphicData uri="http://schemas.openxmlformats.org/drawingml/2006/table">
            <a:tbl>
              <a:tblPr/>
              <a:tblGrid>
                <a:gridCol w="511200"/>
                <a:gridCol w="512280"/>
                <a:gridCol w="511200"/>
                <a:gridCol w="511560"/>
                <a:gridCol w="511560"/>
                <a:gridCol w="511920"/>
                <a:gridCol w="51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416600" y="2870640"/>
            <a:ext cx="58014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</a:rPr>
              <a:t>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Times New Roman"/>
              </a:rPr>
              <a:t>А                                                                         </a:t>
            </a:r>
            <a:r>
              <a:rPr b="0" lang="en-US" sz="1200" spc="-1" strike="noStrike">
                <a:solidFill>
                  <a:srgbClr val="555555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Times New Roman"/>
              </a:rPr>
              <a:t> 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Times New Roman"/>
              </a:rPr>
              <a:t>В прямоугольнике  АВСД  поместило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6321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Times New Roman"/>
              </a:rPr>
              <a:t>7 квадратных сантиметров. Его площадь 7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м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1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9640" y="1610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акти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6:06:24Z</dcterms:created>
  <dc:creator>admin</dc:creator>
  <dc:description/>
  <dc:language>en-US</dc:language>
  <cp:lastModifiedBy>admin</cp:lastModifiedBy>
  <dcterms:modified xsi:type="dcterms:W3CDTF">2011-04-27T13:33:4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