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4.jpeg" ContentType="image/jpe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A46-CD9E-49C1-A006-B67CCDC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877-78F9-413D-AA7C-DBF8F0A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D85-E7DE-402E-A8E8-30828441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B13-7FF2-4BFA-98C2-6ED96988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273-75D6-41E1-A571-477F57F5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001-AA10-4F70-9223-3B14192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F0C-2272-49A4-8DCA-98D8E55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226-AFEB-4708-B640-CDD01E2D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724-0169-40BE-A800-37791D7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A7A-F5EA-42F8-ACAC-9A2B732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F60-F135-455E-9DEA-6091259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385-4FE0-4F8E-A15A-13B0B91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2F1A-1030-4AB0-B75C-DF1C88386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877600" cy="2369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20010c66dbff6bccbb0b0301cb7628c0"/>
          <p:cNvPicPr/>
          <p:nvPr/>
        </p:nvPicPr>
        <p:blipFill>
          <a:blip r:embed="rId2"/>
          <a:stretch/>
        </p:blipFill>
        <p:spPr>
          <a:xfrm>
            <a:off x="1066680" y="4876920"/>
            <a:ext cx="1447920" cy="87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.buzuluk.bz/firm_image/smi/agenstva/121/upload/poj-bez30.jpg"/>
          <p:cNvPicPr/>
          <p:nvPr/>
        </p:nvPicPr>
        <p:blipFill>
          <a:blip r:embed="rId3"/>
          <a:stretch/>
        </p:blipFill>
        <p:spPr>
          <a:xfrm>
            <a:off x="1214280" y="3214800"/>
            <a:ext cx="4000680" cy="282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activerain.com/image_store/uploads/5/0/9/1/9/ar121000721691905.JPG"/>
          <p:cNvPicPr/>
          <p:nvPr/>
        </p:nvPicPr>
        <p:blipFill>
          <a:blip r:embed="rId4"/>
          <a:stretch/>
        </p:blipFill>
        <p:spPr>
          <a:xfrm>
            <a:off x="6072120" y="2968560"/>
            <a:ext cx="2643120" cy="372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1.ftcdn.net/jpg/00/11/08/94/110_F_11089429_wlOcRNR2G9CsBx7Q99BINYRJp2HIl2AX.jpg"/>
          <p:cNvPicPr/>
          <p:nvPr/>
        </p:nvPicPr>
        <p:blipFill>
          <a:blip r:embed="rId5"/>
          <a:stretch/>
        </p:blipFill>
        <p:spPr>
          <a:xfrm>
            <a:off x="357120" y="1357200"/>
            <a:ext cx="104796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7785000" cy="101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6760" y="999720"/>
            <a:ext cx="82155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. Неисправность электрических прибо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2. Забывчив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3. Иск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4. Легковоспламеняющиеся предме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5. Спич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6. Керосин, бензин, газ – самые главные винов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жара – лю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weblancer.net/files/portfolio/2141/214114/586926.jpg"/>
          <p:cNvPicPr/>
          <p:nvPr/>
        </p:nvPicPr>
        <p:blipFill>
          <a:blip r:embed="rId2"/>
          <a:stretch/>
        </p:blipFill>
        <p:spPr>
          <a:xfrm>
            <a:off x="4214880" y="3252960"/>
            <a:ext cx="3643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mm4.com/wp-content/uploads/2011/06/stixi-dlya-detej-pravila-pozharnoj-bezopasnosti-3.jpg"/>
          <p:cNvPicPr/>
          <p:nvPr/>
        </p:nvPicPr>
        <p:blipFill>
          <a:blip r:embed="rId1"/>
          <a:stretch/>
        </p:blipFill>
        <p:spPr>
          <a:xfrm>
            <a:off x="2143080" y="3000240"/>
            <a:ext cx="4643640" cy="324828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umm4.com/wp-content/uploads/2011/06/stixi-dlya-detej-pravila-pozharnoj-bezopasnosti-1.jpg"/>
          <p:cNvPicPr/>
          <p:nvPr/>
        </p:nvPicPr>
        <p:blipFill>
          <a:blip r:embed="rId2"/>
          <a:stretch/>
        </p:blipFill>
        <p:spPr>
          <a:xfrm>
            <a:off x="1928880" y="2378160"/>
            <a:ext cx="47149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02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pogaram.net/upload/iblock/49e/14_preview.jpg"/>
          <p:cNvPicPr/>
          <p:nvPr/>
        </p:nvPicPr>
        <p:blipFill>
          <a:blip r:embed="rId2"/>
          <a:stretch/>
        </p:blipFill>
        <p:spPr>
          <a:xfrm>
            <a:off x="642960" y="2513160"/>
            <a:ext cx="2928960" cy="407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u.jimdo.com/www9/o/se886a14c159e5eda/img/i4b944fddcb9c9348/1278681856/std/image.jpg"/>
          <p:cNvPicPr/>
          <p:nvPr/>
        </p:nvPicPr>
        <p:blipFill>
          <a:blip r:embed="rId3"/>
          <a:stretch/>
        </p:blipFill>
        <p:spPr>
          <a:xfrm>
            <a:off x="4857840" y="2496960"/>
            <a:ext cx="285732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valdosta.edu/~lcarroll/firefighter-girl.gif"/>
          <p:cNvPicPr/>
          <p:nvPr/>
        </p:nvPicPr>
        <p:blipFill>
          <a:blip r:embed="rId2"/>
          <a:stretch/>
        </p:blipFill>
        <p:spPr>
          <a:xfrm>
            <a:off x="428760" y="3022560"/>
            <a:ext cx="3571920" cy="329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edu.cap.ru/home/3854/foto/pb1.jpg"/>
          <p:cNvPicPr/>
          <p:nvPr/>
        </p:nvPicPr>
        <p:blipFill>
          <a:blip r:embed="rId3"/>
          <a:stretch/>
        </p:blipFill>
        <p:spPr>
          <a:xfrm>
            <a:off x="5143680" y="2273400"/>
            <a:ext cx="300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9:48:52Z</dcterms:created>
  <dc:creator>Admin</dc:creator>
  <dc:description/>
  <dc:language>en-US</dc:language>
  <cp:lastModifiedBy>Admin</cp:lastModifiedBy>
  <dcterms:modified xsi:type="dcterms:W3CDTF">2012-02-19T12:34:35Z</dcterms:modified>
  <cp:revision>55</cp:revision>
  <dc:subject/>
  <dc:title>Слайд 1</dc:title>
</cp:coreProperties>
</file>