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B66-3C85-4319-A415-2780219E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FDF-F383-453E-AA73-711C1B1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5A0-83F7-410B-9E84-18BA07D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9C4-9A7D-463C-8A4B-66C61C33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A33-C0A8-456F-B12A-605D0E9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AEB-9E70-4E14-9622-CA7B149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C91-C5A1-47D8-8450-1B8BD7E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6DB-1869-4811-9053-5554FB4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641-5CB3-417F-8D0E-9C88B76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824-07C9-49DF-8962-9EE8D5D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83C-C6FA-42E8-8745-EDA3CC2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316-7DA7-4587-9B04-5B7895D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8EAC-99E3-4356-AE77-428284A57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404640"/>
            <a:ext cx="6048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ГЛЕР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5229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това Елена Анатольевна – учитель химии МБОУ Изых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лотро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454040"/>
            <a:ext cx="79930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14920" y="0"/>
            <a:ext cx="5329080" cy="2732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75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4211640" cy="208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5076720" cy="20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0" y="4519440"/>
            <a:ext cx="9144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2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532400"/>
            <a:ext cx="9144000" cy="232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29000" y="15825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нное 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3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209920" cy="2705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32000" y="4292640"/>
            <a:ext cx="781200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5445000"/>
            <a:ext cx="68770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23760"/>
            <a:ext cx="5977080" cy="480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830840"/>
            <a:ext cx="91440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ишите 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00480" y="1341360"/>
            <a:ext cx="390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лерод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8064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187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АЛЛОТРОПНЫЕ МОДИФИКАЦИИ УГЛЕ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МАЗ – САМОЕ ТВЕРД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260360" y="0"/>
            <a:ext cx="7848360" cy="586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4975200"/>
            <a:ext cx="8280360" cy="1882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1280" y="27000"/>
            <a:ext cx="6732720" cy="5048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743360"/>
            <a:ext cx="9144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лле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64772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54:05Z</dcterms:created>
  <dc:creator>*</dc:creator>
  <dc:description/>
  <dc:language>en-US</dc:language>
  <cp:lastModifiedBy>UserXP</cp:lastModifiedBy>
  <dcterms:modified xsi:type="dcterms:W3CDTF">2012-02-19T10:07:12Z</dcterms:modified>
  <cp:revision>6</cp:revision>
  <dc:subject/>
  <dc:title>Слайд 1</dc:title>
</cp:coreProperties>
</file>