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C996-ECC7-41B7-ABBE-D0E7CB88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D7DA-46DF-4B15-86D6-36F5C774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A4A5-D9D7-4CA3-B83C-59BB51D6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CE0C-48B5-4D27-B63B-7EFC5182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97DB-D79D-40B3-8091-76DB7B2C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A133-13A2-491F-B8D7-7F1D91D6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D5CD-F777-44BF-ABA4-48A39800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7A9F-F1AF-4A24-AE88-B052A7E8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34ED-7C33-42D2-B260-299D3C8A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9EDC-FFBF-49C6-981F-05BA5465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CE6A-98A4-4A33-BB4C-78765AE7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E942-549F-4D58-9D0B-E617A1BE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DF22-DE9D-4E2E-BE67-47219F8A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77FD-3CD0-4C7E-9B63-1F399051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FDED-11AA-428D-A713-BCDF7AED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1162-B374-423E-B12C-FA8D9C0F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6954-1D4D-4DC5-B804-57BCF9B1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A1A8-E5F6-42A6-8DF5-8D32B234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08F6-B30B-4645-B111-C503A3F0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7901-C99B-4FBE-9BFD-2B72D8A4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E220-5A4E-46CF-BF39-1C664184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81D72-578E-4445-A8FD-041581C4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8978-FE71-43CD-85F7-CDF27779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1EF2-F52E-4B4F-9EAD-C6681075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FA2-7235-4E18-AA57-684BF5ED0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CA9D-6339-46A7-8854-29E5A51C57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5660640"/>
            <a:ext cx="6019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104815"/>
                </a:solidFill>
                <a:latin typeface="Arial"/>
              </a:rPr>
              <a:t>Овощи с грядк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076720" y="0"/>
            <a:ext cx="47167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Кулинарный праздн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3. “Правила приготовления салатов”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арке в кастрюле должно быть много овощей, а на дне только чуть–чуть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ет очень хорошо, если овощи будут разварены и их будет легко нарез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56000" y="1980720"/>
            <a:ext cx="433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При варке овощей, они должны быть полностью покрыты жидкостью, а кастрюля – плотно закр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Варённые  овощи, входящие в состав салатов и винегретов должны быть мягкими, но не разварен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вы режете салат, вы должны использовать только сразу сваренные овощи, пока они ещё горячие, а то охлаждённые овощи испортят сал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815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Заправлять и оформлять салаты лучше тоже за месяц. Вкус и внешний вид их только улучш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Продукты  должны быть охлаждены. При нарезании тёплые овощи теряют форму, а соединение их с охлажденными вызывает быструю порчу са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Салат из свежих овощей готовят непосредственно перед пода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3. “Правила приготовления салатов”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мешивать овощи в салатах надо быстро, тщательно придавливая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хранения не заправленных салатов 12 месяцев, а заправленных 6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7640" y="1980720"/>
            <a:ext cx="44654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Овощи, из которых приготавливают салаты, аккуратно перемешивают, чтобы они не мя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Срок хранения не заправленных – 12 часов, заправленных – 6 ча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3. “Правила приготовления салатов”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4. Реши ребу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772" t="776" r="51287" b="55354"/>
          <a:stretch/>
        </p:blipFill>
        <p:spPr>
          <a:xfrm>
            <a:off x="250920" y="1415880"/>
            <a:ext cx="84978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4. Реши ребу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1285" t="48367" r="50743" b="9029"/>
          <a:stretch/>
        </p:blipFill>
        <p:spPr>
          <a:xfrm>
            <a:off x="468360" y="1235160"/>
            <a:ext cx="8353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4. Реши ребу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51287" t="2041" r="714" b="53474"/>
          <a:stretch/>
        </p:blipFill>
        <p:spPr>
          <a:xfrm>
            <a:off x="468360" y="1125360"/>
            <a:ext cx="835164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4. Реши ребу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51861" t="51882" r="171" b="7354"/>
          <a:stretch/>
        </p:blipFill>
        <p:spPr>
          <a:xfrm>
            <a:off x="395280" y="1231920"/>
            <a:ext cx="84978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5. «Что за овощ?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41036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овощ называл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чёртовым яблоком?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11280" y="1341000"/>
            <a:ext cx="4932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ереводе с немецкого языка “картофель”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ft” и “Teufel” означает “чёртова сила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рной славе картофеля способствовала и встречавшаяся иногда причудливая форма его клуб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ограмотное население считало, что дело не обошлось без вмешательства дьяв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33940" t="11345" r="34875" b="51326"/>
          <a:stretch/>
        </p:blipFill>
        <p:spPr>
          <a:xfrm>
            <a:off x="0" y="3068640"/>
            <a:ext cx="4033800" cy="3422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708360" y="1125360"/>
            <a:ext cx="54356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тофель используется в производстве макарон, мороженного, искусственного мёда, пирожных, конфет и варен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необходим как сырьё для горючего, взрывчатых веществ и обувного кр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картофеля делается крахмал, картофельная мука, глюкоз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тофель полезен при гипертонической болезни полезен сок картоф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ком свежего картофеля лечат экземы, ожоги, язвы, мозоли и уг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5. «Что за овощ?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ете ли вы, какой овощ называю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огородной барыней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11280" y="1341360"/>
            <a:ext cx="4475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легендам царь, обиженный богом Дионисом, плакал крупными слезами, которые, падая на землю, превращались в коч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люди, стоящие рядом с изумлением кричали: капут, капут, капут! Что означал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л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сюда и произошло название капу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67960" b="51326"/>
          <a:stretch/>
        </p:blipFill>
        <p:spPr>
          <a:xfrm>
            <a:off x="539640" y="3284640"/>
            <a:ext cx="3319560" cy="3573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67280" y="1268280"/>
            <a:ext cx="507672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давних времён люди считали, что капуста не позволяет оставаться в организме ничему вредн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до этого у тебя внутри была какая-нибудь болезнь, то капуста всё вылечит, выгонит боль из головы и гл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к капусты укрепляет дёсны. Помогает от выпадения волос и против перхо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концу зимы витаминов в пище становится меньше, людей начинает посещать усталость, недомог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т тут-то и выручает капуста. Придавая человеку бодрости, усиливая работоспособ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7640" y="1196640"/>
            <a:ext cx="3887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й овощ  называ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“любовными яблоками”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золотыми яблоками”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356000" y="1267920"/>
            <a:ext cx="4788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ина помидоров – Южная Амер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языке индейцев звучи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томатель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сюда и слов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томат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йчас кажется невероятным, что даже на своей родине ещё до XIX века помидоры считались смертельно ядовитыми. Их выращивали, как декоративные растения в горшках или для украшения бесед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части помидора, кроме плодов действительно ядовиты. Отвары и настои из листьев используют в настоящее время для борьбы с вре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5. «Что за овощ?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4032000" cy="2658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427640" y="1125360"/>
            <a:ext cx="4537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лодах помидора содержатся витамины Е, каротин, органические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идоры полезны людям с нарушением обмена веществ, при сердечных заболеваниях, расстройствах желудка. В них содержатся вещества убивающие микробов, особенно много в них с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идоры используют при лечение варикозного расширения вен на но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1. Представление команд</a:t>
            </a: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Эмблемы коман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Девизы коман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этот овощ означае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“чесать, отделять друг от друга”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это за овощ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267920"/>
            <a:ext cx="4316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Испании в сентябре каждого года проводится чесночный фестив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анцы утверждают, что чеснок можно и нужно применять во всех кушаньях кроме пасхального кулича и мороже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честь чеснока складывают 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ордсмен по своим размерам превышал кулак мужчины и весил 1 к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снок богат органическими веществами, минеральными солями, железа в нём столько, сколько и в ябло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5. «Что за овощ?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4066920" cy="3035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427640" y="1125360"/>
            <a:ext cx="4537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родной медицине чеснок используют для улучшения пищеварения, для расширения сосудов, при ревматизме. Имеются лечебные препараты на основе чесн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снок является оригинальным народным средством от зубной б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в муке не заводились жучки, в банку или мешок нужно положить несколько зубчиков чесн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ая хозяйка знает, что ни одна заготовка на зиму не обходится без чесн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6. «Интересная задачк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исовать овощ, рассказать о его названии, вкусовых качествах, полезных свойст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79640" y="3019320"/>
            <a:ext cx="57610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7.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“Приготовление винегрета”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433520"/>
            <a:ext cx="74883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Подведение итог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1348" b="0"/>
          <a:stretch/>
        </p:blipFill>
        <p:spPr>
          <a:xfrm>
            <a:off x="1187280" y="1700280"/>
            <a:ext cx="66945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18379" t="6179" r="22240" b="6602"/>
          <a:stretch/>
        </p:blipFill>
        <p:spPr>
          <a:xfrm>
            <a:off x="2205000" y="907920"/>
            <a:ext cx="5127840" cy="5950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684360" y="549360"/>
            <a:ext cx="7848360" cy="604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Arial"/>
              </a:rPr>
              <a:t>Спасибо за игру!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2. Загадки из гря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тя я сахарной зову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от дождя я не размок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пна, кругла, сладка на вку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нали вы? Я -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гла да гла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усишь – сла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села креп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грядке - 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4363920"/>
            <a:ext cx="3600360" cy="2406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33940" t="51326" r="34875" b="0"/>
          <a:stretch/>
        </p:blipFill>
        <p:spPr>
          <a:xfrm>
            <a:off x="4932360" y="3284640"/>
            <a:ext cx="32306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2. Загадки из гря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олотистый и полезный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таминный, хотя резкий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ький вкус имеет он…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жигает… Не лимо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56000" y="1196640"/>
            <a:ext cx="431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 грядке под листок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атился чурбачок 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ленец удаленький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усный овощ мален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67960" t="0" r="0" b="51326"/>
          <a:stretch/>
        </p:blipFill>
        <p:spPr>
          <a:xfrm>
            <a:off x="1763640" y="4229280"/>
            <a:ext cx="2441520" cy="2628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3587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2. Загадки из гря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ородная краля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ылась в подвале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рко-жёлтая на цвет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коса-то, как бук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00720" y="1267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лёная толстух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ла уйму юбок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как балери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листьев пелерин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67005" t="52680" r="0" b="0"/>
          <a:stretch/>
        </p:blipFill>
        <p:spPr>
          <a:xfrm>
            <a:off x="755640" y="3860640"/>
            <a:ext cx="2692440" cy="2737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0" r="67960" b="51326"/>
          <a:stretch/>
        </p:blipFill>
        <p:spPr>
          <a:xfrm>
            <a:off x="5003640" y="3141720"/>
            <a:ext cx="33195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2. Загадки из гря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городе - жёлтый мяч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лько не бежит он вскачь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как полная лун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усные в нём се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55640" y="112500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это за рысачок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алился на бочок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 упитанный, салатный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, детки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4767" t="58479" r="67960" b="0"/>
          <a:stretch/>
        </p:blipFill>
        <p:spPr>
          <a:xfrm>
            <a:off x="1763640" y="3789360"/>
            <a:ext cx="2843280" cy="3068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0" t="9987" r="0" b="0"/>
          <a:stretch/>
        </p:blipFill>
        <p:spPr>
          <a:xfrm>
            <a:off x="4284720" y="3859200"/>
            <a:ext cx="46450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2. Загадки из гря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ть чернил он не вида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олетовым вдруг ста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ят овощ Ваня, Жан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ведь это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что за чудес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траве лежит звезд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, это дивный со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т, ведь эт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3456000" cy="2226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64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3. “Правила приготовления салатов”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предлагаем неверные правила приготовления салатов, а вы должны дать верный отв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3. “Правила приготовления салатов”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всего салат приготовить заранее, например: за неделю, или даже лучше за меся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ов в овощах сохранится при варке больше, если их вы положите в холодную несолёную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4244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Салаты  готовятся перед употребл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Овощи при варке закладывают в кипящую подсоленную вод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0:04:57Z</dcterms:created>
  <dc:creator>Admin</dc:creator>
  <dc:description/>
  <dc:language>en-US</dc:language>
  <cp:lastModifiedBy>Admin</cp:lastModifiedBy>
  <dcterms:modified xsi:type="dcterms:W3CDTF">2012-02-19T14:49:50Z</dcterms:modified>
  <cp:revision>6</cp:revision>
  <dc:subject/>
  <dc:title>Слайд 1</dc:title>
</cp:coreProperties>
</file>