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125-033B-445B-A322-485DA172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B50-7E1F-483F-8654-4434ED9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6D8-FED3-4A28-903E-000A5309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135-926E-49F5-97A9-A81F8426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3042-ECBF-484F-A0D4-921570FF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8E5-5D4B-4B98-9FCF-71055375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CD6F-D662-44B1-8122-32DD514F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307C-7EFA-430B-AA1C-8BA5EE1D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3855-C8F1-43AA-8455-C7FB8410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C28-8B81-406F-A9BA-F77DC6BA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12BB-0805-4C97-8518-9BAE2DB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3FA-FAE1-4A4A-8324-6E71D41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5032-0EEC-42E0-8ACC-834D0A5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8AC6-0D29-4911-AE7C-652FCB7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6930-A968-4766-AFE5-889D4E6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A226-2E9C-40EF-8FB1-B56562CB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4DA-A2E5-468A-A033-8BD54197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77D-27EE-44A1-8374-BD6F1112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06C-9AAD-42CF-940A-57E3B06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D29-41FC-4335-8D58-B510F6D9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7F6-30E5-4AA5-9E0C-76CD60F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9BF-82C3-48D1-A752-5943A2B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59E-0A9E-4DA4-B4D5-6223DE25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65E-C22F-465E-9D9E-25E3366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D170-1904-4EC0-B097-7D7B6D99D4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2CA7-FD8C-470A-A9E9-7F7E09C1D71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29.jpeg"/><Relationship Id="rId5" Type="http://schemas.openxmlformats.org/officeDocument/2006/relationships/image" Target="../media/image10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384200" y="1117440"/>
            <a:ext cx="6716880" cy="4483080"/>
          </a:xfrm>
          <a:prstGeom prst="rect">
            <a:avLst/>
          </a:prstGeom>
          <a:solidFill>
            <a:srgbClr val="6b6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as Dorf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oder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ie  Stadt?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571680" y="2858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hreibt die Tiere und V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l,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e mit folgenden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chstaben beginne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14240" y="10717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bd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db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dbd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db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dbd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db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dbd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db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971640" y="3357720"/>
            <a:ext cx="695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lden die Vörter aus diese Buchstabe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die)Gezie, (die) Teen, (die) Tzeka), (das)Nhuh,(der)Lepe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116000" y="56610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лючи: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Ziege, Ente, Katze, Huhn, Welp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1785960" y="6143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ie landwirtschaftliche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beit”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4" descr="трактор пашет 1"/>
          <p:cNvPicPr/>
          <p:nvPr/>
        </p:nvPicPr>
        <p:blipFill>
          <a:blip r:embed="rId1"/>
          <a:stretch/>
        </p:blipFill>
        <p:spPr>
          <a:xfrm>
            <a:off x="324000" y="239760"/>
            <a:ext cx="85690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4" descr="с-х маш 7"/>
          <p:cNvPicPr/>
          <p:nvPr/>
        </p:nvPicPr>
        <p:blipFill>
          <a:blip r:embed="rId1"/>
          <a:stretch/>
        </p:blipFill>
        <p:spPr>
          <a:xfrm>
            <a:off x="179280" y="523800"/>
            <a:ext cx="87854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с-х маш"/>
          <p:cNvPicPr/>
          <p:nvPr/>
        </p:nvPicPr>
        <p:blipFill>
          <a:blip r:embed="rId1"/>
          <a:stretch/>
        </p:blipFill>
        <p:spPr>
          <a:xfrm>
            <a:off x="179280" y="533520"/>
            <a:ext cx="8785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324360" y="1557360"/>
            <a:ext cx="858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ie Volkskunst.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In unserem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gibt es einige weltberühmte Dörf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Das si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Chochloma,Gshe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Palech,Shostowo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Fedoskino,Gorodez,D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y</a:t>
            </a:r>
            <a:r>
              <a:rPr b="0" lang="de-DE" sz="3200" spc="-1" strike="noStrike">
                <a:solidFill>
                  <a:srgbClr val="800000"/>
                </a:solidFill>
                <a:latin typeface="Arial"/>
              </a:rPr>
              <a:t>mkow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4" descr="жостово"/>
          <p:cNvPicPr/>
          <p:nvPr/>
        </p:nvPicPr>
        <p:blipFill>
          <a:blip r:embed="rId1"/>
          <a:stretch/>
        </p:blipFill>
        <p:spPr>
          <a:xfrm>
            <a:off x="4140360" y="189000"/>
            <a:ext cx="2476440" cy="193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2189"/>
          <p:cNvPicPr/>
          <p:nvPr/>
        </p:nvPicPr>
        <p:blipFill>
          <a:blip r:embed="rId2"/>
          <a:stretch/>
        </p:blipFill>
        <p:spPr>
          <a:xfrm>
            <a:off x="4572000" y="1197000"/>
            <a:ext cx="2881440" cy="1909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Paleh_35"/>
          <p:cNvPicPr/>
          <p:nvPr/>
        </p:nvPicPr>
        <p:blipFill>
          <a:blip r:embed="rId3"/>
          <a:stretch/>
        </p:blipFill>
        <p:spPr>
          <a:xfrm>
            <a:off x="5435640" y="1844640"/>
            <a:ext cx="1852560" cy="273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gshel1672003"/>
          <p:cNvPicPr/>
          <p:nvPr/>
        </p:nvPicPr>
        <p:blipFill>
          <a:blip r:embed="rId4"/>
          <a:stretch/>
        </p:blipFill>
        <p:spPr>
          <a:xfrm>
            <a:off x="6012000" y="2852640"/>
            <a:ext cx="2017440" cy="2017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палех"/>
          <p:cNvPicPr/>
          <p:nvPr/>
        </p:nvPicPr>
        <p:blipFill>
          <a:blip r:embed="rId5"/>
          <a:stretch/>
        </p:blipFill>
        <p:spPr>
          <a:xfrm>
            <a:off x="6659640" y="3645000"/>
            <a:ext cx="1695240" cy="2089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дымковская &lt;b&gt;игрушка&lt;/b&gt;"/>
          <p:cNvPicPr/>
          <p:nvPr/>
        </p:nvPicPr>
        <p:blipFill>
          <a:blip r:embed="rId6"/>
          <a:stretch/>
        </p:blipFill>
        <p:spPr>
          <a:xfrm>
            <a:off x="7396200" y="4724280"/>
            <a:ext cx="1747800" cy="171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antwortet  folgende Fragen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  liegt das  Dorf  Chochloma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e  sind die Farben  der Chochloma – Malere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as schnitzte  man aus Holz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Das Geschirr aus Hol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3" descr="2A2064AA"/>
          <p:cNvPicPr/>
          <p:nvPr/>
        </p:nvPicPr>
        <p:blipFill>
          <a:blip r:embed="rId1"/>
          <a:stretch/>
        </p:blipFill>
        <p:spPr>
          <a:xfrm>
            <a:off x="658800" y="1598760"/>
            <a:ext cx="7819920" cy="4497120"/>
          </a:xfrm>
          <a:prstGeom prst="rect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</p:pic>
    </p:spTree>
  </p:cSld>
  <p:transition spd="med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Beantwortet die Fragen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  liegt  das Dorf  Gshel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as  macht  man  in  diesem  Dorf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e  sind  die  Farben  der  Gshel - Malerei?  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39640" y="476280"/>
            <a:ext cx="812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Vieh und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Gefl</a:t>
            </a:r>
            <a:r>
              <a:rPr b="0" lang="en-US" sz="9600" spc="-1" strike="noStrike">
                <a:solidFill>
                  <a:srgbClr val="eaeaea"/>
                </a:solidFill>
                <a:latin typeface="Arial"/>
                <a:ea typeface="Arial"/>
              </a:rPr>
              <a:t>ügel.”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556000" y="189000"/>
            <a:ext cx="4390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she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8569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Gshel liegt nicht weit von Moskau. Die Kunst wurde in Gshel im Jahre 1939 gegründe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ie Volkskünstler machen Keramik-Geschirr hi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ie gebrauchen blaue und weiße Farbe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5" descr="4251"/>
          <p:cNvPicPr/>
          <p:nvPr/>
        </p:nvPicPr>
        <p:blipFill>
          <a:blip r:embed="rId1"/>
          <a:stretch/>
        </p:blipFill>
        <p:spPr>
          <a:xfrm>
            <a:off x="395280" y="1413000"/>
            <a:ext cx="4321080" cy="291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8191"/>
          <p:cNvPicPr/>
          <p:nvPr/>
        </p:nvPicPr>
        <p:blipFill>
          <a:blip r:embed="rId2"/>
          <a:stretch/>
        </p:blipFill>
        <p:spPr>
          <a:xfrm>
            <a:off x="6443640" y="1413000"/>
            <a:ext cx="1960560" cy="324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жостово"/>
          <p:cNvPicPr/>
          <p:nvPr/>
        </p:nvPicPr>
        <p:blipFill>
          <a:blip r:embed="rId1"/>
          <a:stretch/>
        </p:blipFill>
        <p:spPr>
          <a:xfrm>
            <a:off x="179280" y="4076640"/>
            <a:ext cx="3176640" cy="231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жостово"/>
          <p:cNvPicPr/>
          <p:nvPr/>
        </p:nvPicPr>
        <p:blipFill>
          <a:blip r:embed="rId2"/>
          <a:stretch/>
        </p:blipFill>
        <p:spPr>
          <a:xfrm>
            <a:off x="6148440" y="3860640"/>
            <a:ext cx="2995560" cy="270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жостово"/>
          <p:cNvPicPr/>
          <p:nvPr/>
        </p:nvPicPr>
        <p:blipFill>
          <a:blip r:embed="rId3"/>
          <a:stretch/>
        </p:blipFill>
        <p:spPr>
          <a:xfrm>
            <a:off x="2556000" y="1484280"/>
            <a:ext cx="4190760" cy="3272040"/>
          </a:xfrm>
          <a:prstGeom prst="rect">
            <a:avLst/>
          </a:prstGeom>
          <a:ln w="0">
            <a:noFill/>
          </a:ln>
        </p:spPr>
      </p:pic>
      <p:sp>
        <p:nvSpPr>
          <p:cNvPr id="284" name="WordArt 5"/>
          <p:cNvSpPr txBox="1"/>
          <p:nvPr/>
        </p:nvSpPr>
        <p:spPr>
          <a:xfrm>
            <a:off x="2268360" y="33336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hostow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Picture 3" descr="Федоскинская &lt;b&gt;миниатюра&lt;/b&gt;"/>
          <p:cNvPicPr/>
          <p:nvPr/>
        </p:nvPicPr>
        <p:blipFill>
          <a:blip r:embed="rId1"/>
          <a:stretch/>
        </p:blipFill>
        <p:spPr>
          <a:xfrm>
            <a:off x="395280" y="2060640"/>
            <a:ext cx="3340080" cy="4216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fedoskino1"/>
          <p:cNvPicPr/>
          <p:nvPr/>
        </p:nvPicPr>
        <p:blipFill>
          <a:blip r:embed="rId2"/>
          <a:stretch/>
        </p:blipFill>
        <p:spPr>
          <a:xfrm>
            <a:off x="4211640" y="2205000"/>
            <a:ext cx="4630680" cy="3888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5"/>
          <p:cNvSpPr txBox="1"/>
          <p:nvPr/>
        </p:nvSpPr>
        <p:spPr>
          <a:xfrm>
            <a:off x="2124000" y="47628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edoski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3" descr="дымковская &lt;b&gt;игрушка&lt;/b&gt;"/>
          <p:cNvPicPr/>
          <p:nvPr/>
        </p:nvPicPr>
        <p:blipFill>
          <a:blip r:embed="rId1"/>
          <a:stretch/>
        </p:blipFill>
        <p:spPr>
          <a:xfrm>
            <a:off x="6227640" y="2565360"/>
            <a:ext cx="2700360" cy="4032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дымковская &lt;b&gt;игрушка&lt;/b&gt;"/>
          <p:cNvPicPr/>
          <p:nvPr/>
        </p:nvPicPr>
        <p:blipFill>
          <a:blip r:embed="rId2"/>
          <a:stretch/>
        </p:blipFill>
        <p:spPr>
          <a:xfrm>
            <a:off x="3708360" y="1844640"/>
            <a:ext cx="1711440" cy="1989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Дымковская игрушка"/>
          <p:cNvPicPr/>
          <p:nvPr/>
        </p:nvPicPr>
        <p:blipFill>
          <a:blip r:embed="rId3"/>
          <a:stretch/>
        </p:blipFill>
        <p:spPr>
          <a:xfrm>
            <a:off x="250920" y="2960640"/>
            <a:ext cx="3084480" cy="389736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124000" y="404640"/>
            <a:ext cx="468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ymkowo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косынка"/>
          <p:cNvPicPr/>
          <p:nvPr/>
        </p:nvPicPr>
        <p:blipFill>
          <a:blip r:embed="rId1"/>
          <a:stretch/>
        </p:blipFill>
        <p:spPr>
          <a:xfrm>
            <a:off x="4352760" y="1770120"/>
            <a:ext cx="4079880" cy="2340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платок"/>
          <p:cNvPicPr/>
          <p:nvPr/>
        </p:nvPicPr>
        <p:blipFill>
          <a:blip r:embed="rId2"/>
          <a:stretch/>
        </p:blipFill>
        <p:spPr>
          <a:xfrm>
            <a:off x="3995640" y="4376880"/>
            <a:ext cx="4897440" cy="2481120"/>
          </a:xfrm>
          <a:prstGeom prst="rect">
            <a:avLst/>
          </a:prstGeom>
          <a:ln w="0">
            <a:noFill/>
          </a:ln>
        </p:spPr>
      </p:pic>
      <p:sp>
        <p:nvSpPr>
          <p:cNvPr id="296" name="WordArt 4"/>
          <p:cNvSpPr txBox="1"/>
          <p:nvPr/>
        </p:nvSpPr>
        <p:spPr>
          <a:xfrm>
            <a:off x="1476360" y="40464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ff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enburges Tu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ff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Picture 5" descr="Паутинка"/>
          <p:cNvPicPr/>
          <p:nvPr/>
        </p:nvPicPr>
        <p:blipFill>
          <a:blip r:embed="rId3"/>
          <a:stretch/>
        </p:blipFill>
        <p:spPr>
          <a:xfrm>
            <a:off x="155520" y="1700280"/>
            <a:ext cx="3306960" cy="496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3" descr="дымковская &lt;b&gt;игрушка&lt;/b&gt;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6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палех"/>
          <p:cNvPicPr/>
          <p:nvPr/>
        </p:nvPicPr>
        <p:blipFill>
          <a:blip r:embed="rId2"/>
          <a:stretch/>
        </p:blipFill>
        <p:spPr>
          <a:xfrm>
            <a:off x="324000" y="2781360"/>
            <a:ext cx="1695240" cy="208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gshel1672003"/>
          <p:cNvPicPr/>
          <p:nvPr/>
        </p:nvPicPr>
        <p:blipFill>
          <a:blip r:embed="rId3"/>
          <a:stretch/>
        </p:blipFill>
        <p:spPr>
          <a:xfrm>
            <a:off x="6948360" y="26028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2189"/>
          <p:cNvPicPr/>
          <p:nvPr/>
        </p:nvPicPr>
        <p:blipFill>
          <a:blip r:embed="rId4"/>
          <a:stretch/>
        </p:blipFill>
        <p:spPr>
          <a:xfrm>
            <a:off x="5508720" y="4724280"/>
            <a:ext cx="2270160" cy="1729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жостово"/>
          <p:cNvPicPr/>
          <p:nvPr/>
        </p:nvPicPr>
        <p:blipFill>
          <a:blip r:embed="rId5"/>
          <a:stretch/>
        </p:blipFill>
        <p:spPr>
          <a:xfrm>
            <a:off x="1979640" y="4924440"/>
            <a:ext cx="2476440" cy="193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kg_ekz"/>
          <p:cNvPicPr/>
          <p:nvPr/>
        </p:nvPicPr>
        <p:blipFill>
          <a:blip r:embed="rId6"/>
          <a:stretch/>
        </p:blipFill>
        <p:spPr>
          <a:xfrm>
            <a:off x="3419640" y="2276640"/>
            <a:ext cx="2665080" cy="225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dancer1"/>
          <p:cNvPicPr/>
          <p:nvPr/>
        </p:nvPicPr>
        <p:blipFill>
          <a:blip r:embed="rId7"/>
          <a:stretch/>
        </p:blipFill>
        <p:spPr>
          <a:xfrm>
            <a:off x="6588000" y="26370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306" name="WordArt 10"/>
          <p:cNvSpPr txBox="1"/>
          <p:nvPr/>
        </p:nvSpPr>
        <p:spPr>
          <a:xfrm>
            <a:off x="3203640" y="476280"/>
            <a:ext cx="302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TET MA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825480" y="981000"/>
            <a:ext cx="775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Die Volkskunst auf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dem Lipezker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US" sz="7200" spc="-1" strike="noStrike">
                <a:solidFill>
                  <a:srgbClr val="eaeaea"/>
                </a:solidFill>
                <a:latin typeface="Arial"/>
              </a:rPr>
              <a:t>Boden.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0" name="Picture 4" descr="карта"/>
          <p:cNvPicPr/>
          <p:nvPr/>
        </p:nvPicPr>
        <p:blipFill>
          <a:blip r:embed="rId1"/>
          <a:stretch/>
        </p:blipFill>
        <p:spPr>
          <a:xfrm>
            <a:off x="900000" y="68400"/>
            <a:ext cx="7344000" cy="6721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5562000" y="3808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Lipez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826360" y="3808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lez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5923080" y="27288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obro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5799240" y="1197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Tschaplyg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970720" y="27288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Lebedja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5091120" y="4282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5130000" y="41688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yrsko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5059080" y="4600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Lenin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e  Elezer  Kl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öppelei ist weltbekan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Picture 4" descr="елец"/>
          <p:cNvPicPr/>
          <p:nvPr/>
        </p:nvPicPr>
        <p:blipFill>
          <a:blip r:embed="rId1"/>
          <a:stretch/>
        </p:blipFill>
        <p:spPr>
          <a:xfrm>
            <a:off x="1763640" y="1428840"/>
            <a:ext cx="571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s  Tongeschirr  aus Dobroj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4" name="Picture 4" descr="посуда из глины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f  der Wiese ruhig liegen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nge, wei</a:t>
            </a:r>
            <a:r>
              <a:rPr b="0" lang="el-GR" sz="32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e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chöne 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6" descr="C:\Documents and Settings\1.TYCOON\Мои документы\домашние животные\CA3W55NW.jpg"/>
          <p:cNvPicPr/>
          <p:nvPr/>
        </p:nvPicPr>
        <p:blipFill>
          <a:blip r:embed="rId1"/>
          <a:stretch/>
        </p:blipFill>
        <p:spPr>
          <a:xfrm>
            <a:off x="5435640" y="2565360"/>
            <a:ext cx="3168720" cy="3065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5272200" y="589608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ie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e Kunstwerke aus Weidenbas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7" name="Picture 4" descr="лыко 1"/>
          <p:cNvPicPr/>
          <p:nvPr/>
        </p:nvPicPr>
        <p:blipFill>
          <a:blip r:embed="rId1"/>
          <a:stretch/>
        </p:blipFill>
        <p:spPr>
          <a:xfrm>
            <a:off x="755640" y="1305000"/>
            <a:ext cx="7704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modernen Me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us Lebedjan u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pezk schaffen sc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ö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Körbe,Wiege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astschuh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Die Leute schenke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einander gern Bast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chuhe, denn sie si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Glücksbrin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0" name="Picture 4" descr="лыко"/>
          <p:cNvPicPr/>
          <p:nvPr/>
        </p:nvPicPr>
        <p:blipFill>
          <a:blip r:embed="rId1"/>
          <a:stretch/>
        </p:blipFill>
        <p:spPr>
          <a:xfrm>
            <a:off x="480528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e Tonspielzeuge aus Lenin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4" descr="глин"/>
          <p:cNvPicPr/>
          <p:nvPr/>
        </p:nvPicPr>
        <p:blipFill>
          <a:blip r:embed="rId1"/>
          <a:stretch/>
        </p:blipFill>
        <p:spPr>
          <a:xfrm>
            <a:off x="826920" y="1249200"/>
            <a:ext cx="74901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e russische Stickerei aus Syrskoj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6" name="Picture 4" descr="вышивка"/>
          <p:cNvPicPr/>
          <p:nvPr/>
        </p:nvPicPr>
        <p:blipFill>
          <a:blip r:embed="rId1"/>
          <a:stretch/>
        </p:blipFill>
        <p:spPr>
          <a:xfrm>
            <a:off x="1692360" y="1522440"/>
            <a:ext cx="54007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e Holzschnitzerei aus Tschaplygin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9" name="Picture 4" descr="резьба по дереву"/>
          <p:cNvPicPr/>
          <p:nvPr/>
        </p:nvPicPr>
        <p:blipFill>
          <a:blip r:embed="rId1"/>
          <a:stretch/>
        </p:blipFill>
        <p:spPr>
          <a:xfrm>
            <a:off x="4971960" y="1484280"/>
            <a:ext cx="4021200" cy="5373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резьба по дереву 2"/>
          <p:cNvPicPr/>
          <p:nvPr/>
        </p:nvPicPr>
        <p:blipFill>
          <a:blip r:embed="rId2"/>
          <a:stretch/>
        </p:blipFill>
        <p:spPr>
          <a:xfrm>
            <a:off x="0" y="1989000"/>
            <a:ext cx="479736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tschwork aus Lipezk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4" descr="лоскут"/>
          <p:cNvPicPr/>
          <p:nvPr/>
        </p:nvPicPr>
        <p:blipFill>
          <a:blip r:embed="rId1"/>
          <a:stretch/>
        </p:blipFill>
        <p:spPr>
          <a:xfrm>
            <a:off x="1403280" y="1542960"/>
            <a:ext cx="58327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passt  zusamm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yrsko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bedj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bro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pez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schaplyg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n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öppele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tickere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Kunstwerke aus Weideba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Das  Tongeschir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Patsch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Holzschnitzere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Volksspielzeuge aus 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9" name="Picture 4" descr="краевед"/>
          <p:cNvPicPr/>
          <p:nvPr/>
        </p:nvPicPr>
        <p:blipFill>
          <a:blip r:embed="rId1"/>
          <a:stretch/>
        </p:blipFill>
        <p:spPr>
          <a:xfrm>
            <a:off x="250920" y="4680"/>
            <a:ext cx="8713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ser Museum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4" descr="краевед"/>
          <p:cNvPicPr/>
          <p:nvPr/>
        </p:nvPicPr>
        <p:blipFill>
          <a:blip r:embed="rId1"/>
          <a:stretch/>
        </p:blipFill>
        <p:spPr>
          <a:xfrm>
            <a:off x="4738680" y="1268280"/>
            <a:ext cx="4376880" cy="5589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краевед"/>
          <p:cNvPicPr/>
          <p:nvPr/>
        </p:nvPicPr>
        <p:blipFill>
          <a:blip r:embed="rId2"/>
          <a:stretch/>
        </p:blipFill>
        <p:spPr>
          <a:xfrm>
            <a:off x="179280" y="1268280"/>
            <a:ext cx="4375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 dem 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öfe sind  allein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chmutzige  und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gro</a:t>
            </a:r>
            <a:r>
              <a:rPr b="0" lang="el-GR" sz="32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e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098880" cy="388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580000" y="6308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372360" y="609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hwe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nte  kleine  Element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d  im  Wasse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s  sind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C:\Documents and Settings\1.TYCOON\Мои документы\домашние животные\CAQ38HYB.jpg"/>
          <p:cNvPicPr/>
          <p:nvPr/>
        </p:nvPicPr>
        <p:blipFill>
          <a:blip r:embed="rId1"/>
          <a:stretch/>
        </p:blipFill>
        <p:spPr>
          <a:xfrm>
            <a:off x="4643280" y="2349360"/>
            <a:ext cx="3816360" cy="3256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5294880" y="5877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t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r ist  dieser  stolze  Mann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pf  ist r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s ist  ein 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6" descr="CA63STMN"/>
          <p:cNvPicPr/>
          <p:nvPr/>
        </p:nvPicPr>
        <p:blipFill>
          <a:blip r:embed="rId1"/>
          <a:stretch/>
        </p:blipFill>
        <p:spPr>
          <a:xfrm>
            <a:off x="4716360" y="2378160"/>
            <a:ext cx="3888000" cy="3141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5706720" y="5629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h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ssen  Gras  mit  gro</a:t>
            </a:r>
            <a:r>
              <a:rPr b="0" lang="el-GR" sz="32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er Müh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Nun  gewi</a:t>
            </a:r>
            <a:r>
              <a:rPr b="0" lang="el-GR" sz="32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 das  sind 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5" descr="00014146"/>
          <p:cNvPicPr/>
          <p:nvPr/>
        </p:nvPicPr>
        <p:blipFill>
          <a:blip r:embed="rId1"/>
          <a:stretch/>
        </p:blipFill>
        <p:spPr>
          <a:xfrm>
            <a:off x="5508720" y="2276640"/>
            <a:ext cx="2867040" cy="3738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642000" y="6159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ü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ufen,  springen  durch  die  Er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rke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öne,  kluge  …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5" descr="5824-5-f"/>
          <p:cNvPicPr/>
          <p:nvPr/>
        </p:nvPicPr>
        <p:blipFill>
          <a:blip r:embed="rId1"/>
          <a:stretch/>
        </p:blipFill>
        <p:spPr>
          <a:xfrm>
            <a:off x="5435640" y="2349360"/>
            <a:ext cx="2898720" cy="37386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425280" y="61596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ferd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428760" y="285840"/>
            <a:ext cx="807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as passt nicht in folgenden                Begriffsbestimmungen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785880" y="1720800"/>
            <a:ext cx="792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grasfressenden Tiere: das Schaf, die Maus, der Fisch, die Kuh, der Hahn, der Hund, das Pfer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fliegenden Tiere: die Katze, die Ente, die Kuh, das Huhn, die Gans, die Ziege, das K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n, das Kalb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schwimmenden Tiere: das Schaf, der Ferkel, die Gans, der Bulle,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Ziege,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Ente, der Wel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e Tiere, die vier Beine haben: der Hund, der Hahn, der Ziegenbock,das Schwein,das K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6:37Z</dcterms:created>
  <dc:creator>Андрей</dc:creator>
  <dc:description/>
  <dc:language>en-US</dc:language>
  <cp:lastModifiedBy>Admin</cp:lastModifiedBy>
  <dcterms:modified xsi:type="dcterms:W3CDTF">2012-02-19T10:10:22Z</dcterms:modified>
  <cp:revision>15</cp:revision>
  <dc:subject/>
  <dc:title>Слайд 1</dc:title>
</cp:coreProperties>
</file>