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BB6-AF48-4468-9448-08D03301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E44D-BEAE-4826-A54A-6ABBD4D6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FA6-544B-427B-B5F9-417C3F10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CF13-AC4C-4AA9-9668-71395BB7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DF3F-ECA2-4D42-BAE9-4C77506B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5805-B66F-4797-B767-A1C34441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F6EB-A5D9-4A8C-9167-944EB5A5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D708-DEF8-4999-BB0D-E9F26248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FB74-5305-4B03-A108-EC9BC01C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107C-D4AF-42EB-ACDF-FE83970A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5096-E103-4BFB-8D58-B3D7C5AB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3E64-69BF-405F-9C08-5CE16B5B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39F3-28AA-4DF9-A85C-5C22DDD7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A427-BE93-44C4-9E94-8D3542D7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1361-C0DD-4DCB-90DB-C35CDDA2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2518-7A4F-4D84-8B04-2DC1B379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D8FC-E2E0-4FAC-95DD-D6F1DA5E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23538-C697-470F-8AE9-03F6FB37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01F3B-FF83-41D4-ADDA-6B09D8BF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7CFF4-9B4A-4025-BB27-F499FDD9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AE174-D183-45B5-8B2A-D684A592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C429C-0000-46BF-A556-683C7989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847-FCBF-4FA2-A306-63CCCB3A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713A9-C09C-4B2D-891E-2BCAF2B1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43A09-F69A-419D-8762-B7EDA6C0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142A7-19A0-4E14-A29D-9568C2C9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2BC84-FB72-4238-88E0-61FF174F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FD6AB-A127-4A47-BF20-D25BEA7B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7F592-A93B-4208-A056-94EBC8F1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D9A8E-5837-4872-9BCB-FB20F906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2D1E6-5FA6-4A58-AD27-EC5F612B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75F2D-22ED-4B89-B7D6-022DC836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33C57-E3F1-48F2-AF93-053DD28A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07AF-76E1-4793-9A26-1183F960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28BAC-D29F-4B96-BCF9-19CFD2E0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0AC1D-3FE5-4F57-A92C-B6FC88AD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B684C-BFF4-47AA-B257-B9A4A01E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A97B3-4D73-407B-A6FD-7805EB2F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66244-9169-4E18-A495-7E06F869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9B0D8-1F1F-47D8-AA84-943717F8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FFC51-1F4A-4764-AF6C-5AEEF307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9239C-2FB3-48DB-A4F7-47727370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1CE6B-55AB-48DF-8232-1D92CC3B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C3E8F-D657-4963-BE5A-BCEC254A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E1B-C071-4E5D-994A-F46A0ECC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3C6EE-9F39-49ED-9A71-2E2D094C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E9CA6-B209-4D00-9B41-E225AC9B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EC59B-3351-41E5-AE3C-27490954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ECADB-1097-4A09-9BC3-4A9B2AD4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EB314-EDCE-494D-8249-A22870FD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37B85-BD33-48E3-88CE-5B2BA5C6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E696E-B89B-4585-849E-F69C9008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06E42-E3FC-4E86-BC00-2411F8FE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553CE-DCC7-4F4C-B04F-817C9799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B9508-B074-4747-BA0A-36F8F9C1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68A9-4289-4816-B239-E6BDE28F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2CAC5-1B25-447B-B461-0712D031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8F74E-8E99-4CDF-964F-DDF639B3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96E0F-887F-46FE-B5A4-C5781909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0C191-B9F0-4DD9-9C53-17953B63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23F7B-A00B-4F31-99E1-29CD543A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6D3DC-38A7-4599-AD51-CCF8DF7D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61607-EA39-4E8B-AA14-A50927FA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90BD1-630D-4CD6-9CD0-6DC45626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8C280-7567-49FA-AD5B-8F293B9A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39C37-212A-4C9E-9182-F72FB514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E87E-FBC4-4660-A98E-F82F14AA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9EC2F-6245-4DD5-AE81-77DD3ED5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5D45A-11EF-4DB1-968E-90CA024F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55C4F-4CE0-4150-906B-221D3843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8418-5E97-43BC-882B-76C08E9F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DEE8-DA3C-4065-978D-D174541C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9E05-25E7-4956-B593-A947B74AC49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C566-1476-4F8D-8597-C50DAD949FB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DAB4-8DB0-4F48-A37F-786696931A1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9268-2377-4986-810F-B11BD24C417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5247-F8EA-4710-8793-7EEDF22DBCF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01A2-FE40-4E5A-AA69-590E05368B6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jpeg"/><Relationship Id="rId18" Type="http://schemas.openxmlformats.org/officeDocument/2006/relationships/image" Target="../media/image22.jpeg"/><Relationship Id="rId19" Type="http://schemas.openxmlformats.org/officeDocument/2006/relationships/image" Target="../media/image23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sp>
        <p:nvSpPr>
          <p:cNvPr id="314" name="Прямоугольник 4"/>
          <p:cNvSpPr/>
          <p:nvPr/>
        </p:nvSpPr>
        <p:spPr>
          <a:xfrm>
            <a:off x="0" y="-171360"/>
            <a:ext cx="9144000" cy="70293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7c4b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395280" y="189000"/>
            <a:ext cx="8424720" cy="63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Дата 4"/>
          <p:cNvSpPr/>
          <p:nvPr/>
        </p:nvSpPr>
        <p:spPr>
          <a:xfrm>
            <a:off x="14292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A7C4-029C-41E1-9C44-B531673018E3}" type="datetime">
              <a:rPr b="1" i="1" lang="ru-RU" sz="1200" spc="-1" strike="noStrike">
                <a:solidFill>
                  <a:srgbClr val="7c4b3b"/>
                </a:solidFill>
                <a:latin typeface="Georg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Нижний колонтитул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Хохлова Надежда Викторовна ГОУ ЦО№1458Варющенкова Ольга Александровна ГОУ ЦО № 14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7c4b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2"/>
          <p:cNvSpPr/>
          <p:nvPr/>
        </p:nvSpPr>
        <p:spPr>
          <a:xfrm>
            <a:off x="1143000" y="0"/>
            <a:ext cx="8001000" cy="6858000"/>
          </a:xfrm>
          <a:prstGeom prst="rect">
            <a:avLst/>
          </a:prstGeom>
          <a:solidFill>
            <a:srgbClr val="e1d1cc">
              <a:alpha val="79000"/>
            </a:srgbClr>
          </a:solidFill>
          <a:ln w="25560">
            <a:solidFill>
              <a:srgbClr val="7c4b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5"/>
          <p:cNvSpPr/>
          <p:nvPr/>
        </p:nvSpPr>
        <p:spPr>
          <a:xfrm>
            <a:off x="1571760" y="1285920"/>
            <a:ext cx="70009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370160" y="457200"/>
            <a:ext cx="777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о-методический комплек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ачальной школы «ПЕРСПЕКТИВ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1768320" y="1339920"/>
            <a:ext cx="654876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раммы, рабочие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ие тетр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тодические пособ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полнительная литерату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дактические материалы, проверочные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ологические карты (для педагог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8"/>
          <p:cNvGrpSpPr/>
          <p:nvPr/>
        </p:nvGrpSpPr>
        <p:grpSpPr>
          <a:xfrm>
            <a:off x="1000080" y="3643200"/>
            <a:ext cx="1071360" cy="1279800"/>
            <a:chOff x="1000080" y="3643200"/>
            <a:chExt cx="1071360" cy="1279800"/>
          </a:xfrm>
        </p:grpSpPr>
        <p:pic>
          <p:nvPicPr>
            <p:cNvPr id="324" name="Picture 9" descr="7"/>
            <p:cNvPicPr/>
            <p:nvPr/>
          </p:nvPicPr>
          <p:blipFill>
            <a:blip r:embed="rId2">
              <a:lum bright="8000"/>
            </a:blip>
            <a:stretch/>
          </p:blipFill>
          <p:spPr>
            <a:xfrm>
              <a:off x="1141560" y="3643200"/>
              <a:ext cx="92988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10" descr="9"/>
            <p:cNvPicPr/>
            <p:nvPr/>
          </p:nvPicPr>
          <p:blipFill>
            <a:blip r:embed="rId3">
              <a:lum bright="8000"/>
            </a:blip>
            <a:stretch/>
          </p:blipFill>
          <p:spPr>
            <a:xfrm>
              <a:off x="1000080" y="3773520"/>
              <a:ext cx="918360" cy="114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6" name="Picture 11" descr="10"/>
          <p:cNvPicPr/>
          <p:nvPr/>
        </p:nvPicPr>
        <p:blipFill>
          <a:blip r:embed="rId4">
            <a:lum bright="8000"/>
          </a:blip>
          <a:stretch/>
        </p:blipFill>
        <p:spPr>
          <a:xfrm>
            <a:off x="3357720" y="3714840"/>
            <a:ext cx="957240" cy="1160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2" descr="12"/>
          <p:cNvPicPr/>
          <p:nvPr/>
        </p:nvPicPr>
        <p:blipFill>
          <a:blip r:embed="rId5">
            <a:lum bright="8000"/>
          </a:blip>
          <a:stretch/>
        </p:blipFill>
        <p:spPr>
          <a:xfrm>
            <a:off x="4429080" y="3714840"/>
            <a:ext cx="916200" cy="1160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3" descr="13"/>
          <p:cNvPicPr/>
          <p:nvPr/>
        </p:nvPicPr>
        <p:blipFill>
          <a:blip r:embed="rId6">
            <a:lum bright="8000"/>
          </a:blip>
          <a:stretch/>
        </p:blipFill>
        <p:spPr>
          <a:xfrm>
            <a:off x="8072280" y="3714840"/>
            <a:ext cx="906480" cy="1160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7" descr="chitalochka"/>
          <p:cNvPicPr/>
          <p:nvPr/>
        </p:nvPicPr>
        <p:blipFill>
          <a:blip r:embed="rId7">
            <a:lum bright="8000"/>
          </a:blip>
          <a:stretch/>
        </p:blipFill>
        <p:spPr>
          <a:xfrm>
            <a:off x="2214720" y="3714840"/>
            <a:ext cx="960120" cy="1168200"/>
          </a:xfrm>
          <a:prstGeom prst="rect">
            <a:avLst/>
          </a:prstGeom>
          <a:ln w="0">
            <a:noFill/>
          </a:ln>
        </p:spPr>
      </p:pic>
      <p:grpSp>
        <p:nvGrpSpPr>
          <p:cNvPr id="330" name="Group 18"/>
          <p:cNvGrpSpPr/>
          <p:nvPr/>
        </p:nvGrpSpPr>
        <p:grpSpPr>
          <a:xfrm>
            <a:off x="5500800" y="3643200"/>
            <a:ext cx="1090080" cy="1290240"/>
            <a:chOff x="5500800" y="3643200"/>
            <a:chExt cx="1090080" cy="1290240"/>
          </a:xfrm>
        </p:grpSpPr>
        <p:pic>
          <p:nvPicPr>
            <p:cNvPr id="331" name="Picture 19" descr="okrmir"/>
            <p:cNvPicPr/>
            <p:nvPr/>
          </p:nvPicPr>
          <p:blipFill>
            <a:blip r:embed="rId8">
              <a:lum bright="8000"/>
            </a:blip>
            <a:stretch/>
          </p:blipFill>
          <p:spPr>
            <a:xfrm>
              <a:off x="5667120" y="3643200"/>
              <a:ext cx="9237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20" descr="11&amp;14"/>
            <p:cNvPicPr/>
            <p:nvPr/>
          </p:nvPicPr>
          <p:blipFill>
            <a:blip r:embed="rId9">
              <a:lum bright="8000"/>
            </a:blip>
            <a:stretch/>
          </p:blipFill>
          <p:spPr>
            <a:xfrm>
              <a:off x="5500800" y="3773160"/>
              <a:ext cx="917280" cy="116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Group 21"/>
          <p:cNvGrpSpPr/>
          <p:nvPr/>
        </p:nvGrpSpPr>
        <p:grpSpPr>
          <a:xfrm>
            <a:off x="1643040" y="5143680"/>
            <a:ext cx="6945480" cy="1171440"/>
            <a:chOff x="1643040" y="5143680"/>
            <a:chExt cx="6945480" cy="1171440"/>
          </a:xfrm>
        </p:grpSpPr>
        <p:pic>
          <p:nvPicPr>
            <p:cNvPr id="334" name="Picture 22" descr="propis1"/>
            <p:cNvPicPr/>
            <p:nvPr/>
          </p:nvPicPr>
          <p:blipFill>
            <a:blip r:embed="rId10">
              <a:lum bright="8000"/>
            </a:blip>
            <a:stretch/>
          </p:blipFill>
          <p:spPr>
            <a:xfrm>
              <a:off x="3681720" y="5143680"/>
              <a:ext cx="86976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23" descr="propis2"/>
            <p:cNvPicPr/>
            <p:nvPr/>
          </p:nvPicPr>
          <p:blipFill>
            <a:blip r:embed="rId11">
              <a:lum bright="8000"/>
            </a:blip>
            <a:stretch/>
          </p:blipFill>
          <p:spPr>
            <a:xfrm>
              <a:off x="4689720" y="5143680"/>
              <a:ext cx="86184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24" descr="propis3"/>
            <p:cNvPicPr/>
            <p:nvPr/>
          </p:nvPicPr>
          <p:blipFill>
            <a:blip r:embed="rId12">
              <a:lum bright="8000"/>
            </a:blip>
            <a:stretch/>
          </p:blipFill>
          <p:spPr>
            <a:xfrm>
              <a:off x="5697720" y="5143680"/>
              <a:ext cx="87624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25" descr="propis4"/>
            <p:cNvPicPr/>
            <p:nvPr/>
          </p:nvPicPr>
          <p:blipFill>
            <a:blip r:embed="rId13">
              <a:lum bright="8000"/>
            </a:blip>
            <a:stretch/>
          </p:blipFill>
          <p:spPr>
            <a:xfrm>
              <a:off x="6705720" y="5162760"/>
              <a:ext cx="86220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26" descr="rab_tetrad"/>
            <p:cNvPicPr/>
            <p:nvPr/>
          </p:nvPicPr>
          <p:blipFill>
            <a:blip r:embed="rId14">
              <a:lum bright="8000"/>
            </a:blip>
            <a:stretch/>
          </p:blipFill>
          <p:spPr>
            <a:xfrm>
              <a:off x="7713720" y="5143680"/>
              <a:ext cx="87480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27" descr="технология_учебник_1класс"/>
            <p:cNvPicPr/>
            <p:nvPr/>
          </p:nvPicPr>
          <p:blipFill>
            <a:blip r:embed="rId15"/>
            <a:stretch/>
          </p:blipFill>
          <p:spPr>
            <a:xfrm>
              <a:off x="2660760" y="5143680"/>
              <a:ext cx="88596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28" descr="литературное_чтение_учебник_1часть_1класс"/>
            <p:cNvPicPr/>
            <p:nvPr/>
          </p:nvPicPr>
          <p:blipFill>
            <a:blip r:embed="rId16"/>
            <a:stretch/>
          </p:blipFill>
          <p:spPr>
            <a:xfrm>
              <a:off x="1643040" y="5143680"/>
              <a:ext cx="885960" cy="115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Группа 33"/>
          <p:cNvGrpSpPr/>
          <p:nvPr/>
        </p:nvGrpSpPr>
        <p:grpSpPr>
          <a:xfrm>
            <a:off x="6715080" y="3357720"/>
            <a:ext cx="1219320" cy="1600200"/>
            <a:chOff x="6715080" y="3357720"/>
            <a:chExt cx="1219320" cy="1600200"/>
          </a:xfrm>
        </p:grpSpPr>
        <p:pic>
          <p:nvPicPr>
            <p:cNvPr id="342" name="Рисунок 32" descr="http://prosv.ru/Attachment.aspx?Id=10640"/>
            <p:cNvPicPr/>
            <p:nvPr/>
          </p:nvPicPr>
          <p:blipFill>
            <a:blip r:embed="rId17">
              <a:lum bright="6000"/>
            </a:blip>
            <a:stretch/>
          </p:blipFill>
          <p:spPr>
            <a:xfrm>
              <a:off x="6943680" y="3357720"/>
              <a:ext cx="99072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Рисунок 31" descr="http://prosv.ru/Attachment.aspx?Id=10639"/>
            <p:cNvPicPr/>
            <p:nvPr/>
          </p:nvPicPr>
          <p:blipFill>
            <a:blip r:embed="rId18">
              <a:lum bright="6000"/>
            </a:blip>
            <a:stretch/>
          </p:blipFill>
          <p:spPr>
            <a:xfrm>
              <a:off x="6791040" y="3510000"/>
              <a:ext cx="10670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Рисунок 30" descr="http://prosv.ru/Attachment.aspx?Id=10638"/>
            <p:cNvPicPr/>
            <p:nvPr/>
          </p:nvPicPr>
          <p:blipFill>
            <a:blip r:embed="rId19">
              <a:lum bright="6000"/>
            </a:blip>
            <a:stretch/>
          </p:blipFill>
          <p:spPr>
            <a:xfrm>
              <a:off x="6715080" y="3738600"/>
              <a:ext cx="95652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Дата 4"/>
          <p:cNvSpPr/>
          <p:nvPr/>
        </p:nvSpPr>
        <p:spPr>
          <a:xfrm>
            <a:off x="14292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5946-4661-4132-827E-1AEDA2A404A2}" type="datetime">
              <a:rPr b="1" i="1" lang="ru-RU" sz="1200" spc="-1" strike="noStrike">
                <a:solidFill>
                  <a:srgbClr val="7c4b3b"/>
                </a:solidFill>
                <a:latin typeface="Georg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Нижний колонтитул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Хохлова Надежда Викторовна ГОУ ЦО№1458Варющенкова Ольга Александровна ГОУ ЦО № 14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7c4b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2"/>
          <p:cNvSpPr/>
          <p:nvPr/>
        </p:nvSpPr>
        <p:spPr>
          <a:xfrm>
            <a:off x="1143000" y="0"/>
            <a:ext cx="8001000" cy="6858000"/>
          </a:xfrm>
          <a:prstGeom prst="rect">
            <a:avLst/>
          </a:prstGeom>
          <a:noFill/>
          <a:ln w="25560">
            <a:solidFill>
              <a:srgbClr val="7c4b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1214280" y="285840"/>
            <a:ext cx="75009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Дата 4"/>
          <p:cNvSpPr/>
          <p:nvPr/>
        </p:nvSpPr>
        <p:spPr>
          <a:xfrm>
            <a:off x="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4AA1-0BDB-4B83-8698-CD00B1AD7996}" type="datetime">
              <a:rPr b="1" i="1" lang="ru-RU" sz="1200" spc="-1" strike="noStrike">
                <a:solidFill>
                  <a:srgbClr val="7c4b3b"/>
                </a:solidFill>
                <a:latin typeface="Georg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ижний колонтитул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Хохлова Надежда Викторовна ГОУ ЦО№1458Варющенкова Ольга Александровна ГОУ ЦО № 14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7c4b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2"/>
          <p:cNvSpPr/>
          <p:nvPr/>
        </p:nvSpPr>
        <p:spPr>
          <a:xfrm>
            <a:off x="1428840" y="0"/>
            <a:ext cx="8001000" cy="6858000"/>
          </a:xfrm>
          <a:prstGeom prst="rect">
            <a:avLst/>
          </a:prstGeom>
          <a:solidFill>
            <a:srgbClr val="e1d1cc">
              <a:alpha val="75000"/>
            </a:srgbClr>
          </a:solidFill>
          <a:ln w="25560">
            <a:solidFill>
              <a:srgbClr val="7c4b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одержимое 2"/>
          <p:cNvSpPr/>
          <p:nvPr/>
        </p:nvSpPr>
        <p:spPr>
          <a:xfrm>
            <a:off x="1571760" y="260280"/>
            <a:ext cx="7257960" cy="39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 учебный план введена внеурочная деятельность как важная составная часть содержания образования, увеличивающая его вариативность и адаптивность к интересам, потребностям и способностям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Схема 11" descr=""/>
          <p:cNvPicPr/>
          <p:nvPr/>
        </p:nvPicPr>
        <p:blipFill>
          <a:blip r:embed="rId2"/>
          <a:stretch/>
        </p:blipFill>
        <p:spPr>
          <a:xfrm>
            <a:off x="2706840" y="2419200"/>
            <a:ext cx="6503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5:52:41Z</dcterms:created>
  <dc:creator>Alexey</dc:creator>
  <dc:description/>
  <dc:language>en-US</dc:language>
  <cp:lastModifiedBy>User</cp:lastModifiedBy>
  <dcterms:modified xsi:type="dcterms:W3CDTF">2012-02-19T05:11:59Z</dcterms:modified>
  <cp:revision>24</cp:revision>
  <dc:subject/>
  <dc:title>Слайд 1</dc:title>
</cp:coreProperties>
</file>