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1A0-EE2C-473C-911F-412CC1BF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B67-9744-4449-9965-3BE4768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A5F-8293-488E-BF55-9B8BB47B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841-06EE-4DEC-AC41-B380E596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B3F-021E-4AD6-A288-A2967AB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6A6-60A7-45A3-9D38-F640DE5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10-AC9A-4494-B037-83121758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230-589C-4ECB-93D4-A0D48B1D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6F8-879E-4AC4-9A9C-7D05599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B9E-705C-4816-8795-3EE473E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D42-7ABE-4E70-8CF6-E383FAE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DB1-E6DE-49C1-AA38-BE0D551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67C-48BE-484C-8FBE-4D6278D4C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Сказки В. Суте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Обложка Дядя Миша.jpg"/>
          <p:cNvPicPr/>
          <p:nvPr/>
        </p:nvPicPr>
        <p:blipFill>
          <a:blip r:embed="rId1"/>
          <a:stretch/>
        </p:blipFill>
        <p:spPr>
          <a:xfrm>
            <a:off x="3286080" y="150012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Ш. Е. А\Мои документы\Мои рисунки\Иллюстрации\Обложка Ёлка.jpg"/>
          <p:cNvPicPr/>
          <p:nvPr/>
        </p:nvPicPr>
        <p:blipFill>
          <a:blip r:embed="rId2"/>
          <a:stretch/>
        </p:blipFill>
        <p:spPr>
          <a:xfrm>
            <a:off x="857160" y="4000680"/>
            <a:ext cx="2000520" cy="25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Ш. Е. А\Мои документы\Мои рисунки\Иллюстрации\Обложка Мешок яблок.jpg"/>
          <p:cNvPicPr/>
          <p:nvPr/>
        </p:nvPicPr>
        <p:blipFill>
          <a:blip r:embed="rId3"/>
          <a:stretch/>
        </p:blipFill>
        <p:spPr>
          <a:xfrm>
            <a:off x="357120" y="1571760"/>
            <a:ext cx="1643040" cy="221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Ш. Е. А\Мои документы\Мои рисунки\Иллюстрации\Обложка три котёнка.jpg"/>
          <p:cNvPicPr/>
          <p:nvPr/>
        </p:nvPicPr>
        <p:blipFill>
          <a:blip r:embed="rId4"/>
          <a:stretch/>
        </p:blipFill>
        <p:spPr>
          <a:xfrm>
            <a:off x="5786280" y="1500120"/>
            <a:ext cx="171468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D:\Ш. Е. А\Мои документы\Мои рисунки\Иллюстрации\imagesCA2XJMKY.jpg"/>
          <p:cNvPicPr/>
          <p:nvPr/>
        </p:nvPicPr>
        <p:blipFill>
          <a:blip r:embed="rId5"/>
          <a:stretch/>
        </p:blipFill>
        <p:spPr>
          <a:xfrm>
            <a:off x="3571920" y="4000680"/>
            <a:ext cx="157176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D:\Ш. Е. А\Мои документы\Мои рисунки\Иллюстрации\Сказки Сутеева.jpg"/>
          <p:cNvPicPr/>
          <p:nvPr/>
        </p:nvPicPr>
        <p:blipFill>
          <a:blip r:embed="rId6"/>
          <a:stretch/>
        </p:blipFill>
        <p:spPr>
          <a:xfrm>
            <a:off x="6286680" y="4071960"/>
            <a:ext cx="1785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440" y="514332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ко спрятали Зайца, Лиса прибеж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Зайца не видели? – спрашива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Сказки онлайн. Под грибом"/>
          <p:cNvPicPr/>
          <p:nvPr/>
        </p:nvPicPr>
        <p:blipFill>
          <a:blip r:embed="rId1"/>
          <a:srcRect l="0" t="7958" r="0" b="795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7240" y="4800240"/>
            <a:ext cx="542160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равей задумался и говори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143320"/>
            <a:ext cx="54864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Как же так? Раньше мне одному тесно было, а теперь всем пятерым места нашлос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Сказки онлайн. Под грибом"/>
          <p:cNvPicPr/>
          <p:nvPr/>
        </p:nvPicPr>
        <p:blipFill>
          <a:blip r:embed="rId1"/>
          <a:srcRect l="0" t="8150" r="0" b="8150"/>
          <a:stretch/>
        </p:blipFill>
        <p:spPr>
          <a:xfrm>
            <a:off x="1857240" y="4287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6880" y="4785840"/>
            <a:ext cx="52866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ва-ха-ха!  Ква-ха-ха! – засмеялся кто-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57880"/>
            <a:ext cx="54864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посмотрели: на шляпке гриба сидит     Лягушка и хохоч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Эх вы! Гриб-т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Сказки онлайн. Под грибом"/>
          <p:cNvPicPr/>
          <p:nvPr/>
        </p:nvPicPr>
        <p:blipFill>
          <a:blip r:embed="rId1"/>
          <a:srcRect l="0" t="9849" r="0" b="984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84807"/>
                </a:solidFill>
                <a:latin typeface="TruthCYR Medium"/>
              </a:rPr>
              <a:t>А вы догадались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Народные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images[6].jpg"/>
          <p:cNvPicPr/>
          <p:nvPr/>
        </p:nvPicPr>
        <p:blipFill>
          <a:blip r:embed="rId1"/>
          <a:stretch/>
        </p:blipFill>
        <p:spPr>
          <a:xfrm>
            <a:off x="1143000" y="228600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. Е. А\Мои документы\Мои рисунки\Иллюстрации\imagesCAMJX9HN (2).jpg"/>
          <p:cNvPicPr/>
          <p:nvPr/>
        </p:nvPicPr>
        <p:blipFill>
          <a:blip r:embed="rId2"/>
          <a:stretch/>
        </p:blipFill>
        <p:spPr>
          <a:xfrm>
            <a:off x="4857840" y="2857680"/>
            <a:ext cx="1785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84807"/>
                </a:solidFill>
                <a:latin typeface="TruthCYR Black"/>
              </a:rPr>
              <a:t>Не в свои сани не садись</a:t>
            </a:r>
            <a:r>
              <a:rPr b="0" lang="ru-RU" sz="7200" spc="-1" strike="noStrike">
                <a:solidFill>
                  <a:srgbClr val="984807"/>
                </a:solidFill>
                <a:latin typeface="TruthCYR Black"/>
              </a:rPr>
              <a:t>.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57120" y="3886200"/>
            <a:ext cx="77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TruthCYR Black"/>
              </a:rPr>
              <a:t>В тесноте, да не в обид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Какое у тебя настро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imagesCA13ZU1A.jpg"/>
          <p:cNvPicPr/>
          <p:nvPr/>
        </p:nvPicPr>
        <p:blipFill>
          <a:blip r:embed="rId1"/>
          <a:stretch/>
        </p:blipFill>
        <p:spPr>
          <a:xfrm>
            <a:off x="6072120" y="364320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Ш. Е. А\Мои документы\Мои рисунки\Иллюстрации\imagesCAMZVC8I.jpg"/>
          <p:cNvPicPr/>
          <p:nvPr/>
        </p:nvPicPr>
        <p:blipFill>
          <a:blip r:embed="rId2"/>
          <a:stretch/>
        </p:blipFill>
        <p:spPr>
          <a:xfrm>
            <a:off x="357120" y="3857760"/>
            <a:ext cx="1857600" cy="221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Ш. Е. А\Мои документы\Мои рисунки\Иллюстрации\imagesCANHY2LX.jpg"/>
          <p:cNvPicPr/>
          <p:nvPr/>
        </p:nvPicPr>
        <p:blipFill>
          <a:blip r:embed="rId3"/>
          <a:stretch/>
        </p:blipFill>
        <p:spPr>
          <a:xfrm>
            <a:off x="2786040" y="1714680"/>
            <a:ext cx="2643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84807"/>
                </a:solidFill>
                <a:latin typeface="Calibri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Владимир Григорьевич Суте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Ш. Е. А\Мои документы\Мои рисунки\Иллюстрации\imagesCA3943EM.jpg"/>
          <p:cNvPicPr/>
          <p:nvPr/>
        </p:nvPicPr>
        <p:blipFill>
          <a:blip r:embed="rId1"/>
          <a:stretch/>
        </p:blipFill>
        <p:spPr>
          <a:xfrm>
            <a:off x="3071880" y="2000160"/>
            <a:ext cx="285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Писатель и художник, режиссёр, постановщик мультфиль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Фото Сутеева.jpg"/>
          <p:cNvPicPr/>
          <p:nvPr/>
        </p:nvPicPr>
        <p:blipFill>
          <a:blip r:embed="rId1"/>
          <a:stretch/>
        </p:blipFill>
        <p:spPr>
          <a:xfrm>
            <a:off x="3357720" y="2143080"/>
            <a:ext cx="2214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 снова сказка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:\Ш. Е. А\Мои документы\Мои рисунки\Иллюстрации\imagesCAECG11T.jpg"/>
          <p:cNvPicPr/>
          <p:nvPr/>
        </p:nvPicPr>
        <p:blipFill>
          <a:blip r:embed="rId1"/>
          <a:stretch/>
        </p:blipFill>
        <p:spPr>
          <a:xfrm>
            <a:off x="3429000" y="2428920"/>
            <a:ext cx="200016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:\Ш. Е. А\Мои документы\Мои рисунки\Иллюстрации\imagesCA2T91SM.jpg"/>
          <p:cNvPicPr/>
          <p:nvPr/>
        </p:nvPicPr>
        <p:blipFill>
          <a:blip r:embed="rId2"/>
          <a:stretch/>
        </p:blipFill>
        <p:spPr>
          <a:xfrm>
            <a:off x="571680" y="2143080"/>
            <a:ext cx="1785600" cy="271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:\Ш. Е. А\Мои документы\Мои рисунки\Иллюстрации\Обложка Под грибом.jpg"/>
          <p:cNvPicPr/>
          <p:nvPr/>
        </p:nvPicPr>
        <p:blipFill>
          <a:blip r:embed="rId3"/>
          <a:stretch/>
        </p:blipFill>
        <p:spPr>
          <a:xfrm>
            <a:off x="6572160" y="2214720"/>
            <a:ext cx="1500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14332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-то раз застал Муравья сильный дождь. Куда спрятат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Сказки онлайн. Под грибом"/>
          <p:cNvPicPr/>
          <p:nvPr/>
        </p:nvPicPr>
        <p:blipFill>
          <a:blip r:embed="rId1"/>
          <a:srcRect l="0" t="8430" r="0" b="8430"/>
          <a:stretch/>
        </p:blipFill>
        <p:spPr>
          <a:xfrm>
            <a:off x="1143000" y="612720"/>
            <a:ext cx="6429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440" y="5143680"/>
            <a:ext cx="54864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зёт к грибу мокрая Бабоч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Муравей, Муравей, пусти меня под грибо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Сказки онлайн. Под грибом"/>
          <p:cNvPicPr/>
          <p:nvPr/>
        </p:nvPicPr>
        <p:blipFill>
          <a:blip r:embed="rId1"/>
          <a:srcRect l="0" t="6793" r="0" b="6793"/>
          <a:stretch/>
        </p:blipFill>
        <p:spPr>
          <a:xfrm>
            <a:off x="1500120" y="612720"/>
            <a:ext cx="592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857240" y="514332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жит мимо Мыш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Пустите меня под грибо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Сказки онлайн. Под грибом"/>
          <p:cNvPicPr/>
          <p:nvPr/>
        </p:nvPicPr>
        <p:blipFill>
          <a:blip r:embed="rId1"/>
          <a:srcRect l="0" t="9595" r="0" b="959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5960" y="4714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214600"/>
            <a:ext cx="54864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мо гриба Воробей скачет и плач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мокли пёрышки, устали крылышк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Сказки онлайн. Под грибом"/>
          <p:cNvPicPr/>
          <p:nvPr/>
        </p:nvPicPr>
        <p:blipFill>
          <a:blip r:embed="rId1"/>
          <a:srcRect l="0" t="8700" r="0" b="870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440" y="5072040"/>
            <a:ext cx="5486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тут Заяц на полянку выскочил, увидел гриб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рячьте, - кричит, - спасите! За мной Лиса гонится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Сказки онлайн. Под грибом"/>
          <p:cNvPicPr/>
          <p:nvPr/>
        </p:nvPicPr>
        <p:blipFill>
          <a:blip r:embed="rId1"/>
          <a:srcRect l="0" t="11182" r="0" b="1118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8:13:01Z</dcterms:created>
  <dc:creator>1</dc:creator>
  <dc:description/>
  <dc:language>en-US</dc:language>
  <cp:lastModifiedBy>1</cp:lastModifiedBy>
  <dcterms:modified xsi:type="dcterms:W3CDTF">2012-02-18T09:51:44Z</dcterms:modified>
  <cp:revision>36</cp:revision>
  <dc:subject/>
  <dc:title>Владимир Григорьевич Сутеев</dc:title>
</cp:coreProperties>
</file>