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C48-AFA9-4CCB-A43C-186AA3CD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E8F-6D4F-47B7-8571-AF055873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9DD-7373-48AC-B926-426B54C2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706-2C17-490E-B291-8D4D302B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080C-7178-408D-8382-B0C8DFAB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ADED-182E-4811-B64E-648887D6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CA93-E5EA-451B-A53E-10709E47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CC1F-657C-40BF-A4E1-D9851D31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0410-C842-4B60-AA30-D4A507AD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8649-BDA5-48F6-8F0D-31CBE242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8F2D-146B-40BE-AA1D-FB59B529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76D-A5C8-44D6-A5F1-DD78425F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565F-66B8-4785-B361-CE65DF28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C0C5-8A0C-426D-A9F2-592DCDC3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7C72-0270-44C0-8117-C817D49E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D23B-14E6-4DE3-8A26-B59DA3A1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B703-D298-48A6-9A95-4CF4C201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959-CC53-4E9C-A3CA-99C47EF0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255-3EB7-4430-827A-5FDC0962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9121-7894-46D8-B845-F3F64515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758-4D10-4EF3-AE07-79378DB6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4AE-B5B3-498F-902A-DC951FB1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1FD-FC62-412D-B6ED-86512E6D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A1C-22F4-488C-8032-9FA1BD75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F8E6-8734-4E99-A968-CFE8D388E7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03A6-6B8D-4F42-AC91-08E62B964C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enta-club.ru/forum/index.php?s=a5171f611970714ecdd612686850d32a&amp;act=Attach&amp;type=post&amp;id=9419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89;&#1086;&#1073;&#1080;&#1088;&#1072;&#1102;&#1097;&#1072;&#1103;%20&#1083;&#1080;&#1085;&#1079;&#1072;.avi" TargetMode="External"/><Relationship Id="rId2" Type="http://schemas.openxmlformats.org/officeDocument/2006/relationships/hyperlink" Target="file:///&#1089;&#1086;&#1073;&#1080;&#1088;&#1072;&#1102;&#1097;&#1072;&#1103;%20&#1083;&#1080;&#1085;&#1079;&#1072;.avi" TargetMode="External"/><Relationship Id="rId3" Type="http://schemas.openxmlformats.org/officeDocument/2006/relationships/hyperlink" Target="file:///&#1088;&#1072;&#1089;&#1089;&#1077;&#1080;&#1074;&#1072;&#1102;&#1097;%20&#1083;&#1080;&#1085;&#1079;&#1072;.avi" TargetMode="External"/><Relationship Id="rId4" Type="http://schemas.openxmlformats.org/officeDocument/2006/relationships/hyperlink" Target="file:///&#1088;&#1072;&#1089;&#1089;&#1077;&#1080;&#1074;&#1072;&#1102;&#1097;%20&#1083;&#1080;&#1085;&#1079;&#1072;.avi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92;&#1086;&#1082;&#1091;&#1089;%20&#1083;&#1080;&#1085;&#1079;&#1099;.avi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2039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63760" y="4723920"/>
            <a:ext cx="70689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pic>
        <p:nvPicPr>
          <p:cNvPr id="101" name="Picture 17" descr="������������� ����������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486240"/>
            <a:ext cx="8351640" cy="305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348000" y="1197000"/>
            <a:ext cx="345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НЗЫ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920" y="76320"/>
            <a:ext cx="7656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Получите изображение:</a:t>
            </a:r>
            <a:br>
              <a:rPr sz="3200"/>
            </a:b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предмет находится между  главным фокусом и двойным фокусом собирающей линз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5724360" y="1916280"/>
            <a:ext cx="31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Изображение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действитель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перевёрнут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увеличен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809880"/>
            <a:ext cx="2057400" cy="0"/>
          </a:xfrm>
          <a:prstGeom prst="line">
            <a:avLst/>
          </a:prstGeom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30240" y="3816360"/>
            <a:ext cx="3275640" cy="23666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9520" y="3692520"/>
            <a:ext cx="5215320" cy="23702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2708280"/>
            <a:ext cx="5867280" cy="3581280"/>
            <a:chOff x="0" y="2708280"/>
            <a:chExt cx="5867280" cy="3581280"/>
          </a:xfrm>
        </p:grpSpPr>
        <p:sp>
          <p:nvSpPr>
            <p:cNvPr id="161" name=""/>
            <p:cNvSpPr/>
            <p:nvPr/>
          </p:nvSpPr>
          <p:spPr>
            <a:xfrm>
              <a:off x="0" y="4537080"/>
              <a:ext cx="586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08280" y="2708280"/>
              <a:ext cx="0" cy="358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41240" y="450216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57600" y="449568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2680" y="4537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07120" y="4537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020600" y="3774960"/>
              <a:ext cx="0" cy="75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4400" y="44845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9000" y="45370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447840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72200" y="45133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364000" y="4508640"/>
            <a:ext cx="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3789360"/>
            <a:ext cx="213048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32000" y="11592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Получите изображение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:</a:t>
            </a:r>
            <a:br>
              <a:rPr sz="1800"/>
            </a:b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предмет находится в двойном фокусе рассеивающей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лин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555920"/>
            <a:ext cx="5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2421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571920"/>
            <a:ext cx="5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84720" y="2203560"/>
            <a:ext cx="5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659640" y="2205000"/>
            <a:ext cx="332280" cy="2952000"/>
            <a:chOff x="6659640" y="2205000"/>
            <a:chExt cx="332280" cy="2952000"/>
          </a:xfrm>
        </p:grpSpPr>
        <p:sp>
          <p:nvSpPr>
            <p:cNvPr id="180" name=""/>
            <p:cNvSpPr/>
            <p:nvPr/>
          </p:nvSpPr>
          <p:spPr>
            <a:xfrm>
              <a:off x="6824520" y="2319120"/>
              <a:ext cx="0" cy="27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659640" y="2205000"/>
              <a:ext cx="330840" cy="103320"/>
              <a:chOff x="6659640" y="2205000"/>
              <a:chExt cx="330840" cy="103320"/>
            </a:xfrm>
          </p:grpSpPr>
          <p:sp>
            <p:nvSpPr>
              <p:cNvPr id="182" name=""/>
              <p:cNvSpPr/>
              <p:nvPr/>
            </p:nvSpPr>
            <p:spPr>
              <a:xfrm>
                <a:off x="6659640" y="2205000"/>
                <a:ext cx="165960" cy="10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6825600" y="2205000"/>
                <a:ext cx="164880" cy="10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659640" y="5054760"/>
              <a:ext cx="332280" cy="102240"/>
              <a:chOff x="6659640" y="5054760"/>
              <a:chExt cx="332280" cy="10224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6659640" y="5054760"/>
                <a:ext cx="166680" cy="10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6826320" y="5054760"/>
                <a:ext cx="165600" cy="10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 flipH="1">
            <a:off x="5003280" y="3860640"/>
            <a:ext cx="348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7640" y="378936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16720" y="285264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3862440"/>
            <a:ext cx="3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378936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28000" y="378936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0000" y="3860640"/>
            <a:ext cx="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39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84720" y="3933720"/>
            <a:ext cx="3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6764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2781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80000" y="2781360"/>
            <a:ext cx="122400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508720" y="2781360"/>
            <a:ext cx="1295280" cy="2376360"/>
          </a:xfrm>
          <a:prstGeom prst="line">
            <a:avLst/>
          </a:prstGeom>
          <a:ln w="5724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804000" y="1844640"/>
            <a:ext cx="504720" cy="9367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2781360"/>
            <a:ext cx="2448000" cy="20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19640" y="2781360"/>
            <a:ext cx="5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48360" y="15573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50028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2422440"/>
            <a:ext cx="273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Изоб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мним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уменьшен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пря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Размеры и расположение изображения предмета в собирающей линзе зависят от положения предмета относительно линз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зависимости от того, на каком расстоянии от линзы находится предмет, можно получит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увеличенное изображение (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F </a:t>
            </a:r>
            <a:r>
              <a:rPr b="1" i="1" lang="ru-RU" sz="2800" spc="-1" strike="noStrike">
                <a:solidFill>
                  <a:srgbClr val="000066"/>
                </a:solidFill>
                <a:latin typeface="Tahoma"/>
              </a:rPr>
              <a:t>&lt; 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1" i="1" lang="ru-RU" sz="2800" spc="-1" strike="noStrike">
                <a:solidFill>
                  <a:srgbClr val="000066"/>
                </a:solidFill>
                <a:latin typeface="Tahoma"/>
              </a:rPr>
              <a:t> &lt; 2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F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уменьшенное  изображение (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1" i="1" lang="ru-RU" sz="2800" spc="-1" strike="noStrike">
                <a:solidFill>
                  <a:srgbClr val="000066"/>
                </a:solidFill>
                <a:latin typeface="Tahoma"/>
              </a:rPr>
              <a:t> &gt; 2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F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Оптическая сила линз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720072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еличина, обратная фокусному расстоянию линзы, называется ее оптической сил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Оптическая сила обозначается буквой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За единицу оптической силы принята 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диоптрия</a:t>
            </a: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1 диоптрия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— это оптическая сила линзы, фокусное расстоя­ние которой равно 1 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D &gt; 0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для собирающих линз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D &lt; 0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для рассеивающих лин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6659640" y="2492280"/>
                <a:ext cx="223344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Закрепление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98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линза? Каковы ее свойства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фокус линзы? Сколько фокусов имеет линза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еломляет лучи выпуклая стеклянная линза в воздухе? Почему ее называют собирающей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еломляет лучи вогнутая стеклянная линза в воздухе? Почему ее называют рассеивающей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ется действительное  изображение точки от мнимого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ющая линза дает мнимое изображение предмета. Каким может быть это  изображение: прямым или перевернутым? Увеличенным или  уменьшенным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ное расстояние линзы равно 50 см. Какова ее оптическая  сила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й линзы фокусное расстояние равно 0,2 м, у другой – 0,5 м. Какая из них обладает большей оптической силой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 солнечный  летний день нельзя  днем поливать  растения в саду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79640" y="620280"/>
            <a:ext cx="6408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Домашнее задание:</a:t>
            </a:r>
            <a:br>
              <a:rPr sz="3200"/>
            </a:b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§ 66,67  Упр.34 (1-3).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А.В.Перышкин, Физика 8 класс,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М., «Дрофа»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667280" y="4797000"/>
            <a:ext cx="10476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42920" y="4437000"/>
            <a:ext cx="6913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076360" y="1989000"/>
            <a:ext cx="370044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Линзами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называются прозрачные тела, ограниченные с  двух сторон сферическими поверхност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3889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нзы бывают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собирающие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рассеивающие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Собирающая линза в середине толще, чем у краев, рассеивающая линза, наоборот, в средней части тоньш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сли толщина самой линзы мала по сравнению с радиусами кривизны сферических поверхностей, то линзу называют 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тонко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ИДЫ ЛИН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Ход лучей в лин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49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бирающая линза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(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Рассеивающая линза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(б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главный фокус линз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фокусное расстояние  линз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26920" y="2924280"/>
          <a:ext cx="2951280" cy="251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924280"/>
                    <a:ext cx="2951280" cy="25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003640" y="2924280"/>
          <a:ext cx="2880000" cy="248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3640" y="2924280"/>
                    <a:ext cx="28800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240" y="2017800"/>
            <a:ext cx="737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новное свойство линз – способность давать </a:t>
            </a:r>
            <a:r>
              <a:rPr b="0" i="1" lang="en-US" sz="3200" spc="-1" strike="noStrike">
                <a:solidFill>
                  <a:srgbClr val="006600"/>
                </a:solidFill>
                <a:latin typeface="Tahoma"/>
              </a:rPr>
              <a:t>изображения предметов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демонстрация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ображения бывают </a:t>
            </a:r>
            <a:r>
              <a:rPr b="0" i="1" lang="en-US" sz="3200" spc="-1" strike="noStrike">
                <a:solidFill>
                  <a:srgbClr val="006600"/>
                </a:solidFill>
                <a:latin typeface="Tahoma"/>
              </a:rPr>
              <a:t>прямыми и перевернутыми, действительными и мнимыми, увеличенными и уменьшенными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войства лин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Для построение изображения, даваемые линзой используют три удобных луча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76360" y="201780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ahoma"/>
              </a:rPr>
              <a:t>1.   Луч, падающий на линзу параллельно оптической оси, после преломления идет через фокус линз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ahoma"/>
              </a:rPr>
              <a:t>2.  Луч, проходящий через оптический центр линзы не преломляе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3.  Луч, проходя через фокус линзы после преломления идет параллельно оптической ос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8690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19040" y="3616200"/>
            <a:ext cx="0" cy="255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4560" y="484200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63800" y="485316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86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2926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4292640"/>
            <a:ext cx="113508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4292640"/>
            <a:ext cx="1655640" cy="15127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37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4292640"/>
            <a:ext cx="1224000" cy="1224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5516640"/>
            <a:ext cx="1765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4292640"/>
            <a:ext cx="2735280" cy="1297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880" y="4221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Построение изображения даваемое  собирающей линзо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82600" y="2017440"/>
            <a:ext cx="7772400" cy="1989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5444640"/>
            <a:ext cx="8199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– расстояние от предмета до линзы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– расстояние от линзы до изображения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63640" y="1557360"/>
            <a:ext cx="56898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Построение изображения даваемое рассеивающей линзо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2600" y="2017440"/>
            <a:ext cx="7772400" cy="1989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640" y="5444640"/>
            <a:ext cx="8020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– расстояние от предмета до линзы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– расстояние от линзы до изображения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19280" y="1628640"/>
            <a:ext cx="684036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94376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Получите изображение:</a:t>
            </a:r>
            <a:br>
              <a:rPr sz="3200"/>
            </a:b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предмет находится между линзой и главным фокусом собирающей линз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2421000"/>
            <a:ext cx="297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Изоб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мним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увеличен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пря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58000" y="3827160"/>
            <a:ext cx="1469160" cy="16423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0920" y="2708280"/>
            <a:ext cx="4647960" cy="3581280"/>
            <a:chOff x="250920" y="2708280"/>
            <a:chExt cx="4647960" cy="3581280"/>
          </a:xfrm>
        </p:grpSpPr>
        <p:sp>
          <p:nvSpPr>
            <p:cNvPr id="143" name=""/>
            <p:cNvSpPr/>
            <p:nvPr/>
          </p:nvSpPr>
          <p:spPr>
            <a:xfrm>
              <a:off x="250920" y="4537080"/>
              <a:ext cx="464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59200" y="2708280"/>
              <a:ext cx="0" cy="35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92160" y="450216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08520" y="449568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03600" y="4537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58040" y="4537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384280" y="3774960"/>
              <a:ext cx="0" cy="757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547640" y="292428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3600" y="2464920"/>
            <a:ext cx="1298880" cy="129456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11280" y="3789360"/>
            <a:ext cx="5763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3789360"/>
            <a:ext cx="2016000" cy="14400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9840" y="2764440"/>
            <a:ext cx="1800720" cy="1043280"/>
          </a:xfrm>
          <a:prstGeom prst="line">
            <a:avLst/>
          </a:prstGeom>
          <a:ln w="572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8:56:55Z</dcterms:created>
  <dc:creator>Тычков Иван Николаевич</dc:creator>
  <dc:description/>
  <dc:language>en-US</dc:language>
  <cp:lastModifiedBy>Tychkov</cp:lastModifiedBy>
  <dcterms:modified xsi:type="dcterms:W3CDTF">2012-02-19T01:01:26Z</dcterms:modified>
  <cp:revision>77</cp:revision>
  <dc:subject/>
  <dc:title>Слайд 1</dc:title>
</cp:coreProperties>
</file>