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AF67-912C-46BF-8E22-2FA4105C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4458-4D3A-402C-941A-485C7D19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DE08-270B-4625-85BF-8F8FC1ED4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43C6-3584-4321-B6A2-1F5432B3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8540-F83B-457F-A80D-56EF611D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964E-4940-40B3-96E5-BB8F81C1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F96B-5675-44D4-89D1-FBC34463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2F3A-3C75-4390-A061-79DF2717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88C5-51AC-402D-8992-F1E97FAE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E182-94C4-44B0-AD31-C8ECEDF9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DF49-E1E2-4B76-BB16-62B287EA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7BBC-E8F9-40DE-85B1-06FBDFF2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A1B2-C681-4869-A516-B497D237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7F21-8EFF-4016-A187-C31F581B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8E72-A9F0-4B65-884D-395F649B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1383-3503-4884-9F88-F0C04AC9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8B37-366B-4E29-9345-2E38FF99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90F9-2B66-47A0-9DB0-0EBE3603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5A51-55C5-4E6C-B318-8A35BE25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4025-EE65-4D31-ADE0-987982CF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4CC8-E425-4FB6-877E-AEBC4BF6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7A4A-2501-4BFC-B8B9-0E2ED1DB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560D-C064-4879-8FAA-A8AB4F7E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5C21-E6E0-4C30-B7C9-8D11035A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Group 3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5264280" y="471960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495600" y="407844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635280" y="4809960"/>
                <a:ext cx="1032120" cy="1028880"/>
              </a:xfrm>
              <a:custGeom>
                <a:avLst/>
                <a:gdLst>
                  <a:gd name="textAreaLeft" fmla="*/ 0 w 1032120"/>
                  <a:gd name="textAreaRight" fmla="*/ 1032480 w 103212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145040" y="562140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6321600" y="2878200"/>
                <a:ext cx="849240" cy="102384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906800" y="32479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rot="3318000">
                <a:off x="3580200" y="298044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2894040" y="473544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custGeom>
                <a:avLst/>
                <a:gdLst>
                  <a:gd name="textAreaLeft" fmla="*/ 360 w 849600"/>
                  <a:gd name="textAreaRight" fmla="*/ 850320 w 849600"/>
                  <a:gd name="textAreaTop" fmla="*/ 0 h 1024200"/>
                  <a:gd name="textAreaBottom" fmla="*/ 1024560 h 102420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rot="6018000">
                <a:off x="3123360" y="5648400"/>
                <a:ext cx="1273320" cy="112068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rot="6283800">
                <a:off x="5399640" y="484092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951200" y="430704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82520" y="4065480"/>
                <a:ext cx="1567080" cy="117972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720"/>
                  <a:gd name="textAreaBottom" fmla="*/ 1179720 h 117972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46240" y="4740120"/>
                <a:ext cx="1031760" cy="102888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19469400">
                <a:off x="1174680" y="591300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2894040" y="3075120"/>
                <a:ext cx="849240" cy="102384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593720" y="32353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 rot="3318000">
                <a:off x="-113400" y="3158280"/>
                <a:ext cx="1016280" cy="126504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-19080" y="466560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4200"/>
                  <a:gd name="textAreaBottom" fmla="*/ 1024560 h 102420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 rot="5508000">
                <a:off x="-36000" y="5560920"/>
                <a:ext cx="1272960" cy="112104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1040"/>
                  <a:gd name="textAreaBottom" fmla="*/ 1121400 h 11210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 rot="6283800">
                <a:off x="1857240" y="458028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924200" y="135396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155520" y="71280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-28440" y="1749600"/>
                <a:ext cx="1031760" cy="10285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520"/>
                  <a:gd name="textAreaBottom" fmla="*/ 1028880 h 102852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147680" y="25606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867040" y="-30240"/>
                <a:ext cx="849240" cy="102384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566720" y="130320"/>
                <a:ext cx="1090800" cy="966600"/>
              </a:xfrm>
              <a:custGeom>
                <a:avLst/>
                <a:gdLst>
                  <a:gd name="textAreaLeft" fmla="*/ 0 w 1090800"/>
                  <a:gd name="textAreaRight" fmla="*/ 1090800 w 109080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 rot="3318000">
                <a:off x="297360" y="-17496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297000" y="1484280"/>
                <a:ext cx="1374480" cy="12621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 rot="2428800">
                <a:off x="-254160" y="2646360"/>
                <a:ext cx="1273320" cy="112068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 rot="6283800">
                <a:off x="2059200" y="147528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-360 h 1265400"/>
                  <a:gd name="textAreaBottom" fmla="*/ 126540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5249880" y="135396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3481560" y="712800"/>
                <a:ext cx="1566720" cy="1179360"/>
              </a:xfrm>
              <a:custGeom>
                <a:avLst/>
                <a:gdLst>
                  <a:gd name="textAreaLeft" fmla="*/ 0 w 1566720"/>
                  <a:gd name="textAreaRight" fmla="*/ 1567080 w 156672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3297240" y="1749600"/>
                <a:ext cx="1031760" cy="10285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520"/>
                  <a:gd name="textAreaBottom" fmla="*/ 1028880 h 102852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7" name="Freeform 49"/>
              <p:cNvSpPr/>
              <p:nvPr/>
            </p:nvSpPr>
            <p:spPr>
              <a:xfrm>
                <a:off x="4473720" y="25606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" name="Freeform 50"/>
              <p:cNvSpPr/>
              <p:nvPr/>
            </p:nvSpPr>
            <p:spPr>
              <a:xfrm>
                <a:off x="6192720" y="-30240"/>
                <a:ext cx="849600" cy="1023840"/>
              </a:xfrm>
              <a:custGeom>
                <a:avLst/>
                <a:gdLst>
                  <a:gd name="textAreaLeft" fmla="*/ 0 w 849600"/>
                  <a:gd name="textAreaRight" fmla="*/ 849960 w 84960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4892760" y="13032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 rot="3318000">
                <a:off x="3184920" y="532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3032280" y="1674720"/>
                <a:ext cx="1374480" cy="12621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 rot="2428800">
                <a:off x="3071520" y="2646360"/>
                <a:ext cx="1272960" cy="112068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 rot="6283800">
                <a:off x="5385240" y="14752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 flipH="1">
                <a:off x="8059680" y="1349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808680" y="72720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6624720" y="1763640"/>
                <a:ext cx="1031760" cy="102888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8086680" y="247968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667640" y="1116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 rot="3318000">
                <a:off x="6569280" y="-10368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6873840" y="147960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4200"/>
                  <a:gd name="textAreaBottom" fmla="*/ 1024560 h 102420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 rot="2428800">
                <a:off x="6608880" y="2527200"/>
                <a:ext cx="1272960" cy="112104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1040"/>
                  <a:gd name="textAreaBottom" fmla="*/ 1121400 h 11210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" name="Freeform 70"/>
              <p:cNvSpPr/>
              <p:nvPr/>
            </p:nvSpPr>
            <p:spPr>
              <a:xfrm rot="6283800">
                <a:off x="7779240" y="120384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" name="Freeform 71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-360 h 1264680"/>
                  <a:gd name="textAreaBottom" fmla="*/ 1264680 h 126468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" name="Freeform 72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" name="Freeform 73"/>
              <p:cNvSpPr/>
              <p:nvPr/>
            </p:nvSpPr>
            <p:spPr>
              <a:xfrm rot="6521400">
                <a:off x="8094600" y="466380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" name="Freeform 74"/>
              <p:cNvSpPr/>
              <p:nvPr/>
            </p:nvSpPr>
            <p:spPr>
              <a:xfrm>
                <a:off x="6808680" y="407988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" name="Freeform 75"/>
              <p:cNvSpPr/>
              <p:nvPr/>
            </p:nvSpPr>
            <p:spPr>
              <a:xfrm>
                <a:off x="6624720" y="5116680"/>
                <a:ext cx="1031760" cy="10285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520"/>
                  <a:gd name="textAreaBottom" fmla="*/ 1028880 h 102852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" name="Freeform 76"/>
              <p:cNvSpPr/>
              <p:nvPr/>
            </p:nvSpPr>
            <p:spPr>
              <a:xfrm rot="5845200">
                <a:off x="8009280" y="570456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" name="Freeform 77"/>
              <p:cNvSpPr/>
              <p:nvPr/>
            </p:nvSpPr>
            <p:spPr>
              <a:xfrm>
                <a:off x="7705800" y="321156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" name="Freeform 78"/>
              <p:cNvSpPr/>
              <p:nvPr/>
            </p:nvSpPr>
            <p:spPr>
              <a:xfrm rot="3318000">
                <a:off x="6512400" y="31726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" name="Freeform 79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" name="Freeform 80"/>
              <p:cNvSpPr/>
              <p:nvPr/>
            </p:nvSpPr>
            <p:spPr>
              <a:xfrm>
                <a:off x="6359400" y="504180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 rot="6819600">
                <a:off x="6608880" y="5746320"/>
                <a:ext cx="1272960" cy="112104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1040"/>
                  <a:gd name="textAreaBottom" fmla="*/ 1121400 h 11210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" name="Freeform 82"/>
              <p:cNvSpPr/>
              <p:nvPr/>
            </p:nvSpPr>
            <p:spPr>
              <a:xfrm rot="6283800">
                <a:off x="7283880" y="4061520"/>
                <a:ext cx="1016280" cy="126504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" name="Freeform 83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-360 h 1264680"/>
                  <a:gd name="textAreaBottom" fmla="*/ 1264680 h 126468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" name="Freeform 84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85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AutoShape 86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Group 88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AutoShape 89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9" name="Freeform 91"/>
            <p:cNvSpPr/>
            <p:nvPr/>
          </p:nvSpPr>
          <p:spPr>
            <a:xfrm>
              <a:off x="154080" y="476280"/>
              <a:ext cx="1374840" cy="1262160"/>
            </a:xfrm>
            <a:custGeom>
              <a:avLst/>
              <a:gdLst>
                <a:gd name="textAreaLeft" fmla="*/ 0 w 1374840"/>
                <a:gd name="textAreaRight" fmla="*/ 1375200 w 1374840"/>
                <a:gd name="textAreaTop" fmla="*/ 0 h 1262160"/>
                <a:gd name="textAreaBottom" fmla="*/ 1262520 h 1262160"/>
              </a:gdLst>
              <a:ahLst/>
              <a:rect l="textAreaLeft" t="textAreaTop" r="textAreaRight" b="textAreaBottom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0" name="Group 92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Freeform 93"/>
              <p:cNvSpPr/>
              <p:nvPr/>
            </p:nvSpPr>
            <p:spPr>
              <a:xfrm>
                <a:off x="216000" y="166320"/>
                <a:ext cx="1253880" cy="1152360"/>
              </a:xfrm>
              <a:custGeom>
                <a:avLst/>
                <a:gdLst>
                  <a:gd name="textAreaLeft" fmla="*/ 0 w 1253880"/>
                  <a:gd name="textAreaRight" fmla="*/ 1254240 w 1253880"/>
                  <a:gd name="textAreaTop" fmla="*/ 0 h 1152360"/>
                  <a:gd name="textAreaBottom" fmla="*/ 1152720 h 11523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234720" y="172800"/>
                <a:ext cx="287640" cy="84564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845640"/>
                  <a:gd name="textAreaBottom" fmla="*/ 846000 h 845640"/>
                </a:gdLst>
                <a:ahLst/>
                <a:rect l="textAreaLeft" t="textAreaTop" r="textAreaRight" b="textAreaBottom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298440" y="149400"/>
                <a:ext cx="1057320" cy="309240"/>
              </a:xfrm>
              <a:custGeom>
                <a:avLst/>
                <a:gdLst>
                  <a:gd name="textAreaLeft" fmla="*/ 0 w 1057320"/>
                  <a:gd name="textAreaRight" fmla="*/ 1057680 w 105732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582480" y="460080"/>
                <a:ext cx="682560" cy="661680"/>
              </a:xfrm>
              <a:custGeom>
                <a:avLst/>
                <a:gdLst>
                  <a:gd name="textAreaLeft" fmla="*/ 0 w 682560"/>
                  <a:gd name="textAreaRight" fmla="*/ 682920 w 682560"/>
                  <a:gd name="textAreaTop" fmla="*/ 0 h 661680"/>
                  <a:gd name="textAreaBottom" fmla="*/ 662040 h 661680"/>
                </a:gdLst>
                <a:ahLst/>
                <a:rect l="textAreaLeft" t="textAreaTop" r="textAreaRight" b="textAreaBottom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df7fa"/>
                  </a:gs>
                  <a:gs pos="100000">
                    <a:srgbClr val="f5cd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487440" y="379080"/>
                <a:ext cx="406080" cy="402840"/>
              </a:xfrm>
              <a:custGeom>
                <a:avLst/>
                <a:gdLst>
                  <a:gd name="textAreaLeft" fmla="*/ 0 w 406080"/>
                  <a:gd name="textAreaRight" fmla="*/ 406440 w 406080"/>
                  <a:gd name="textAreaTop" fmla="*/ 0 h 402840"/>
                  <a:gd name="textAreaBottom" fmla="*/ 403200 h 402840"/>
                </a:gdLst>
                <a:ahLst/>
                <a:rect l="textAreaLeft" t="textAreaTop" r="textAreaRight" b="textAreaBottom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fef9f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E75D-6BE3-4F79-9C7E-8C777AF7A7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Group 3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Freeform 4"/>
              <p:cNvSpPr/>
              <p:nvPr/>
            </p:nvSpPr>
            <p:spPr>
              <a:xfrm>
                <a:off x="5261040" y="474660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Freeform 5"/>
              <p:cNvSpPr/>
              <p:nvPr/>
            </p:nvSpPr>
            <p:spPr>
              <a:xfrm>
                <a:off x="3492360" y="410544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Freeform 6"/>
              <p:cNvSpPr/>
              <p:nvPr/>
            </p:nvSpPr>
            <p:spPr>
              <a:xfrm>
                <a:off x="3632040" y="4836960"/>
                <a:ext cx="1032120" cy="1028880"/>
              </a:xfrm>
              <a:custGeom>
                <a:avLst/>
                <a:gdLst>
                  <a:gd name="textAreaLeft" fmla="*/ 0 w 1032120"/>
                  <a:gd name="textAreaRight" fmla="*/ 1032480 w 103212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Freeform 7"/>
              <p:cNvSpPr/>
              <p:nvPr/>
            </p:nvSpPr>
            <p:spPr>
              <a:xfrm>
                <a:off x="4141800" y="564840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Freeform 8"/>
              <p:cNvSpPr/>
              <p:nvPr/>
            </p:nvSpPr>
            <p:spPr>
              <a:xfrm>
                <a:off x="6318360" y="2905200"/>
                <a:ext cx="849240" cy="102384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Freeform 9"/>
              <p:cNvSpPr/>
              <p:nvPr/>
            </p:nvSpPr>
            <p:spPr>
              <a:xfrm>
                <a:off x="4903920" y="327492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Freeform 10"/>
              <p:cNvSpPr/>
              <p:nvPr/>
            </p:nvSpPr>
            <p:spPr>
              <a:xfrm rot="3318000">
                <a:off x="3576960" y="300744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Freeform 11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Freeform 12"/>
              <p:cNvSpPr/>
              <p:nvPr/>
            </p:nvSpPr>
            <p:spPr>
              <a:xfrm>
                <a:off x="2890800" y="476244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Freeform 13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custGeom>
                <a:avLst/>
                <a:gdLst>
                  <a:gd name="textAreaLeft" fmla="*/ 360 w 849600"/>
                  <a:gd name="textAreaRight" fmla="*/ 850320 w 84960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Freeform 14"/>
              <p:cNvSpPr/>
              <p:nvPr/>
            </p:nvSpPr>
            <p:spPr>
              <a:xfrm rot="6018000">
                <a:off x="3120120" y="5675400"/>
                <a:ext cx="1273320" cy="112068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Freeform 15"/>
              <p:cNvSpPr/>
              <p:nvPr/>
            </p:nvSpPr>
            <p:spPr>
              <a:xfrm rot="6283800">
                <a:off x="5396400" y="486792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Freeform 16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2" name="Freeform 17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Freeform 18"/>
              <p:cNvSpPr/>
              <p:nvPr/>
            </p:nvSpPr>
            <p:spPr>
              <a:xfrm>
                <a:off x="1947960" y="433404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Freeform 19"/>
              <p:cNvSpPr/>
              <p:nvPr/>
            </p:nvSpPr>
            <p:spPr>
              <a:xfrm>
                <a:off x="179280" y="4092480"/>
                <a:ext cx="1567080" cy="117972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720"/>
                  <a:gd name="textAreaBottom" fmla="*/ 1179720 h 117972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Freeform 20"/>
              <p:cNvSpPr/>
              <p:nvPr/>
            </p:nvSpPr>
            <p:spPr>
              <a:xfrm>
                <a:off x="243000" y="4767120"/>
                <a:ext cx="1031760" cy="102888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Freeform 21"/>
              <p:cNvSpPr/>
              <p:nvPr/>
            </p:nvSpPr>
            <p:spPr>
              <a:xfrm rot="19469400">
                <a:off x="1171440" y="594000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Freeform 22"/>
              <p:cNvSpPr/>
              <p:nvPr/>
            </p:nvSpPr>
            <p:spPr>
              <a:xfrm>
                <a:off x="2890800" y="3102120"/>
                <a:ext cx="849240" cy="102384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Freeform 23"/>
              <p:cNvSpPr/>
              <p:nvPr/>
            </p:nvSpPr>
            <p:spPr>
              <a:xfrm>
                <a:off x="1590840" y="326232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Freeform 24"/>
              <p:cNvSpPr/>
              <p:nvPr/>
            </p:nvSpPr>
            <p:spPr>
              <a:xfrm rot="3318000">
                <a:off x="-116640" y="31852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Freeform 25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1" name="Freeform 26"/>
              <p:cNvSpPr/>
              <p:nvPr/>
            </p:nvSpPr>
            <p:spPr>
              <a:xfrm>
                <a:off x="-22320" y="469260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Freeform 27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Freeform 28"/>
              <p:cNvSpPr/>
              <p:nvPr/>
            </p:nvSpPr>
            <p:spPr>
              <a:xfrm rot="5508000">
                <a:off x="-39240" y="5587920"/>
                <a:ext cx="1272960" cy="112104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1040"/>
                  <a:gd name="textAreaBottom" fmla="*/ 1121400 h 11210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4" name="Freeform 29"/>
              <p:cNvSpPr/>
              <p:nvPr/>
            </p:nvSpPr>
            <p:spPr>
              <a:xfrm rot="6283800">
                <a:off x="1854720" y="4607640"/>
                <a:ext cx="1016280" cy="126504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Freeform 30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Freeform 31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7" name="Freeform 32"/>
              <p:cNvSpPr/>
              <p:nvPr/>
            </p:nvSpPr>
            <p:spPr>
              <a:xfrm>
                <a:off x="1920960" y="138096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Freeform 33"/>
              <p:cNvSpPr/>
              <p:nvPr/>
            </p:nvSpPr>
            <p:spPr>
              <a:xfrm>
                <a:off x="152280" y="73980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Freeform 34"/>
              <p:cNvSpPr/>
              <p:nvPr/>
            </p:nvSpPr>
            <p:spPr>
              <a:xfrm>
                <a:off x="-31680" y="1776240"/>
                <a:ext cx="1031760" cy="102888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0" name="Freeform 35"/>
              <p:cNvSpPr/>
              <p:nvPr/>
            </p:nvSpPr>
            <p:spPr>
              <a:xfrm>
                <a:off x="1144440" y="2587680"/>
                <a:ext cx="1016280" cy="126504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Freeform 36"/>
              <p:cNvSpPr/>
              <p:nvPr/>
            </p:nvSpPr>
            <p:spPr>
              <a:xfrm>
                <a:off x="2863800" y="-3240"/>
                <a:ext cx="849240" cy="102384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Freeform 37"/>
              <p:cNvSpPr/>
              <p:nvPr/>
            </p:nvSpPr>
            <p:spPr>
              <a:xfrm>
                <a:off x="1563840" y="15732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 rot="3318000">
                <a:off x="294120" y="-14796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93760" y="151128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 rot="2428800">
                <a:off x="-257040" y="2673360"/>
                <a:ext cx="1272960" cy="112068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 rot="6283800">
                <a:off x="2056320" y="15022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-360 h 1265400"/>
                  <a:gd name="textAreaBottom" fmla="*/ 126540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5246640" y="138096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3478320" y="739800"/>
                <a:ext cx="1566720" cy="1179360"/>
              </a:xfrm>
              <a:custGeom>
                <a:avLst/>
                <a:gdLst>
                  <a:gd name="textAreaLeft" fmla="*/ 0 w 1566720"/>
                  <a:gd name="textAreaRight" fmla="*/ 1567080 w 156672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3294000" y="1776240"/>
                <a:ext cx="1031760" cy="102888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4470480" y="25876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6189840" y="-3240"/>
                <a:ext cx="849240" cy="102384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4889520" y="15732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 rot="3318000">
                <a:off x="3181680" y="8028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custGeom>
                <a:avLst/>
                <a:gdLst>
                  <a:gd name="textAreaLeft" fmla="*/ 360 w 849600"/>
                  <a:gd name="textAreaRight" fmla="*/ 850320 w 84960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3029040" y="170172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 rot="2428800">
                <a:off x="3068280" y="2673360"/>
                <a:ext cx="1273320" cy="112068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Freeform 57"/>
              <p:cNvSpPr/>
              <p:nvPr/>
            </p:nvSpPr>
            <p:spPr>
              <a:xfrm rot="6283800">
                <a:off x="5382000" y="150228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Freeform 58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-360 h 1265400"/>
                  <a:gd name="textAreaBottom" fmla="*/ 126540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4" name="Freeform 59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Freeform 60"/>
              <p:cNvSpPr/>
              <p:nvPr/>
            </p:nvSpPr>
            <p:spPr>
              <a:xfrm flipH="1">
                <a:off x="8056440" y="1376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Freeform 61"/>
              <p:cNvSpPr/>
              <p:nvPr/>
            </p:nvSpPr>
            <p:spPr>
              <a:xfrm>
                <a:off x="6805440" y="75420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Freeform 62"/>
              <p:cNvSpPr/>
              <p:nvPr/>
            </p:nvSpPr>
            <p:spPr>
              <a:xfrm>
                <a:off x="6621480" y="1790640"/>
                <a:ext cx="1031760" cy="102888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Freeform 63"/>
              <p:cNvSpPr/>
              <p:nvPr/>
            </p:nvSpPr>
            <p:spPr>
              <a:xfrm>
                <a:off x="8083440" y="250668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Freeform 64"/>
              <p:cNvSpPr/>
              <p:nvPr/>
            </p:nvSpPr>
            <p:spPr>
              <a:xfrm>
                <a:off x="7664400" y="38160"/>
                <a:ext cx="1090800" cy="966600"/>
              </a:xfrm>
              <a:custGeom>
                <a:avLst/>
                <a:gdLst>
                  <a:gd name="textAreaLeft" fmla="*/ 0 w 1090800"/>
                  <a:gd name="textAreaRight" fmla="*/ 1090800 w 109080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Freeform 65"/>
              <p:cNvSpPr/>
              <p:nvPr/>
            </p:nvSpPr>
            <p:spPr>
              <a:xfrm rot="3318000">
                <a:off x="6566400" y="-76680"/>
                <a:ext cx="1016280" cy="126504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Freeform 66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Freeform 67"/>
              <p:cNvSpPr/>
              <p:nvPr/>
            </p:nvSpPr>
            <p:spPr>
              <a:xfrm>
                <a:off x="6870600" y="150660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Freeform 68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Freeform 69"/>
              <p:cNvSpPr/>
              <p:nvPr/>
            </p:nvSpPr>
            <p:spPr>
              <a:xfrm rot="2428800">
                <a:off x="6605640" y="2554200"/>
                <a:ext cx="1272960" cy="112104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1040"/>
                  <a:gd name="textAreaBottom" fmla="*/ 1121400 h 11210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Freeform 70"/>
              <p:cNvSpPr/>
              <p:nvPr/>
            </p:nvSpPr>
            <p:spPr>
              <a:xfrm rot="6283800">
                <a:off x="7776000" y="123084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Freeform 71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Freeform 72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custGeom>
                <a:avLst/>
                <a:gdLst>
                  <a:gd name="textAreaLeft" fmla="*/ 360 w 849600"/>
                  <a:gd name="textAreaRight" fmla="*/ 850320 w 84960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Freeform 73"/>
              <p:cNvSpPr/>
              <p:nvPr/>
            </p:nvSpPr>
            <p:spPr>
              <a:xfrm rot="6521400">
                <a:off x="8091360" y="469080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Freeform 74"/>
              <p:cNvSpPr/>
              <p:nvPr/>
            </p:nvSpPr>
            <p:spPr>
              <a:xfrm>
                <a:off x="6805440" y="410688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Freeform 75"/>
              <p:cNvSpPr/>
              <p:nvPr/>
            </p:nvSpPr>
            <p:spPr>
              <a:xfrm>
                <a:off x="6621480" y="5143680"/>
                <a:ext cx="1031760" cy="10285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520"/>
                  <a:gd name="textAreaBottom" fmla="*/ 1028880 h 102852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Freeform 76"/>
              <p:cNvSpPr/>
              <p:nvPr/>
            </p:nvSpPr>
            <p:spPr>
              <a:xfrm rot="5845200">
                <a:off x="8005680" y="573120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Freeform 77"/>
              <p:cNvSpPr/>
              <p:nvPr/>
            </p:nvSpPr>
            <p:spPr>
              <a:xfrm>
                <a:off x="7702560" y="323856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Freeform 78"/>
              <p:cNvSpPr/>
              <p:nvPr/>
            </p:nvSpPr>
            <p:spPr>
              <a:xfrm rot="3318000">
                <a:off x="6509160" y="31996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Freeform 79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Freeform 80"/>
              <p:cNvSpPr/>
              <p:nvPr/>
            </p:nvSpPr>
            <p:spPr>
              <a:xfrm>
                <a:off x="6356520" y="5068800"/>
                <a:ext cx="1374480" cy="12621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Freeform 81"/>
              <p:cNvSpPr/>
              <p:nvPr/>
            </p:nvSpPr>
            <p:spPr>
              <a:xfrm rot="6819600">
                <a:off x="6605280" y="5773320"/>
                <a:ext cx="1273320" cy="112068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Freeform 82"/>
              <p:cNvSpPr/>
              <p:nvPr/>
            </p:nvSpPr>
            <p:spPr>
              <a:xfrm rot="6283800">
                <a:off x="7280280" y="408816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8" name="Freeform 83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-360 h 1264680"/>
                  <a:gd name="textAreaBottom" fmla="*/ 1264680 h 126468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Freeform 84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85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Freeform 86"/>
              <p:cNvSpPr/>
              <p:nvPr/>
            </p:nvSpPr>
            <p:spPr>
              <a:xfrm rot="17967600">
                <a:off x="356760" y="3306960"/>
                <a:ext cx="1782720" cy="1636560"/>
              </a:xfrm>
              <a:custGeom>
                <a:avLst/>
                <a:gdLst>
                  <a:gd name="textAreaLeft" fmla="*/ 0 w 1782720"/>
                  <a:gd name="textAreaRight" fmla="*/ 1783080 w 1782720"/>
                  <a:gd name="textAreaTop" fmla="*/ 0 h 1636560"/>
                  <a:gd name="textAreaBottom" fmla="*/ 1636920 h 16365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2" name="Group 87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AutoShape 88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89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Group 90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AutoShape 91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92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Group 93"/>
              <p:cNvGrpSpPr/>
              <p:nvPr/>
            </p:nvGrpSpPr>
            <p:grpSpPr>
              <a:xfrm>
                <a:off x="154800" y="2772360"/>
                <a:ext cx="2102040" cy="2152080"/>
                <a:chOff x="154800" y="2772360"/>
                <a:chExt cx="2102040" cy="2152080"/>
              </a:xfrm>
            </p:grpSpPr>
            <p:sp>
              <p:nvSpPr>
                <p:cNvPr id="229" name="Freeform 94"/>
                <p:cNvSpPr/>
                <p:nvPr/>
              </p:nvSpPr>
              <p:spPr>
                <a:xfrm rot="17970000">
                  <a:off x="392040" y="3101040"/>
                  <a:ext cx="1627200" cy="1494360"/>
                </a:xfrm>
                <a:custGeom>
                  <a:avLst/>
                  <a:gdLst>
                    <a:gd name="textAreaLeft" fmla="*/ 0 w 1627200"/>
                    <a:gd name="textAreaRight" fmla="*/ 1627560 w 1627200"/>
                    <a:gd name="textAreaTop" fmla="*/ 0 h 1494360"/>
                    <a:gd name="textAreaBottom" fmla="*/ 1494720 h 1494360"/>
                  </a:gdLst>
                  <a:ahLst/>
                  <a:rect l="textAreaLeft" t="textAreaTop" r="textAreaRight" b="textAreaBottom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5"/>
                <p:cNvSpPr/>
                <p:nvPr/>
              </p:nvSpPr>
              <p:spPr>
                <a:xfrm rot="17970000">
                  <a:off x="560880" y="3728520"/>
                  <a:ext cx="367200" cy="1096920"/>
                </a:xfrm>
                <a:custGeom>
                  <a:avLst/>
                  <a:gdLst>
                    <a:gd name="textAreaLeft" fmla="*/ 0 w 367200"/>
                    <a:gd name="textAreaRight" fmla="*/ 367200 w 367200"/>
                    <a:gd name="textAreaTop" fmla="*/ 0 h 1096920"/>
                    <a:gd name="textAreaBottom" fmla="*/ 1097280 h 1096920"/>
                  </a:gdLst>
                  <a:ahLst/>
                  <a:rect l="textAreaLeft" t="textAreaTop" r="textAreaRight" b="textAreaBottom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96"/>
                <p:cNvSpPr/>
                <p:nvPr/>
              </p:nvSpPr>
              <p:spPr>
                <a:xfrm rot="17970000">
                  <a:off x="-2520" y="3398400"/>
                  <a:ext cx="1379520" cy="360000"/>
                </a:xfrm>
                <a:custGeom>
                  <a:avLst/>
                  <a:gdLst>
                    <a:gd name="textAreaLeft" fmla="*/ 0 w 1379520"/>
                    <a:gd name="textAreaRight" fmla="*/ 1379880 w 1379520"/>
                    <a:gd name="textAreaTop" fmla="*/ 0 h 360000"/>
                    <a:gd name="textAreaBottom" fmla="*/ 360000 h 360000"/>
                  </a:gdLst>
                  <a:ahLst/>
                  <a:rect l="textAreaLeft" t="textAreaTop" r="textAreaRight" b="textAreaBottom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97"/>
                <p:cNvSpPr/>
                <p:nvPr/>
              </p:nvSpPr>
              <p:spPr>
                <a:xfrm rot="17970000">
                  <a:off x="870840" y="3358440"/>
                  <a:ext cx="884880" cy="858600"/>
                </a:xfrm>
                <a:custGeom>
                  <a:avLst/>
                  <a:gdLst>
                    <a:gd name="textAreaLeft" fmla="*/ 0 w 884880"/>
                    <a:gd name="textAreaRight" fmla="*/ 885240 w 884880"/>
                    <a:gd name="textAreaTop" fmla="*/ 0 h 858600"/>
                    <a:gd name="textAreaBottom" fmla="*/ 858960 h 858600"/>
                  </a:gdLst>
                  <a:ahLst/>
                  <a:rect l="textAreaLeft" t="textAreaTop" r="textAreaRight" b="textAreaBottom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50000">
                      <a:srgbClr val="fdf7fa"/>
                    </a:gs>
                    <a:gs pos="100000">
                      <a:srgbClr val="f5cdd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98"/>
                <p:cNvSpPr/>
                <p:nvPr/>
              </p:nvSpPr>
              <p:spPr>
                <a:xfrm rot="17970000">
                  <a:off x="661680" y="3655440"/>
                  <a:ext cx="526680" cy="521280"/>
                </a:xfrm>
                <a:custGeom>
                  <a:avLst/>
                  <a:gdLst>
                    <a:gd name="textAreaLeft" fmla="*/ 0 w 526680"/>
                    <a:gd name="textAreaRight" fmla="*/ 527040 w 526680"/>
                    <a:gd name="textAreaTop" fmla="*/ 0 h 521280"/>
                    <a:gd name="textAreaBottom" fmla="*/ 521640 h 521280"/>
                  </a:gdLst>
                  <a:ahLst/>
                  <a:rect l="textAreaLeft" t="textAreaTop" r="textAreaRight" b="textAreaBottom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100000">
                      <a:srgbClr val="fef9f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63FC-6080-408C-A898-27A43C620BFC}" type="slidenum"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438280" y="137160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7572"/>
                </a:solidFill>
                <a:latin typeface="Arial Narrow"/>
              </a:rPr>
              <a:t>Продукты </a:t>
            </a:r>
            <a:endParaRPr b="0" lang="en-US" sz="8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33520" y="4952520"/>
            <a:ext cx="5029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Ученица   3 класса     Булихова М.                         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77" name="Picture 4" descr="C:\Program Files\Common Files\Microsoft Shared\Clipart\cagcat50\BD08911_.WMF"/>
          <p:cNvPicPr/>
          <p:nvPr/>
        </p:nvPicPr>
        <p:blipFill>
          <a:blip r:embed="rId1"/>
          <a:stretch/>
        </p:blipFill>
        <p:spPr>
          <a:xfrm>
            <a:off x="5486400" y="3581280"/>
            <a:ext cx="266688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572"/>
                </a:solidFill>
                <a:latin typeface="Arial Narrow"/>
              </a:rPr>
              <a:t>Виды продуктов 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Зачем человек употребляет пищевые  продукты ?  Пища –источник энергии. Она должна содержать все те вещества , которые  входят в состав организма человека , т.е. белки ,жиры ,углеводы ,минеральные вещества , витамины  и воду .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7572"/>
                </a:solidFill>
                <a:latin typeface="Arial Narrow"/>
              </a:rPr>
              <a:t>Виды продуктов </a:t>
            </a:r>
            <a:br>
              <a:rPr sz="4400"/>
            </a:b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Молочные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Мясные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Рыбные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Овощи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Фрукты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Хлебо –булочные изделия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82" name="Picture 4" descr="C:\Program Files\Microsoft Office\Clipart\standard\stddir2\bd08869_.wmf"/>
          <p:cNvPicPr/>
          <p:nvPr/>
        </p:nvPicPr>
        <p:blipFill>
          <a:blip r:embed="rId1"/>
          <a:stretch/>
        </p:blipFill>
        <p:spPr>
          <a:xfrm>
            <a:off x="4572000" y="1981080"/>
            <a:ext cx="289548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572"/>
                </a:solidFill>
                <a:latin typeface="Arial Narrow"/>
              </a:rPr>
              <a:t>Полезные продукты 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Рыба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Кефир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Морковь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Капуста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Яблоки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Растительное масло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Лук , чеснок и т.п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85" name="Picture 4" descr="C:\Program Files\Microsoft Office\Clipart\standard\stddir2\bd08049_.wmf"/>
          <p:cNvPicPr/>
          <p:nvPr/>
        </p:nvPicPr>
        <p:blipFill>
          <a:blip r:embed="rId1"/>
          <a:stretch/>
        </p:blipFill>
        <p:spPr>
          <a:xfrm>
            <a:off x="4343400" y="1828800"/>
            <a:ext cx="369252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572"/>
                </a:solidFill>
                <a:latin typeface="Arial Narrow"/>
              </a:rPr>
              <a:t>«Неполезные продукты»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Пепси ,фанта 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Чипсы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Жирное мясо ,сало 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Торты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Шоколадные конфеты 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«Сникерс» и др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88" name="Picture 5" descr="C:\Program Files\Microsoft Office\Clipart\standard\stddir2\bd08868_.wmf"/>
          <p:cNvPicPr/>
          <p:nvPr/>
        </p:nvPicPr>
        <p:blipFill>
          <a:blip r:embed="rId1"/>
          <a:stretch/>
        </p:blipFill>
        <p:spPr>
          <a:xfrm>
            <a:off x="5029200" y="2743200"/>
            <a:ext cx="3306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572"/>
                </a:solidFill>
                <a:latin typeface="Arial Narrow"/>
              </a:rPr>
              <a:t>Правила питания 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Не переедайте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Ешьте в одно и тоже время 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Ешьте  разнообразную пищу 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Правильно  готовьте пищу 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Мойте руки перед едой 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Соблюдайте культуру еды 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91" name="Picture 5" descr="C:\Program Files\Microsoft Office\Clipart\standard\stddir1\bd05449_.wmf"/>
          <p:cNvPicPr/>
          <p:nvPr/>
        </p:nvPicPr>
        <p:blipFill>
          <a:blip r:embed="rId1"/>
          <a:stretch/>
        </p:blipFill>
        <p:spPr>
          <a:xfrm>
            <a:off x="6451560" y="2362320"/>
            <a:ext cx="20620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07:39:01Z</dcterms:created>
  <dc:creator>Алферьева М.К.</dc:creator>
  <dc:description/>
  <dc:language>en-US</dc:language>
  <cp:lastModifiedBy>Admin</cp:lastModifiedBy>
  <dcterms:modified xsi:type="dcterms:W3CDTF">2012-02-19T05:40:25Z</dcterms:modified>
  <cp:revision>2</cp:revision>
  <dc:subject/>
  <dc:title>Продукты </dc:title>
</cp:coreProperties>
</file>