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A10-34F2-4E06-ABBA-241845D9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877-388C-43A2-9C50-C25CB227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325-54EB-4411-9631-1E299F56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D25-9D82-4C5C-9093-7FD70052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5804-F020-4641-B2C9-F68B6A22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87F-D9D8-40F3-B015-F048BD54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ADD1-3460-48E4-80CC-23350205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590E-08F5-4601-B94C-D7B1038C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5314-98AF-4A61-843C-B966D0F5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0E0B-54CF-4A83-A157-C4CCA3FB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BA1D-E7CA-49B0-A7A7-B6A5CDA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649-2F26-4CB2-8BBE-88F12047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E338-232D-47D0-8260-08CE2DA4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7F98-0E0F-4D69-8F09-BE898E6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9F3D-0339-4A5A-A9B4-D2A34075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2ECD-6249-4AC3-9352-3C7AED64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2FF7-D134-465E-B3BE-EACEC1BB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6BD4-8A52-41B8-97A0-4148D284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DCD2E-A438-4593-9B24-071A5FB9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6318A-6412-464A-9D46-5A31CD9D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18F4-698D-47B9-BEC8-0CA599EE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C1E2-0C67-4D48-AC64-3D91567F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824-A6C3-4467-B075-A5EDD0B6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2E20-30E1-4FA8-AC6A-16378546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B0DD-A516-4107-85E3-40656C5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240F3-4851-41FD-9099-409B4816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82E5-F5D3-492C-A4BC-AF0FC0FD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0247-E84D-4C5B-A8C0-F8B78745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F478-0440-461B-87B0-19680C32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B16E-B3DD-4670-9132-A16C23A9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5A492-EF6A-4C23-A698-88413DFC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34660-49B2-4762-B1A2-DDEDAB02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8FCD-02E5-4AE1-89FE-6E7B7050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776-FA6C-454E-BC6B-22EFF066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7E9B0-9FE8-4509-9BEC-DEC3F4A4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18733-3AFB-4315-84B6-518948D7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C234F-3052-4366-A581-72D6EF30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7D368-8EEA-4B20-AB15-719AD3C3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46BE-8E97-42C1-87BC-FCB10DCF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00CE-BAF7-48B4-9F72-C4E394AF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BA313-27BF-42B1-9F90-528C6007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0FCB-1B22-4EB7-B943-45048E44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3E4A-99E8-4CA8-AB8C-068BB451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B0506-ED27-49E9-9D20-7C193A8C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CFD-19DD-495E-A52B-47F05974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89759-FDC4-480A-A9F6-116EFF83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BFE6F-05A0-40A5-943F-295AC2C3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6FBF3-CD8B-4A20-A0C9-92B39BAB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DE8E4-EE52-4E99-9C2C-A72F8AC1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1C10C-3E46-4EF8-8035-AD563826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5B3FB-FE04-4284-A77B-60915105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CD3DB-8B92-471A-B69D-73C5F39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95E70-9B34-4F8F-82FB-29F0ADA7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1C3E-C558-498D-99D2-42E45B51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3CC0-D6CE-4BB8-ADAF-1D2B15F7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299-FA52-4A98-96A0-7AACFFA3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BBC52-2BAD-4046-994C-96D6190A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8CA-3BB3-44B8-B53F-E82D65C0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FD7-24C9-4109-96CB-557B4428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215-3605-4C14-A34E-1B8F8DEA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1177-D714-4BCA-8C6C-478CA91F44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DCB4-38B1-49A7-90FC-324CC399AE4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0928-1126-438A-80E5-DD4068E257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6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6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7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7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7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7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7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8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8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1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1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2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2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3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3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4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4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5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5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6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6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7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7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8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674B-C262-4846-BE7E-7AF661B34AC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A758-E55C-4961-8B26-9C34332B635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82" TargetMode="External"/><Relationship Id="rId2" Type="http://schemas.openxmlformats.org/officeDocument/2006/relationships/hyperlink" Target="http://ru.wikipedia.org/wiki/&#1055;&#1077;&#1090;&#1077;&#1088;&#1073;&#1091;&#1088;&#1075;&#1089;&#1082;&#1072;&#1103;_&#1072;&#1082;&#1072;&#1076;&#1077;&#1084;&#1080;&#1103;_&#1085;&#1072;&#1091;&#1082;" TargetMode="External"/><Relationship Id="rId3" Type="http://schemas.openxmlformats.org/officeDocument/2006/relationships/hyperlink" Target="http://ru.wikipedia.org/wiki/&#1060;&#1072;&#1081;&#1083;:Dashkova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84" TargetMode="External"/><Relationship Id="rId2" Type="http://schemas.openxmlformats.org/officeDocument/2006/relationships/hyperlink" Target="http://ru.wikipedia.org/wiki/&#1056;&#1086;&#1089;&#1089;&#1080;&#1081;&#1089;&#1082;&#1072;&#1103;_&#1072;&#1082;&#1072;&#1076;&#1077;&#1084;&#1080;&#1103;_&#1085;&#1072;&#1091;&#1082;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88;&#1080;&#1082;&#1086;&#1089;&#1086;&#1074;,_&#1040;&#1083;&#1077;&#1082;&#1089;&#1077;&#1081;_&#1040;&#1083;&#1077;&#1082;&#1089;&#1077;&#1077;&#1074;&#1080;&#1095;" TargetMode="External"/><Relationship Id="rId2" Type="http://schemas.openxmlformats.org/officeDocument/2006/relationships/hyperlink" Target="http://ru.wikipedia.org/wiki/&#1040;&#1083;&#1092;&#1105;&#1088;&#1086;&#1074;,_&#1046;&#1086;&#1088;&#1077;&#1089;_&#1048;&#1074;&#1072;&#1085;&#1086;&#1074;&#1080;&#1095;" TargetMode="External"/><Relationship Id="rId3" Type="http://schemas.openxmlformats.org/officeDocument/2006/relationships/hyperlink" Target="http://ru.wikipedia.org/wiki/&#1053;&#1080;&#1082;&#1086;&#1083;&#1072;&#1081;_&#1043;&#1077;&#1085;&#1085;&#1072;&#1076;&#1080;&#1077;&#1074;&#1080;&#1095;_&#1041;&#1072;&#1089;&#1086;&#1074;" TargetMode="External"/><Relationship Id="rId4" Type="http://schemas.openxmlformats.org/officeDocument/2006/relationships/hyperlink" Target="http://ru.wikipedia.org/wiki/&#1043;&#1080;&#1085;&#1079;&#1073;&#1091;&#1088;&#1075;,_&#1042;&#1080;&#1090;&#1072;&#1083;&#1080;&#1081;_&#1051;&#1072;&#1079;&#1072;&#1088;&#1077;&#1074;&#1080;&#1095;" TargetMode="External"/><Relationship Id="rId5" Type="http://schemas.openxmlformats.org/officeDocument/2006/relationships/hyperlink" Target="http://ru.wikipedia.org/wiki/&#1050;&#1072;&#1085;&#1090;&#1086;&#1088;&#1086;&#1074;&#1080;&#1095;,_&#1051;&#1077;&#1086;&#1085;&#1080;&#1076;_&#1042;&#1080;&#1090;&#1072;&#1083;&#1100;&#1077;&#1074;&#1080;&#1095;" TargetMode="External"/><Relationship Id="rId6" Type="http://schemas.openxmlformats.org/officeDocument/2006/relationships/hyperlink" Target="http://ru.wikipedia.org/wiki/&#1050;&#1072;&#1087;&#1080;&#1094;&#1072;,_&#1055;&#1105;&#1090;&#1088;_&#1051;&#1077;&#1086;&#1085;&#1080;&#1076;&#1086;&#1074;&#1080;&#1095;" TargetMode="External"/><Relationship Id="rId7" Type="http://schemas.openxmlformats.org/officeDocument/2006/relationships/hyperlink" Target="http://ru.wikipedia.org/wiki/&#1051;&#1077;&#1074;_&#1044;&#1072;&#1074;&#1080;&#1076;&#1086;&#1074;&#1080;&#1095;_&#1051;&#1072;&#1085;&#1076;&#1072;&#1091;" TargetMode="External"/><Relationship Id="rId8" Type="http://schemas.openxmlformats.org/officeDocument/2006/relationships/hyperlink" Target="http://ru.wikipedia.org/wiki/&#1055;&#1072;&#1074;&#1083;&#1086;&#1074;,_&#1048;&#1074;&#1072;&#1085;_&#1055;&#1077;&#1090;&#1088;&#1086;&#1074;&#1080;&#1095;" TargetMode="External"/><Relationship Id="rId9" Type="http://schemas.openxmlformats.org/officeDocument/2006/relationships/hyperlink" Target="http://ru.wikipedia.org/wiki/&#1055;&#1088;&#1086;&#1093;&#1086;&#1088;&#1086;&#1074;,_&#1040;&#1083;&#1077;&#1082;&#1089;&#1072;&#1085;&#1076;&#1088;_&#1052;&#1080;&#1093;&#1072;&#1081;&#1083;&#1086;&#1074;&#1080;&#1095;" TargetMode="External"/><Relationship Id="rId10" Type="http://schemas.openxmlformats.org/officeDocument/2006/relationships/hyperlink" Target="http://ru.wikipedia.org/wiki/&#1057;&#1072;&#1093;&#1072;&#1088;&#1086;&#1074;,_&#1040;&#1085;&#1076;&#1088;&#1077;&#1081;_&#1044;&#1084;&#1080;&#1090;&#1088;&#1080;&#1077;&#1074;&#1080;&#1095;" TargetMode="External"/><Relationship Id="rId11" Type="http://schemas.openxmlformats.org/officeDocument/2006/relationships/hyperlink" Target="http://ru.wikipedia.org/wiki/&#1057;&#1077;&#1084;&#1105;&#1085;&#1086;&#1074;,_&#1053;&#1080;&#1082;&#1086;&#1083;&#1072;&#1081;_&#1053;&#1080;&#1082;&#1086;&#1083;&#1072;&#1077;&#1074;&#1080;&#1095;" TargetMode="External"/><Relationship Id="rId12" Type="http://schemas.openxmlformats.org/officeDocument/2006/relationships/hyperlink" Target="http://ru.wikipedia.org/wiki/&#1057;&#1086;&#1083;&#1078;&#1077;&#1085;&#1080;&#1094;&#1099;&#1085;,_&#1040;&#1083;&#1077;&#1082;&#1089;&#1072;&#1085;&#1076;&#1088;_&#1048;&#1089;&#1072;&#1077;&#1074;&#1080;&#1095;" TargetMode="External"/><Relationship Id="rId13" Type="http://schemas.openxmlformats.org/officeDocument/2006/relationships/hyperlink" Target="http://ru.wikipedia.org/wiki/&#1060;&#1088;&#1072;&#1085;&#1082;,_&#1048;&#1083;&#1100;&#1103;_&#1052;&#1080;&#1093;&#1072;&#1081;&#1083;&#1086;&#1074;&#1080;&#1095;" TargetMode="External"/><Relationship Id="rId14" Type="http://schemas.openxmlformats.org/officeDocument/2006/relationships/hyperlink" Target="http://ru.wikipedia.org/wiki/&#1063;&#1077;&#1088;&#1077;&#1085;&#1082;&#1086;&#1074;,_&#1055;&#1072;&#1074;&#1077;&#1083;_&#1040;&#1083;&#1077;&#1082;&#1089;&#1077;&#1077;&#1074;&#1080;&#1095;" TargetMode="External"/><Relationship Id="rId15" Type="http://schemas.openxmlformats.org/officeDocument/2006/relationships/hyperlink" Target="http://ru.wikipedia.org/wiki/&#1052;&#1077;&#1095;&#1085;&#1080;&#1082;&#1086;&#1074;_&#1048;&#1083;&#1100;&#1103;_&#1048;&#1083;&#1100;&#1080;&#1095;" TargetMode="External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5_&#1084;&#1072;&#1088;&#1090;&#1072;" TargetMode="External"/><Relationship Id="rId2" Type="http://schemas.openxmlformats.org/officeDocument/2006/relationships/hyperlink" Target="http://ru.wikipedia.org/wiki/1930" TargetMode="External"/><Relationship Id="rId3" Type="http://schemas.openxmlformats.org/officeDocument/2006/relationships/hyperlink" Target="http://ru.wikipedia.org/wiki/&#1042;&#1080;&#1090;&#1077;&#1073;&#1089;&#1082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60;&#1080;&#1079;&#1080;&#1082;&#1072;" TargetMode="External"/><Relationship Id="rId6" Type="http://schemas.openxmlformats.org/officeDocument/2006/relationships/hyperlink" Target="http://ru.wikipedia.org/wiki/&#1051;&#1072;&#1091;&#1088;&#1077;&#1072;&#1090;" TargetMode="External"/><Relationship Id="rId7" Type="http://schemas.openxmlformats.org/officeDocument/2006/relationships/hyperlink" Target="http://ru.wikipedia.org/wiki/&#1053;&#1086;&#1073;&#1077;&#1083;&#1077;&#1074;&#1089;&#1082;&#1072;&#1103;_&#1087;&#1088;&#1077;&#1084;&#1080;&#1103;_&#1087;&#1086;_&#1092;&#1080;&#1079;&#1080;&#1082;&#1077;" TargetMode="External"/><Relationship Id="rId8" Type="http://schemas.openxmlformats.org/officeDocument/2006/relationships/hyperlink" Target="http://ru.wikipedia.org/wiki/2000" TargetMode="External"/><Relationship Id="rId9" Type="http://schemas.openxmlformats.org/officeDocument/2006/relationships/hyperlink" Target="http://ru.wikipedia.org/w/index.php?title=&#1055;&#1086;&#1083;&#1091;&#1087;&#1088;&#1086;&#1074;&#1086;&#1076;&#1085;&#1080;&#1082;&#1086;&#1074;&#1072;&#1103;_&#1075;&#1077;&#1090;&#1077;&#1088;&#1086;&#1089;&#1090;&#1088;&#1091;&#1082;&#1090;&#1091;&#1088;&#1072;&amp;action=edit&amp;redlink=1" TargetMode="External"/><Relationship Id="rId10" Type="http://schemas.openxmlformats.org/officeDocument/2006/relationships/hyperlink" Target="http://ru.wikipedia.org/w/index.php?title=&#1055;&#1086;&#1083;&#1091;&#1087;&#1088;&#1086;&#1074;&#1086;&#1076;&#1085;&#1080;&#1082;&#1086;&#1074;&#1072;&#1103;_&#1075;&#1077;&#1090;&#1077;&#1088;&#1086;&#1089;&#1090;&#1088;&#1091;&#1082;&#1090;&#1091;&#1088;&#1072;&amp;action=edit&amp;redlink=1" TargetMode="External"/><Relationship Id="rId11" Type="http://schemas.openxmlformats.org/officeDocument/2006/relationships/hyperlink" Target="http://ru.wikipedia.org/w/index.php?title=&#1054;&#1087;&#1090;&#1086;&#1101;&#1083;&#1077;&#1082;&#1090;&#1088;&#1086;&#1085;&#1085;&#1099;&#1081;_&#1082;&#1086;&#1084;&#1087;&#1086;&#1085;&#1077;&#1085;&#1090;&amp;action=edit&amp;redlink=1" TargetMode="External"/><Relationship Id="rId12" Type="http://schemas.openxmlformats.org/officeDocument/2006/relationships/hyperlink" Target="http://ru.wikipedia.org/w/index.php?title=&#1054;&#1087;&#1090;&#1086;&#1101;&#1083;&#1077;&#1082;&#1090;&#1088;&#1086;&#1085;&#1085;&#1099;&#1081;_&#1082;&#1086;&#1084;&#1087;&#1086;&#1085;&#1077;&#1085;&#1090;&amp;action=edit&amp;redlink=1" TargetMode="External"/><Relationship Id="rId13" Type="http://schemas.openxmlformats.org/officeDocument/2006/relationships/hyperlink" Target="http://ru.wikipedia.org/w/index.php?title=&#1052;&#1080;&#1082;&#1088;&#1086;&#1101;&#1083;&#1077;&#1082;&#1090;&#1088;&#1086;&#1085;&#1085;&#1099;&#1081;_&#1082;&#1086;&#1084;&#1087;&#1086;&#1085;&#1077;&#1085;&#1090;&amp;action=edit&amp;redlink=1" TargetMode="External"/><Relationship Id="rId14" Type="http://schemas.openxmlformats.org/officeDocument/2006/relationships/hyperlink" Target="http://ru.wikipedia.org/wiki/&#1040;&#1082;&#1072;&#1076;&#1077;&#1084;&#1080;&#1082;" TargetMode="External"/><Relationship Id="rId15" Type="http://schemas.openxmlformats.org/officeDocument/2006/relationships/hyperlink" Target="http://ru.wikipedia.org/wiki/&#1056;&#1040;&#1053;" TargetMode="External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Zhores_Alferov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ru.wikipedia.org/wiki/&#1048;&#1085;&#1092;&#1086;&#1088;&#1084;&#1072;&#1090;&#1080;&#1082;&#1072;" TargetMode="External"/><Relationship Id="rId4" Type="http://schemas.openxmlformats.org/officeDocument/2006/relationships/hyperlink" Target="http://ru.wikipedia.org/wiki/&#1044;&#1077;&#1087;&#1091;&#1090;&#1072;&#1090;" TargetMode="External"/><Relationship Id="rId5" Type="http://schemas.openxmlformats.org/officeDocument/2006/relationships/hyperlink" Target="http://ru.wikipedia.org/wiki/&#1043;&#1086;&#1089;&#1091;&#1076;&#1072;&#1088;&#1089;&#1090;&#1074;&#1077;&#1085;&#1085;&#1072;&#1103;_&#1076;&#1091;&#1084;&#1072;_&#1056;&#1086;&#1089;&#1089;&#1080;&#1081;&#1089;&#1082;&#1086;&#1081;_&#1060;&#1077;&#1076;&#1077;&#1088;&#1072;&#1094;&#1080;&#1080;" TargetMode="External"/><Relationship Id="rId6" Type="http://schemas.openxmlformats.org/officeDocument/2006/relationships/hyperlink" Target="http://ru.wikipedia.org/wiki/2002" TargetMode="External"/><Relationship Id="rId7" Type="http://schemas.openxmlformats.org/officeDocument/2006/relationships/hyperlink" Target="http://ru.wikipedia.org/w/index.php?title=&#1043;&#1083;&#1086;&#1073;&#1072;&#1083;&#1100;&#1085;&#1072;&#1103;_&#1101;&#1085;&#1077;&#1088;&#1075;&#1080;&#1103;_(&#1087;&#1088;&#1077;&#1084;&#1080;&#1103;)&amp;action=edit&amp;redlink=1" TargetMode="External"/><Relationship Id="rId8" Type="http://schemas.openxmlformats.org/officeDocument/2006/relationships/hyperlink" Target="http://ru.wikipedia.org/wiki/&#1043;&#1072;&#1079;&#1087;&#1088;&#1086;&#1084;" TargetMode="External"/><Relationship Id="rId9" Type="http://schemas.openxmlformats.org/officeDocument/2006/relationships/hyperlink" Target="http://ru.wikipedia.org/wiki/&#1045;&#1069;&#1057;_&#1056;&#1086;&#1089;&#1089;&#1080;&#1080;" TargetMode="External"/><Relationship Id="rId10" Type="http://schemas.openxmlformats.org/officeDocument/2006/relationships/hyperlink" Target="http://ru.wikipedia.org/wiki/&#1070;&#1050;&#1054;&#1057;" TargetMode="External"/><Relationship Id="rId11" Type="http://schemas.openxmlformats.org/officeDocument/2006/relationships/hyperlink" Target="http://ru.wikipedia.org/wiki/&#1057;&#1091;&#1088;&#1075;&#1091;&#1090;&#1085;&#1077;&#1092;&#1090;&#1077;&#1075;&#1072;&#1079;" TargetMode="External"/><Relationship Id="rId12" Type="http://schemas.openxmlformats.org/officeDocument/2006/relationships/hyperlink" Target="http://ru.wikipedia.org/wiki/2005" TargetMode="External"/><Relationship Id="rId13" Type="http://schemas.openxmlformats.org/officeDocument/2006/relationships/hyperlink" Target="http://ru.wikipedia.org/wiki/2006" TargetMode="External"/><Relationship Id="rId14" Type="http://schemas.openxmlformats.org/officeDocument/2006/relationships/hyperlink" Target="http://ru.wikipedia.org/w/index.php?title=&#1052;&#1077;&#1078;&#1076;&#1091;&#1085;&#1072;&#1088;&#1086;&#1076;&#1085;&#1099;&#1081;_&#1082;&#1086;&#1084;&#1080;&#1090;&#1077;&#1090;_&#1087;&#1086;_&#1087;&#1088;&#1080;&#1089;&#1091;&#1078;&#1076;&#1077;&#1085;&#1080;&#1102;_&#1087;&#1088;&#1077;&#1084;&#1080;&#1080;&amp;action=edit&amp;redlink=1" TargetMode="External"/><Relationship Id="rId15" Type="http://schemas.openxmlformats.org/officeDocument/2006/relationships/hyperlink" Target="http://ru.wikipedia.org/w/index.php?title=&#1056;&#1077;&#1082;&#1090;&#1086;&#1088;-&#1086;&#1088;&#1075;&#1072;&#1085;&#1080;&#1079;&#1072;&#1090;&#1086;&#1088;&amp;action=edit&amp;redlink=1" TargetMode="External"/><Relationship Id="rId16" Type="http://schemas.openxmlformats.org/officeDocument/2006/relationships/hyperlink" Target="http://ru.wikipedia.org/wiki/&#1040;&#1060;&#1058;&#1059;" TargetMode="External"/><Relationship Id="rId17" Type="http://schemas.openxmlformats.org/officeDocument/2006/relationships/hyperlink" Target="http://ru.wikipedia.org/wiki/&#1040;&#1082;&#1072;&#1076;&#1077;&#1084;&#1080;&#1103;_&#1085;&#1072;&#1091;&#1082;_&#1040;&#1079;&#1077;&#1088;&#1073;&#1072;&#1081;&#1076;&#1078;&#1072;&#1085;&#1072;" TargetMode="External"/><Relationship Id="rId1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_&#1080;&#1102;&#1083;&#1103;" TargetMode="External"/><Relationship Id="rId2" Type="http://schemas.openxmlformats.org/officeDocument/2006/relationships/hyperlink" Target="http://ru.wikipedia.org/wiki/1894" TargetMode="External"/><Relationship Id="rId3" Type="http://schemas.openxmlformats.org/officeDocument/2006/relationships/hyperlink" Target="http://ru.wikipedia.org/wiki/&#1050;&#1088;&#1086;&#1085;&#1096;&#1090;&#1072;&#1076;&#1090;" TargetMode="External"/><Relationship Id="rId4" Type="http://schemas.openxmlformats.org/officeDocument/2006/relationships/hyperlink" Target="http://ru.wikipedia.org/wiki/8_&#1072;&#1087;&#1088;&#1077;&#1083;&#1103;" TargetMode="External"/><Relationship Id="rId5" Type="http://schemas.openxmlformats.org/officeDocument/2006/relationships/hyperlink" Target="http://ru.wikipedia.org/wiki/1984" TargetMode="External"/><Relationship Id="rId6" Type="http://schemas.openxmlformats.org/officeDocument/2006/relationships/hyperlink" Target="http://ru.wikipedia.org/wiki/&#1052;&#1086;&#1089;&#1082;&#1074;&#1072;" TargetMode="External"/><Relationship Id="rId7" Type="http://schemas.openxmlformats.org/officeDocument/2006/relationships/hyperlink" Target="http://ru.wikipedia.org/wiki/1939" TargetMode="External"/><Relationship Id="rId8" Type="http://schemas.openxmlformats.org/officeDocument/2006/relationships/hyperlink" Target="http://ru.wikipedia.org/wiki/1957" TargetMode="External"/><Relationship Id="rId9" Type="http://schemas.openxmlformats.org/officeDocument/2006/relationships/hyperlink" Target="http://ru.wikipedia.org/wiki/&#1043;&#1077;&#1088;&#1086;&#1081;_&#1057;&#1086;&#1094;&#1080;&#1072;&#1083;&#1080;&#1089;&#1090;&#1080;&#1095;&#1077;&#1089;&#1082;&#1086;&#1075;&#1086;_&#1058;&#1088;&#1091;&#1076;&#1072;" TargetMode="External"/><Relationship Id="rId10" Type="http://schemas.openxmlformats.org/officeDocument/2006/relationships/hyperlink" Target="http://ru.wikipedia.org/wiki/1945" TargetMode="External"/><Relationship Id="rId11" Type="http://schemas.openxmlformats.org/officeDocument/2006/relationships/hyperlink" Target="http://ru.wikipedia.org/wiki/1974" TargetMode="External"/><Relationship Id="rId12" Type="http://schemas.openxmlformats.org/officeDocument/2006/relationships/hyperlink" Target="http://ru.wikipedia.org/wiki/&#1053;&#1086;&#1073;&#1077;&#1083;&#1077;&#1074;&#1089;&#1082;&#1072;&#1103;_&#1087;&#1088;&#1077;&#1084;&#1080;&#1103;" TargetMode="External"/><Relationship Id="rId13" Type="http://schemas.openxmlformats.org/officeDocument/2006/relationships/hyperlink" Target="http://ru.wikipedia.org/wiki/1978" TargetMode="External"/><Relationship Id="rId14" Type="http://schemas.openxmlformats.org/officeDocument/2006/relationships/hyperlink" Target="http://ru.wikipedia.org/wiki/&#1057;&#1090;&#1072;&#1083;&#1080;&#1085;&#1089;&#1082;&#1072;&#1103;_&#1087;&#1088;&#1077;&#1084;&#1080;&#1103;" TargetMode="External"/><Relationship Id="rId15" Type="http://schemas.openxmlformats.org/officeDocument/2006/relationships/hyperlink" Target="http://ru.wikipedia.org/wiki/1941" TargetMode="External"/><Relationship Id="rId16" Type="http://schemas.openxmlformats.org/officeDocument/2006/relationships/hyperlink" Target="http://ru.wikipedia.org/wiki/1943" TargetMode="External"/><Relationship Id="rId17" Type="http://schemas.openxmlformats.org/officeDocument/2006/relationships/hyperlink" Target="http://ru.wikipedia.org/wiki/&#1041;&#1086;&#1083;&#1100;&#1096;&#1072;&#1103;_&#1079;&#1086;&#1083;&#1086;&#1090;&#1072;&#1103;_&#1084;&#1077;&#1076;&#1072;&#1083;&#1100;_&#1080;&#1084;&#1077;&#1085;&#1080;_&#1052;.&#1042;.&#1051;&#1086;&#1084;&#1086;&#1085;&#1086;&#1089;&#1086;&#1074;&#1072;" TargetMode="External"/><Relationship Id="rId18" Type="http://schemas.openxmlformats.org/officeDocument/2006/relationships/hyperlink" Target="http://ru.wikipedia.org/wiki/1959" TargetMode="External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2_&#1103;&#1085;&#1074;&#1072;&#1088;&#1103;" TargetMode="External"/><Relationship Id="rId2" Type="http://schemas.openxmlformats.org/officeDocument/2006/relationships/hyperlink" Target="http://ru.wikipedia.org/wiki/1908_&#1075;&#1086;&#1076;" TargetMode="External"/><Relationship Id="rId3" Type="http://schemas.openxmlformats.org/officeDocument/2006/relationships/hyperlink" Target="http://ru.wikipedia.org/wiki/&#1041;&#1072;&#1082;&#1091;" TargetMode="External"/><Relationship Id="rId4" Type="http://schemas.openxmlformats.org/officeDocument/2006/relationships/hyperlink" Target="http://ru.wikipedia.org/wiki/1_&#1072;&#1087;&#1088;&#1077;&#1083;&#1103;" TargetMode="External"/><Relationship Id="rId5" Type="http://schemas.openxmlformats.org/officeDocument/2006/relationships/hyperlink" Target="http://ru.wikipedia.org/wiki/1968" TargetMode="External"/><Relationship Id="rId6" Type="http://schemas.openxmlformats.org/officeDocument/2006/relationships/hyperlink" Target="http://ru.wikipedia.org/wiki/&#1052;&#1086;&#1089;&#1082;&#1074;&#1072;" TargetMode="External"/><Relationship Id="rId7" Type="http://schemas.openxmlformats.org/officeDocument/2006/relationships/hyperlink" Target="http://ru.wikipedia.org/wiki/&#1057;&#1057;&#1057;&#1056;" TargetMode="External"/><Relationship Id="rId8" Type="http://schemas.openxmlformats.org/officeDocument/2006/relationships/hyperlink" Target="http://ru.wikipedia.org/wiki/&#1060;&#1080;&#1079;&#1080;&#1082;&#1072;" TargetMode="External"/><Relationship Id="rId9" Type="http://schemas.openxmlformats.org/officeDocument/2006/relationships/hyperlink" Target="http://ru.wikipedia.org/wiki/&#1040;&#1082;&#1072;&#1076;&#1077;&#1084;&#1080;&#1082;" TargetMode="External"/><Relationship Id="rId10" Type="http://schemas.openxmlformats.org/officeDocument/2006/relationships/hyperlink" Target="http://ru.wikipedia.org/wiki/&#1040;&#1053;_&#1057;&#1057;&#1057;&#1056;" TargetMode="External"/><Relationship Id="rId11" Type="http://schemas.openxmlformats.org/officeDocument/2006/relationships/hyperlink" Target="http://ru.wikipedia.org/wiki/1946" TargetMode="External"/><Relationship Id="rId12" Type="http://schemas.openxmlformats.org/officeDocument/2006/relationships/hyperlink" Target="http://ru.wikipedia.org/wiki/&#1053;&#1086;&#1073;&#1077;&#1083;&#1077;&#1074;&#1089;&#1082;&#1072;&#1103;_&#1087;&#1088;&#1077;&#1084;&#1080;&#1103;_&#1087;&#1086;_&#1092;&#1080;&#1079;&#1080;&#1082;&#1077;" TargetMode="External"/><Relationship Id="rId13" Type="http://schemas.openxmlformats.org/officeDocument/2006/relationships/hyperlink" Target="http://ru.wikipedia.org/wiki/&#1051;&#1077;&#1085;&#1080;&#1085;&#1089;&#1082;&#1072;&#1103;_&#1087;&#1088;&#1077;&#1084;&#1080;&#1103;" TargetMode="External"/><Relationship Id="rId14" Type="http://schemas.openxmlformats.org/officeDocument/2006/relationships/hyperlink" Target="http://ru.wikipedia.org/wiki/&#1057;&#1090;&#1072;&#1083;&#1080;&#1085;&#1089;&#1082;&#1072;&#1103;_&#1087;&#1088;&#1077;&#1084;&#1080;&#1103;" TargetMode="External"/><Relationship Id="rId15" Type="http://schemas.openxmlformats.org/officeDocument/2006/relationships/hyperlink" Target="http://ru.wikipedia.org/wiki/&#1043;&#1077;&#1088;&#1086;&#1081;_&#1057;&#1086;&#1094;&#1080;&#1072;&#1083;&#1080;&#1089;&#1090;&#1080;&#1095;&#1077;&#1089;&#1082;&#1086;&#1075;&#1086;_&#1058;&#1088;&#1091;&#1076;&#1072;" TargetMode="External"/><Relationship Id="rId16" Type="http://schemas.openxmlformats.org/officeDocument/2006/relationships/hyperlink" Target="http://ru.wikipedia.org/wiki/&#1044;&#1072;&#1085;&#1080;&#1103;" TargetMode="External"/><Relationship Id="rId17" Type="http://schemas.openxmlformats.org/officeDocument/2006/relationships/hyperlink" Target="http://ru.wikipedia.org/wiki/&#1053;&#1080;&#1076;&#1077;&#1088;&#1083;&#1072;&#1085;&#1076;&#1099;" TargetMode="External"/><Relationship Id="rId18" Type="http://schemas.openxmlformats.org/officeDocument/2006/relationships/hyperlink" Target="http://ru.wikipedia.org/w/index.php?title=&#1040;&#1084;&#1077;&#1088;&#1080;&#1082;&#1072;&#1085;&#1089;&#1082;&#1072;&#1103;_&#1072;&#1082;&#1072;&#1076;&#1077;&#1084;&#1080;&#1103;_&#1085;&#1072;&#1091;&#1082;_&#1080;_&#1080;&#1089;&#1082;&#1091;&#1089;&#1089;&#1090;&#1074;&amp;action=edit&amp;redlink=1" TargetMode="External"/><Relationship Id="rId19" Type="http://schemas.openxmlformats.org/officeDocument/2006/relationships/hyperlink" Target="http://ru.wikipedia.org/wiki/&#1057;&#1064;&#1040;" TargetMode="External"/><Relationship Id="rId20" Type="http://schemas.openxmlformats.org/officeDocument/2006/relationships/hyperlink" Target="http://ru.wikipedia.org/w/index.php?title=&#1060;&#1088;&#1072;&#1085;&#1094;&#1091;&#1079;&#1089;&#1082;&#1086;&#1077;_&#1092;&#1080;&#1079;&#1080;&#1095;&#1077;&#1089;&#1082;&#1086;&#1077;_&#1086;&#1073;&#1097;&#1077;&#1089;&#1090;&#1074;&#1086;&amp;action=edit&amp;redlink=1" TargetMode="External"/><Relationship Id="rId21" Type="http://schemas.openxmlformats.org/officeDocument/2006/relationships/hyperlink" Target="http://ru.wikipedia.org/w/index.php?title=&#1051;&#1086;&#1085;&#1076;&#1086;&#1085;&#1089;&#1082;&#1086;&#1077;_&#1092;&#1080;&#1079;&#1080;&#1095;&#1077;&#1089;&#1082;&#1086;&#1077;_&#1086;&#1073;&#1097;&#1077;&#1089;&#1090;&#1074;&#1086;&amp;action=edit&amp;redlink=1" TargetMode="External"/><Relationship Id="rId22" Type="http://schemas.openxmlformats.org/officeDocument/2006/relationships/hyperlink" Target="http://ru.wikipedia.org/wiki/&#1051;&#1086;&#1085;&#1076;&#1086;&#1085;&#1089;&#1082;&#1086;&#1077;_&#1082;&#1086;&#1088;&#1086;&#1083;&#1077;&#1074;&#1089;&#1082;&#1086;&#1077;_&#1086;&#1073;&#1097;&#1077;&#1089;&#1090;&#1074;&#1086;" TargetMode="External"/><Relationship Id="rId23" Type="http://schemas.openxmlformats.org/officeDocument/2006/relationships/hyperlink" Target="http://ru.wikipedia.org/wiki/&#1060;&#1072;&#1081;&#1083;:Landau3.jpg" TargetMode="External"/><Relationship Id="rId24" Type="http://schemas.openxmlformats.org/officeDocument/2006/relationships/image" Target="../media/image19.jpeg"/><Relationship Id="rId2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7;&#1072;&#1074;&#1072;&#1088;&#1080;&#1094;&#1082;&#1080;&#1081;_&#1053;.&#1042;.&amp;action=edit&amp;redlink=1" TargetMode="External"/><Relationship Id="rId2" Type="http://schemas.openxmlformats.org/officeDocument/2006/relationships/hyperlink" Target="http://ru.wikipedia.org/wiki/&#1058;&#1077;&#1086;&#1088;&#1080;&#1103;_&#1043;&#1080;&#1085;&#1079;&#1073;&#1091;&#1088;&#1075;&#1072;_&#8212;_&#1051;&#1072;&#1085;&#1076;&#1072;&#1091;" TargetMode="External"/><Relationship Id="rId3" Type="http://schemas.openxmlformats.org/officeDocument/2006/relationships/hyperlink" Target="http://ru.wikipedia.org/wiki/&#1057;&#1074;&#1077;&#1088;&#1093;&#1087;&#1088;&#1086;&#1074;&#1086;&#1076;&#1080;&#1084;&#1086;&#1089;&#1090;&#1100;" TargetMode="External"/><Relationship Id="rId4" Type="http://schemas.openxmlformats.org/officeDocument/2006/relationships/hyperlink" Target="http://ru.wikipedia.org/w/index.php?title=&#1057;&#1074;&#1077;&#1088;&#1093;&#1087;&#1088;&#1086;&#1074;&#1086;&#1076;&#1085;&#1080;&#1082;_&#1074;&#1090;&#1086;&#1088;&#1086;&#1075;&#1086;_&#1090;&#1080;&#1087;&#1072;&amp;action=edit&amp;redlink=1" TargetMode="External"/><Relationship Id="rId5" Type="http://schemas.openxmlformats.org/officeDocument/2006/relationships/hyperlink" Target="http://ru.wikipedia.org/wiki/&#1052;&#1072;&#1075;&#1085;&#1080;&#1090;&#1085;&#1086;&#1077;_&#1087;&#1086;&#1083;&#1077;" TargetMode="External"/><Relationship Id="rId6" Type="http://schemas.openxmlformats.org/officeDocument/2006/relationships/hyperlink" Target="http://ru.wikipedia.org/wiki/&#1058;&#1077;&#1089;&#1083;&#1072;" TargetMode="External"/><Relationship Id="rId7" Type="http://schemas.openxmlformats.org/officeDocument/2006/relationships/hyperlink" Target="http://ru.wikipedia.org/wiki/&#1043;&#1080;&#1085;&#1079;&#1073;&#1091;&#1088;&#1075;,_&#1042;&#1080;&#1090;&#1072;&#1083;&#1080;&#1081;_&#1051;&#1072;&#1079;&#1072;&#1088;&#1077;&#1074;&#1080;&#1095;" TargetMode="External"/><Relationship Id="rId8" Type="http://schemas.openxmlformats.org/officeDocument/2006/relationships/hyperlink" Target="http://ru.wikipedia.org/wiki/&#1069;&#1083;&#1077;&#1082;&#1090;&#1088;&#1080;&#1095;&#1077;&#1089;&#1082;&#1080;&#1081;_&#1090;&#1086;&#1082;" TargetMode="External"/><Relationship Id="rId9" Type="http://schemas.openxmlformats.org/officeDocument/2006/relationships/hyperlink" Target="http://ru.wikipedia.org/wiki/&#1042;&#1086;&#1076;&#1086;&#1088;&#1086;&#1076;" TargetMode="External"/><Relationship Id="rId10" Type="http://schemas.openxmlformats.org/officeDocument/2006/relationships/hyperlink" Target="http://ru.wikipedia.org/wiki/&#1052;&#1077;&#1090;&#1072;&#1083;&#1083;&#1099;" TargetMode="External"/><Relationship Id="rId11" Type="http://schemas.openxmlformats.org/officeDocument/2006/relationships/hyperlink" Target="http://ru.wikipedia.org/wiki/&#1055;&#1083;&#1072;&#1085;&#1077;&#1090;&#1072;" TargetMode="External"/><Relationship Id="rId12" Type="http://schemas.openxmlformats.org/officeDocument/2006/relationships/hyperlink" Target="http://ru.wikipedia.org/wiki/&#1050;&#1074;&#1072;&#1085;&#1090;&#1086;&#1074;&#1072;&#1103;_&#1101;&#1083;&#1077;&#1082;&#1090;&#1088;&#1086;&#1076;&#1080;&#1085;&#1072;&#1084;&#1080;&#1082;&#1072;" TargetMode="External"/><Relationship Id="rId13" Type="http://schemas.openxmlformats.org/officeDocument/2006/relationships/hyperlink" Target="http://ru.wikipedia.org/w/index.php?title=&#1057;&#1076;&#1074;&#1080;&#1075;_&#1053;&#1072;&#1081;&#1090;&#1072;&amp;action=edit&amp;redlink=1" TargetMode="External"/><Relationship Id="rId14" Type="http://schemas.openxmlformats.org/officeDocument/2006/relationships/hyperlink" Target="http://ru.wikipedia.org/w/index.php?title=&#1057;&#1076;&#1074;&#1080;&#1075;_&#1053;&#1072;&#1081;&#1090;&#1072;&amp;action=edit&amp;redlink=1" TargetMode="External"/><Relationship Id="rId15" Type="http://schemas.openxmlformats.org/officeDocument/2006/relationships/hyperlink" Target="http://ru.wikipedia.org/wiki/&#1058;&#1077;&#1084;&#1087;&#1077;&#1088;&#1072;&#1090;&#1091;&#1088;&#1072;" TargetMode="External"/><Relationship Id="rId16" Type="http://schemas.openxmlformats.org/officeDocument/2006/relationships/hyperlink" Target="http://ru.wikipedia.org/wiki/&#1057;&#1087;&#1080;&#1085;" TargetMode="External"/><Relationship Id="rId17" Type="http://schemas.openxmlformats.org/officeDocument/2006/relationships/hyperlink" Target="http://ru.wikipedia.org/wiki/&#1054;&#1088;&#1073;&#1080;&#1090;&#1072;" TargetMode="External"/><Relationship Id="rId18" Type="http://schemas.openxmlformats.org/officeDocument/2006/relationships/hyperlink" Target="http://ru.wikipedia.org/wiki/&#1060;&#1072;&#1081;&#1083;:Abrikosov_in_a_lecture.jpg" TargetMode="External"/><Relationship Id="rId19" Type="http://schemas.openxmlformats.org/officeDocument/2006/relationships/image" Target="../media/image20.jpeg"/><Relationship Id="rId20" Type="http://schemas.openxmlformats.org/officeDocument/2006/relationships/hyperlink" Target="http://ru.wikipedia.org/wiki/&#1057;&#1074;&#1077;&#1088;&#1093;&#1090;&#1077;&#1082;&#1091;&#1095;&#1077;&#1089;&#1090;&#1100;" TargetMode="External"/><Relationship Id="rId21" Type="http://schemas.openxmlformats.org/officeDocument/2006/relationships/hyperlink" Target="http://ru.wikipedia.org/wiki/&#1044;&#1080;&#1101;&#1083;&#1077;&#1082;&#1090;&#1088;&#1080;&#1082;" TargetMode="External"/><Relationship Id="rId22" Type="http://schemas.openxmlformats.org/officeDocument/2006/relationships/hyperlink" Target="http://ru.wikipedia.org/w/index.php?title=&#1069;&#1092;&#1092;&#1077;&#1082;&#1090;_&#1050;&#1086;&#1085;&#1076;&#1086;&amp;action=edit&amp;redlink=1" TargetMode="External"/><Relationship Id="rId23" Type="http://schemas.openxmlformats.org/officeDocument/2006/relationships/hyperlink" Target="http://ru.wikipedia.org/w/index.php?title=&#1069;&#1092;&#1092;&#1077;&#1082;&#1090;_&#1050;&#1086;&#1085;&#1076;&#1086;&amp;action=edit&amp;redlink=1" TargetMode="External"/><Relationship Id="rId24" Type="http://schemas.openxmlformats.org/officeDocument/2006/relationships/hyperlink" Target="http://ru.wikipedia.org/w/index.php?title=&#1056;&#1077;&#1079;&#1086;&#1085;&#1072;&#1085;&#1089;_&#1040;&#1073;&#1088;&#1080;&#1082;&#1086;&#1089;&#1086;&#1074;&#1072;-&#1057;&#1091;&#1083;&#1072;&amp;action=edit&amp;redlink=1" TargetMode="External"/><Relationship Id="rId25" Type="http://schemas.openxmlformats.org/officeDocument/2006/relationships/hyperlink" Target="http://ru.wikipedia.org/w/index.php?title=&#1056;&#1077;&#1079;&#1086;&#1085;&#1072;&#1085;&#1089;_&#1040;&#1073;&#1088;&#1080;&#1082;&#1086;&#1089;&#1086;&#1074;&#1072;-&#1057;&#1091;&#1083;&#1072;&amp;action=edit&amp;redlink=1" TargetMode="External"/><Relationship Id="rId2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-360" y="4714920"/>
            <a:ext cx="864396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Авто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студен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гр.101</a:t>
            </a:r>
            <a:r>
              <a:rPr b="1" i="1" lang="en-US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 Нестеренко Юлия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Самошкина Екатерина,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Яровая Владисла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109 гр. </a:t>
            </a:r>
            <a:r>
              <a:rPr b="1" i="1" lang="en-US" sz="14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Савина Тать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еподаватель- </a:t>
            </a: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Кабачинова О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СПбТ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eorgi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m_245843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45007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5"/>
          <p:cNvSpPr/>
          <p:nvPr/>
        </p:nvSpPr>
        <p:spPr>
          <a:xfrm>
            <a:off x="179280" y="549360"/>
            <a:ext cx="244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 285 –лет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осн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Помимо Петра и Екатерины I, еще два человека приложили руку к созданию этого научного учреждения – Блюментрост и Шумах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Лейб-медик Лаврентий Блюментрост был важным действующим лицом в создании этого замечательного учреждения. Он был единственным из академиков первого набора, родившимся в России, хотя, конечно, корни у него были иностран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в России тогда не было не только собственных ученых, но и практически не существовало подготовленных для такой деятельност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Московская славяно-греко-латинская академия, созданная в конце XII века, готовила, в сущности, священнослужит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Академия наук создавалась на пуст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Шумахер, фактически основал библиотеку Академии на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Долгие годы Шумахер, будучи начальником канцелярии, вел дела Академии, в том числе в периоды, когда не было презид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Первоначально членами академии были только иностранные ученые, приглашенные в Петербур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В университете, начавшем деятельность с 1726г, студентов было мало (не более 30), лекции могли посещать все желающие, но их тоже было мало, так как лекции читались на латинском языке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 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Первыми академиками бы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Д.Бернулли (Швейцария, открывший в 1738г. основной закон гидродинамики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Л.Эйл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Г.В. Рихман (создавший в 1745г. один из первых электроскопов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Г.В. Крафт (разработавший калориметрию в теплоте и первые измерения по привязке и составлению карты Российской Империи 1787года)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Немцы многое сделали для становления российской науки, но в 40-е годы появились первые русские ученые, они расправили плечи и стали считать, что немцев слишком 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Первыми российскими академиками были Ададуров, Теплов, Крашенинников, Тредиаковский и Ломоно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В 1758-1765гг руководил университетом М.В. Ломоносов.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ихаил Васильевич Ломон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297240" cy="46083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4"/>
          <p:cNvSpPr/>
          <p:nvPr/>
        </p:nvSpPr>
        <p:spPr>
          <a:xfrm>
            <a:off x="3492360" y="1667520"/>
            <a:ext cx="565164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179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Первый русский ученый-естествоиспытатель мирового значения,химик и физик, основоположник физической химии, поэт, заложивший основы современного русского литературного языка, художник, историк, поборник развития отечественного просвещения, науки и экономики, основоположник молекулярно-кинетиеской теории, науки о стек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Разработал проект Московского государственного университета, впоследствии названного в его ч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Открыл наличие атмосферы у Вене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826920" y="40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иха́йло Васи́льевич Ломоно́сов (8(19) ноября 1711, деревня Денисовка (ныне Ломоносово ),Россия-15апреля 1765, Санкт-Петербург, Российская Импер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000" y="428760"/>
            <a:ext cx="821844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Первая русская химическая лаборатория, устроенная М.В. Ломоносовым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при Санкт-Петербургской Академии наук в 1748 г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532908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В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1756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году Ломоносов отстаивает против Миллера права низшего русского сословия на образование в гимназии и университ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В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1759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году он занят устройством гимназии и составлением устава для неё и университета при Академии, причём опять всеми силами отстаивает права низших сословий на образование, возражая на раздававшиеся вокруг него голоса: «куда с учеными людьми?». Учёные люди — доказывает Ломоносов, — нужны «для Сибири, для горных дел, фабрик, сохранения народа, архитектуры, правосудия, исправления нравов, купечества, единства чистые веры, земледельства и предзнания погод, военного дела, хода севером и сообщения с ориенто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В то же время идут занятия Ломоносова по Географическому Департаменту; под влиянием его сочинения «О северном ходу в Ост-Индию Сибирским океаном» в 1764году  снаряжается экспедиция в Сибир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Императрица Екатерина II у М.В.Ломоно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581280" cy="452592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4"/>
          <p:cNvSpPr/>
          <p:nvPr/>
        </p:nvSpPr>
        <p:spPr>
          <a:xfrm>
            <a:off x="250920" y="1628640"/>
            <a:ext cx="500364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Незадолго до смерти Ломоносова посетила императрица Екатерина II, «чем подать благоволила новое Высочайшее уверение о истинном люблении и попечении своем о науках и художествах в отечеств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(«Санкт-Петербургские Ведомости», 176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В конце жизни Ломоносов был избран почетным членом Стокгольмской и Болонской академий на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Среди этих неустанных трудов Ломоносов умирает, 4апреля 1765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Он похоронен   в Александро-Невской лав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"/>
          <p:cNvPicPr/>
          <p:nvPr/>
        </p:nvPicPr>
        <p:blipFill>
          <a:blip r:embed="rId2"/>
          <a:stretch/>
        </p:blipFill>
        <p:spPr>
          <a:xfrm>
            <a:off x="2700360" y="5734080"/>
            <a:ext cx="172728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1726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г при открывшейся Петербургской Академии наук организуется астрономическая обсерватория на Васильевском острове в 3-х этажном здании Академии наук по идее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етра 1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который сам заказал в 1724г для ее инструмент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   Первым академиком астрономии был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Жозеф Никола ДЕЛИЛЬ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приглашенный из Франции. Он заведовал астрономической обсерваторией. В помощь ему экстраординарным профессором был назначен немецкий ученый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Гольфрид Гейнзиус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(1709-1790), читавший публичные лекции.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елиль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подготовил национальные научные кадры и вернулся во Францию в 1747г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   По прибытию в Петербург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елиль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стал директором  обсерватории, приступил к наблюдению затмений спутников Юпитера и составлению точных эфемерид, служащих для нахождения долгот. В различные пункты страны были направлены экспедиции для определения астропунктов (точки на Земле с известными широтами и долготами и измеренным азимутом на какие либо далекие предметы). Руководя экспедициями, он обобщал результаты. разработал специальную картографическую проекцию (проекция Делиля). При АН в 1735г создал Географический департамент, которым сам руководил. Результатом деятельности стал "Атлас Российский", изданный в 1745г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   С 1751г профессором астрономии стал академик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.И. Попов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а упражнениями со студентами занимался преподаватель Морской академии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А.Д. Красильников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   Так как обсерватория при АН стала не устраивать, то в 1760г была построенановая обсерватор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-714240" y="0"/>
            <a:ext cx="1047564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56800" y="428760"/>
            <a:ext cx="858996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Российская академия наук учреждена по распоряжению императора Петра I. Указом правительствующего Сен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4500360" y="333360"/>
            <a:ext cx="4392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24 января (4 февраля) по инициативе и проекту М.В. Ломоносова на основании указа императрицы Елизаветы открыт в Москве.(прав. 1741-1761). Университет был сперва возле Воскресенских ворот, затем в 1786-1793гг построен по проекту М.Ф. Казакова на углу Большой Никитской ул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Moskau_Uni"/>
          <p:cNvPicPr/>
          <p:nvPr/>
        </p:nvPicPr>
        <p:blipFill>
          <a:blip r:embed="rId1"/>
          <a:stretch/>
        </p:blipFill>
        <p:spPr>
          <a:xfrm>
            <a:off x="250920" y="476280"/>
            <a:ext cx="4465440" cy="33494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24000" y="450864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С 1826г имеет кафедру астрономии, созданную Д.М. Перевощиковым, который в 1831г создает и астрономическую обсерваторию. А.С. Пушкин писал о значении М.В. Ломоносова для России: «Он создал наш первый университет, точнее говоря, он сам был нашим первым университетом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5724360" cy="26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782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Дашкова  была назначена председательницей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етербургской академии искусства и наук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180px-Dashkov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836640"/>
            <a:ext cx="34304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2700000" y="260280"/>
            <a:ext cx="598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 её предложению была открыта Российская академия (21 окт. 1783 г.), имевшая одною из главных целей усовершенствование русского языка.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784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она стала первым директором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Российской академии наук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которая была основана по её ходатай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катерина Романовна Воронцова-Дашкова стала первой женщиной в мире, которая управляла академией на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31-029"/>
          <p:cNvPicPr/>
          <p:nvPr/>
        </p:nvPicPr>
        <p:blipFill>
          <a:blip r:embed="rId3"/>
          <a:stretch/>
        </p:blipFill>
        <p:spPr>
          <a:xfrm>
            <a:off x="324000" y="404640"/>
            <a:ext cx="2457360" cy="27352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0" y="4653000"/>
            <a:ext cx="8893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о назначении директором академии, Дашкова, в речи своей, выражала уверенность, что науки не будут составлять монополию академии, но "присвоены будучи всему отечеству и вкоренившись, процветать будут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924— Академия наук ССС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936— АН СССР переезжает в Москв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Создание отделений по России, академий в республиках (c 1991 самостоятельные академ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991—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Российская академия наук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Воссоздана Указом Президента Российской Федерации от 21ноября 1991 года как высшее научное учреждение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 8декабря 2006 года в силу вступили новые поправки к закону №127-ФЗ «О науке и государственной научно-технической политике» в соответствии с которым президента РАН по-прежнему выбирают академики, но утверждает— президент страны; устав академии, как и президентов отраслевых академий,— правительство. За правительством закрепляется право устанавливать число академиков и членкоров РАН, а также размеры их окладов, хотя и по представлению общего собрания академ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Она воссоздана Указом Президента Российской Федерации от 21 ноября 1991 года как высшее научное учреждение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Придавая большое значение развитию фундаментальной науки как основы экономического, социального и культурного развития России, постановля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1. Восстановить Российскую академию наук как высшее научное учреждение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2. Установить, что Российская академия наук является общероссийской самоуправляемой организацией, действующей на основании законодательства РСФСР и собственного устава. Членами Российской академии наук считать с их согласия всех членов Академии наук СССР с сохранением званий действительных членов и членов-корреспондентов, а также членов Российской академии наук, избираемых на основе Указа Президиума Верховного Совета РСФСР от 24 января 1990 г. "Об учреждении Академии наук Российской Федерации" и постановления Верховного Совета РСФСР от 15 февраля 1991 г. "О дальнейшей работе по организации Российской академии наук". Российская академия наук объединяет членов Российской академии наук - действительных членов и членов-корреспондентов Академии и других научных сотрудников учреждений Академ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3. Установить, что Российская академия наук имеет в своем составе институты, лаборатории, предприятия и организации, обеспечивающие исследования по основным направлениям фундаментальной науки, включая учреждения, находящиеся в настоящее время в Академии наук СССР и расположенные на территории РСФС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Президент РСФСР Б.Н.Ельцин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2 декабря 199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360072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Новое здание Президиума Российской академии наук на Воробьёвых горах в Москв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RAN_01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7" descr="2678321"/>
          <p:cNvPicPr/>
          <p:nvPr/>
        </p:nvPicPr>
        <p:blipFill>
          <a:blip r:embed="rId1"/>
          <a:srcRect l="0" t="0" r="0" b="4044"/>
          <a:stretch/>
        </p:blipFill>
        <p:spPr>
          <a:xfrm>
            <a:off x="684360" y="404640"/>
            <a:ext cx="784836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Нобелевские лауреа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Абрикосов А. А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физика, 2003 за вклад в развитие теории сверхпроводимости и сверхтекуче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Алфёров Ж. И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физика, 2000 за открытия в области полупроводник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Басов Н. Г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физика, 1964 за создание  квантовых генераторов принципиально нового типа – мазе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Гинзбург В. Л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физика, 2003 за вклад в развитие теории сверхпроводимости и сверхтекуче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Канторович Л. В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экономика, 1975 за вклад в теорию оптимального распределения ресур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Капица П. Л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физика, 1978 за фундаментальные изобретения и открытия в области физики низких температу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Ландау Л. Д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физика, 1962 за основополагающие теории конденсированной материи, в особенности жидкого гел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Павлов И. П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медицина, 1904, первый российский нобелевский лауреат , за работу по физиологии пищеварения, благодаря которой было сформировано более ясное понимание жизненно важных аспектов этого вопро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Прохоров А. М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физика, 1964 за разработку принципа действия лазера и мазе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Сахаров А. Д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мира, 1975 за бесстрашную поддержку фундаментальных принципов мира между людь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Семенов Н. Н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химия, 195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Солженицын А. И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литература, 197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Тамм И. Е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,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Франк И. М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и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Черенков П. А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физика, 1958 за открытие и истолкование эффекта Черенко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Также нобелевским лауреатом был почетный член Петербургской АН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Мечников И. И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медицина, 1908 за исследование природы иммуните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4" descr="Einstein_template"/>
          <p:cNvPicPr/>
          <p:nvPr/>
        </p:nvPicPr>
        <p:blipFill>
          <a:blip r:embed="rId16"/>
          <a:stretch/>
        </p:blipFill>
        <p:spPr>
          <a:xfrm>
            <a:off x="539640" y="54936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700360" y="333000"/>
            <a:ext cx="6130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Жоре́с Ива́нович Алфё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р.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1"/>
              </a:rPr>
              <a:t>15 марта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2"/>
              </a:rPr>
              <a:t>1930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3"/>
              </a:rPr>
              <a:t>Витебск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 —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4"/>
              </a:rPr>
              <a:t>российский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5"/>
              </a:rPr>
              <a:t>физик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6"/>
              </a:rPr>
              <a:t>лауреат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7"/>
              </a:rPr>
              <a:t>Нобелевской премии по физике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8"/>
              </a:rPr>
              <a:t>2000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года за разработку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9"/>
              </a:rPr>
              <a:t>полупроводниковых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10"/>
              </a:rPr>
              <a:t>гетероструктур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и создание быстрых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11"/>
              </a:rPr>
              <a:t>опто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12"/>
              </a:rPr>
              <a:t>-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13"/>
              </a:rPr>
              <a:t>микроэлектронных компонентов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14"/>
              </a:rPr>
              <a:t>академик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Georgia"/>
                <a:hlinkClick r:id="rId15"/>
              </a:rPr>
              <a:t>РАН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3" descr="3065"/>
          <p:cNvPicPr/>
          <p:nvPr/>
        </p:nvPicPr>
        <p:blipFill>
          <a:blip r:embed="rId16"/>
          <a:stretch/>
        </p:blipFill>
        <p:spPr>
          <a:xfrm>
            <a:off x="179280" y="260280"/>
            <a:ext cx="2772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Calibri"/>
            </a:endParaRPr>
          </a:p>
        </p:txBody>
      </p:sp>
      <p:pic>
        <p:nvPicPr>
          <p:cNvPr id="549" name="Picture 4" descr="128px-Zhores_Alfero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2739960" cy="31687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5"/>
          <p:cNvSpPr/>
          <p:nvPr/>
        </p:nvSpPr>
        <p:spPr>
          <a:xfrm>
            <a:off x="2916360" y="333360"/>
            <a:ext cx="622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го исследование сыграло большую роль 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информатик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Депута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Госдумы РФ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являлся инициатором учреждения 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200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году премии «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Глобальная энерг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 (учередители ОАО «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Газпро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, РАО «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ЕЭС Росс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, НК «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ЮКО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 и ОАО «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Сургутнефтегаз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2005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2006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года возглавлял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Международный комитет по присуждению прем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«Глобальная энерг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0920" y="501336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ректором-организаторо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6"/>
              </a:rPr>
              <a:t>Академического физико-технологического университет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2004 г. Ж.Алферов был избран почётным членом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7"/>
              </a:rPr>
              <a:t>Национальной Академии наук Азербайджан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856800"/>
            <a:ext cx="82915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В 1724г разработан проект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А.К. Нартов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и уточнен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Петром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, которого он предлагал директором акаде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равительство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Екатерины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отклонило данный проект, хотя многое было воплощено в реальность. Главной задачей ставилось организация картографирования стран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583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Капи́ца, Пётр Леони́дович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(26 июня (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1"/>
              </a:rPr>
              <a:t>9 июля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2"/>
              </a:rPr>
              <a:t>1894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3"/>
              </a:rPr>
              <a:t>Кронштадт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—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4"/>
              </a:rPr>
              <a:t>8 апреля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5"/>
              </a:rPr>
              <a:t>1984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6"/>
              </a:rPr>
              <a:t>Москв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физик, академик (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7"/>
              </a:rPr>
              <a:t>1939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член Президиума АН СССР (с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8"/>
              </a:rPr>
              <a:t>1957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дважды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9"/>
              </a:rPr>
              <a:t>Герой Социалистического Труд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10"/>
              </a:rPr>
              <a:t>1945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11"/>
              </a:rPr>
              <a:t>1974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. Лауреат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12"/>
              </a:rPr>
              <a:t>Нобелевской премии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по физике (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13"/>
              </a:rPr>
              <a:t>1978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. Дважды лауреат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14"/>
              </a:rPr>
              <a:t>Сталинской премии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15"/>
              </a:rPr>
              <a:t>1941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16"/>
              </a:rPr>
              <a:t>1943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.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17"/>
              </a:rPr>
              <a:t>Большая золотая медаль имени М. В. Ломоносов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Calibri"/>
                <a:hlinkClick r:id="rId18"/>
              </a:rPr>
              <a:t>1959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4" name="Picture 5" descr="3032"/>
          <p:cNvPicPr/>
          <p:nvPr/>
        </p:nvPicPr>
        <p:blipFill>
          <a:blip r:embed="rId19"/>
          <a:stretch/>
        </p:blipFill>
        <p:spPr>
          <a:xfrm>
            <a:off x="6081840" y="0"/>
            <a:ext cx="3062160" cy="4105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"/>
          <p:cNvSpPr/>
          <p:nvPr/>
        </p:nvSpPr>
        <p:spPr>
          <a:xfrm>
            <a:off x="5940360" y="4391640"/>
            <a:ext cx="277200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к. Член-корреспондент по Отделению физико-математических наук (физика), академик по Отделению математических и естественных наук. Лауреат Нобелевской премии (1978 г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755640" y="602136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357360" y="785880"/>
            <a:ext cx="5786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ев Дави́дович Ланда́у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Дау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1"/>
              </a:rPr>
              <a:t>9 (22) января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2"/>
              </a:rPr>
              <a:t>1908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3"/>
              </a:rPr>
              <a:t>Баку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—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4"/>
              </a:rPr>
              <a:t>1 апреля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5"/>
              </a:rPr>
              <a:t>1968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6"/>
              </a:rPr>
              <a:t>Москв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 —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7"/>
              </a:rPr>
              <a:t>советски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8"/>
              </a:rPr>
              <a:t>физи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9"/>
              </a:rPr>
              <a:t>академи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10"/>
              </a:rPr>
              <a:t>АН СССР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(избран в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11"/>
              </a:rPr>
              <a:t>1946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. Лауреат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12"/>
              </a:rPr>
              <a:t>Нобелевско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13"/>
              </a:rPr>
              <a:t>Ленинско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 трёх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14"/>
              </a:rPr>
              <a:t>Сталинских преми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15"/>
              </a:rPr>
              <a:t>Герой Социалистического Труд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 Член академий наук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16"/>
              </a:rPr>
              <a:t>Дании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17"/>
              </a:rPr>
              <a:t>Нидерландов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18"/>
              </a:rPr>
              <a:t>Американской академии наук и искусств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19"/>
              </a:rPr>
              <a:t>СШ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)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20"/>
              </a:rPr>
              <a:t>Французского физического обществ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21"/>
              </a:rPr>
              <a:t>Лондонского физического обществ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Calibri"/>
                <a:hlinkClick r:id="rId22"/>
              </a:rPr>
              <a:t>Лондонского королевского обществ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4" descr="200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2920" y="214200"/>
            <a:ext cx="264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6877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Абрикосов совместно с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/>
              </a:rPr>
              <a:t>Заварицким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  <a:ea typeface="Arial"/>
              </a:rPr>
              <a:t> —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физиком-экспериментатором из института</a:t>
            </a: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их проблем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  <a:ea typeface="Arial"/>
              </a:rPr>
              <a:t> —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обнаружил при проверк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2"/>
              </a:rPr>
              <a:t>теории Гинзбурга-Ланда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новый класс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3"/>
              </a:rPr>
              <a:t>сверхпроводников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  <a:ea typeface="Arial"/>
              </a:rPr>
              <a:t> —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4"/>
              </a:rPr>
              <a:t>сверхпроводники второго тип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. Этот новый тип сверхпроводников, в отличие от сверхпроводников первого типа, сохраняет свои свойства даже в присутствии сильного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5"/>
              </a:rPr>
              <a:t>магнитного пол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(до 25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6"/>
              </a:rPr>
              <a:t>Т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). Абрикосов смог объяснить такие свойства, развивая рассуждения своего коллеги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7"/>
              </a:rPr>
              <a:t>Виталия Гинзбург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, образованием регулярной решетки магнитных линий, которые окружены кольцевыми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8"/>
              </a:rPr>
              <a:t>токам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. Такая структура называется Вихревой решеткой Абрикосо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Также Абрикосов занимался проблемой перехода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9"/>
              </a:rPr>
              <a:t>водород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в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0"/>
              </a:rPr>
              <a:t>металлическую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фазу внутри водородных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1"/>
              </a:rPr>
              <a:t>плане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2"/>
              </a:rPr>
              <a:t>квантовой электродинами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высоких энергий, сверхпроводимостью в высокочастотных полях и в присутствии магитных включений (при этом он открыл возможность сверхпроводимости без полосы запирания) и смог объяснить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3"/>
              </a:rPr>
              <a:t>сдвиг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4"/>
              </a:rPr>
              <a:t>Найт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при малых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5"/>
              </a:rPr>
              <a:t>температура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путём учета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6"/>
              </a:rPr>
              <a:t>спин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7"/>
              </a:rPr>
              <a:t>орбитальног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взаимодейств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4" descr="200px-Abrikosov_in_a_lecture">
            <a:hlinkClick r:id="rId18"/>
          </p:cNvPr>
          <p:cNvPicPr/>
          <p:nvPr/>
        </p:nvPicPr>
        <p:blipFill>
          <a:blip r:embed="rId19"/>
          <a:srcRect l="32795" t="18163" r="0" b="18189"/>
          <a:stretch/>
        </p:blipFill>
        <p:spPr>
          <a:xfrm>
            <a:off x="6840360" y="189000"/>
            <a:ext cx="2179800" cy="30956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6"/>
          <p:cNvSpPr/>
          <p:nvPr/>
        </p:nvSpPr>
        <p:spPr>
          <a:xfrm>
            <a:off x="468360" y="3573360"/>
            <a:ext cx="835344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работы были посвящены теории не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"/>
                <a:hlinkClick r:id="rId20"/>
              </a:rPr>
              <a:t>сверхтекуче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³He и вещества при высоких давлениях, полуметаллам и переходам металл-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"/>
                <a:hlinkClick r:id="rId21"/>
              </a:rPr>
              <a:t>диэлектр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"/>
                <a:hlinkClick r:id="rId22"/>
              </a:rPr>
              <a:t>эффекту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"/>
                <a:hlinkClick r:id="rId23"/>
              </a:rPr>
              <a:t>Конд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низких температурах (при этом он предсказал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"/>
                <a:hlinkClick r:id="rId24"/>
              </a:rPr>
              <a:t>резонанс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"/>
                <a:hlinkClick r:id="rId25"/>
              </a:rPr>
              <a:t>Абрикосова-Сул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и построению полупроводников без полосы запирания. Прочие исследования касались одномерных или квазиодномерных проводников и спиновых стёк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Aргонской национальной лаборатории он смог объяснить большинство свойств высокотемпературных сверхпроводников на основе купрата и установил в 1998 г. новый эффект (эффект линейного квантового магнитного сопротивления), который был впервые измерен ещё в 1928 г. Капицей, но никогда не рассматривался в качестве самостоятельного эфф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2003 г. он, совместно с В. Л. Гинзбургом и Э. Леггетом, получил Нобелевскую премию по физике за «основополагающие работы по теории сверхпроводников и сверхтекучих жидкосте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2987280" y="333000"/>
            <a:ext cx="5699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Основной целью деятельности Российской академии наук является организация и проведение фундаментальных исследований, направленных на получение новых знаний о законах развития природы, общества, человека и способствующих технологическому, экономическому, социальному и духовному развитию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Рисунок 2" descr="medal-ran-1.jpg"/>
          <p:cNvPicPr/>
          <p:nvPr/>
        </p:nvPicPr>
        <p:blipFill>
          <a:blip r:embed="rId1"/>
          <a:stretch/>
        </p:blipFill>
        <p:spPr>
          <a:xfrm>
            <a:off x="395280" y="549360"/>
            <a:ext cx="266400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На протяжении почти трех столетий существования Академии наук менялись ее задачи, статус и струк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Сейчас Академия построена по научно-отраслевому и территориальному принципу и включает 9 отделений РАН (по областям науки) и 3 региональных отделения РАН, а также 14 региональных научных центров РАН. В состав РАН входят многочисленные инстит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-324000" y="620640"/>
            <a:ext cx="84362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1724 год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ПРОЕКТ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Положения об учреждении Академии наук и художеств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(выдерж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eorgia"/>
              </a:rPr>
              <a:t>к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Georgia"/>
              </a:rPr>
              <a:t> расположению художеств и наук употребляются два образа здания; первый образ называется университет, второй – Академ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Университет</a:t>
            </a:r>
            <a:r>
              <a:rPr b="0" i="1" lang="ru-RU" sz="1600" spc="-1" strike="noStrike">
                <a:solidFill>
                  <a:srgbClr val="ffffff"/>
                </a:solidFill>
                <a:latin typeface="Georgia"/>
              </a:rPr>
              <a:t> есть собрание ученых людей, которые наукам высоким, яко филологии и юриспруденции (прав искусству), медицины, философии, сиречь до какого состояния оные ныне дошли, младых людей обучают.</a:t>
            </a: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  Академия</a:t>
            </a:r>
            <a:r>
              <a:rPr b="0" i="1" lang="ru-RU" sz="1600" spc="-1" strike="noStrike">
                <a:solidFill>
                  <a:srgbClr val="ffffff"/>
                </a:solidFill>
                <a:latin typeface="Georgia"/>
              </a:rPr>
              <a:t> же есть собрание ученых и искусных людей, которые не токмо сии науки в своем роде, в том градусе, в котором они ныне обретаются, знают, но и чрез новые издания оные совершить и умножить тщатся, а об учении прочих никакого попечения не име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eorgia"/>
              </a:rPr>
              <a:t>* *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eorgia"/>
              </a:rPr>
              <a:t>Хотя Академия из тех же наук и тако из тех же членов состоит, из которых и университет, однако же обои сии здания в иных государствах для множества ученых людей, из которых разные собрания сочинить можно, никакого сообщения между собою не имеют, дабы Академия, которая токмо о приведении художеств и наук в лутчее состояние старается, учением в размышлениях и разысканиях своих, отчего как профессоры в университетах, так и студенты пользу имеют, помешательства не имела, а университет некоторыми остроумными разысканиями и спекуляциями от обучения не отведен был, и тако младые люди оставлены бы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Ис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1724—  Петербургская академия наук учреждена в Санкт-Петербурге по распоряжению императора Петра I. Указом правительствующего Сената от 28 января (8февраля) 1724года. Академия основана по образцу западноевропейских академий. В отличие от них (которые автономны), РАН в большей степени зависит от госу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1747— Императорская Академия наук и худож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1803— Императорская Академия на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1836— Императорская Санкт-Петербургская Академия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1917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—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Российская академия наук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petr_pervyi"/>
          <p:cNvPicPr/>
          <p:nvPr/>
        </p:nvPicPr>
        <p:blipFill>
          <a:blip r:embed="rId1"/>
          <a:stretch/>
        </p:blipFill>
        <p:spPr>
          <a:xfrm>
            <a:off x="179280" y="0"/>
            <a:ext cx="124308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7704000" cy="58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Первое торжественное заседание Российской Академии наук в 1726 году в присутствии Екатерины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%D0%B4%D1%83+%D0%B2+%D0%BF%D1%80%D0%B8%D1%81%D1%83%D1%82%D1%81%D1%82%D0%B2%D0%B8%D0%B8+%D0%95%D0%BA%D0%B0%D1%82%D0%B5%D1%80%D0%B8%D0%BD%D1%8B+I_+1996"/>
          <p:cNvPicPr/>
          <p:nvPr/>
        </p:nvPicPr>
        <p:blipFill>
          <a:blip r:embed="rId1"/>
          <a:stretch/>
        </p:blipFill>
        <p:spPr>
          <a:xfrm>
            <a:off x="684360" y="1628640"/>
            <a:ext cx="77752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Российская академия наук – не только старейшее и крупнейшее научное учреждение России, но и родоначальница всей системы научной деятельности в стра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Возникновение первых российских обсерваторий и музеев, исследовательских лабораторий, университетов и научных обществ было связано именно с Академ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В 1725г Академии были переданы кунсткамера (первый академический музей этнографии), библиотека Летнего дворца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Петра 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затем создается химическая лаборатория и физический кабинет, механические и оптические мастерские.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   С 1728г Академия начала выпускать свой первый журнал «Комментарии Петербургской Академии». В 1728г Академия издает первый в России астрономический календарь.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   Новое здание Академии построено в 1783-1789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гг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 по проекту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Дж. Кваренги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3:53:08Z</dcterms:created>
  <dc:creator>Кабачинова О.Б.</dc:creator>
  <dc:description/>
  <dc:language>en-US</dc:language>
  <cp:lastModifiedBy>Olga B. Kaba4inova</cp:lastModifiedBy>
  <dcterms:modified xsi:type="dcterms:W3CDTF">2012-02-19T09:42:46Z</dcterms:modified>
  <cp:revision>78</cp:revision>
  <dc:subject/>
  <dc:title>Слайд 1</dc:title>
</cp:coreProperties>
</file>