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F128-D0B5-4FB1-8978-56B495FC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570B-AC0C-4425-B2CB-566CA14F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A4B5-DBB8-4014-B410-B9071303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A0D-93F0-44ED-8296-B86B40D6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9071-CD98-4E07-8A67-FD95322B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3357-2F41-4333-B869-39289435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AA83-D31C-4507-A823-B7C21EC8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AA2E-0939-45EB-90FE-049728C0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94C3-9696-4619-BF25-9E1CB4FC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E8F3-DB0B-4821-A76A-9E23272B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703D-4A06-46F9-B3E3-4319894E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5907-CB14-4C39-AE9C-19F3AB11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67D0-404E-4E04-8D0D-3ED4D560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CEBE-AB23-4447-A1E0-11020E7A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DBB0-069B-4917-964E-24F4A1CF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0A2B-EF97-47C6-A15B-2A3BB93C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D776-34B8-479A-B67F-CE653C22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F188F-1727-4A6C-AECF-C6DB97E1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0B474-39C0-47E1-ABF2-78F20A78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7E937-D7E6-427C-9D48-02A5ECFA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97ECF-9006-4E8B-BE0C-2EDDD19A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98CB8-A387-4FE3-A3DE-C4F8EE2A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259C-FDEF-4929-BF2E-5173CF2B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5AD7B-EDBB-45C0-970F-2696C603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17CE3-F1CF-4566-9B9B-E46BE8C0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2CE38-0CB8-42F2-A560-CB259AFA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7EFFD-5CD1-4B5B-90D2-16D8E6FE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77477-E4C6-48DE-B448-BF8284AE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0B09B-2D38-4D07-B129-223E88F1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BA0F0-B8BE-4524-BFDF-E30846F3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01D-9DDC-4083-8204-0B033827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47CF-A353-4D93-A2C6-FFEE8548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94FC-845B-4DD7-88EA-A35DC540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8CB1-AB99-4460-9CB8-2135B337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9645-26D2-4A95-B67B-AFEFA492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1559-1754-47F5-ACE9-C603ED72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7301-DB6D-4344-BAA8-1CC0CD2E56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1634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563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563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56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E55D-ACE1-4247-B149-B8E5612A2200}" type="slidenum">
              <a:rPr b="0" lang="ru-RU" sz="1200" spc="-1" strike="noStrike">
                <a:solidFill>
                  <a:srgbClr val="b856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Прямая соединительная линия 6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83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1634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563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563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56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47B7-02B4-4112-B14B-4BC7783439CC}" type="slidenum">
              <a:rPr b="0" lang="ru-RU" sz="1200" spc="-1" strike="noStrike">
                <a:solidFill>
                  <a:srgbClr val="b856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IMG.jpg"/>
          <p:cNvPicPr/>
          <p:nvPr/>
        </p:nvPicPr>
        <p:blipFill>
          <a:blip r:embed="rId1"/>
          <a:stretch/>
        </p:blipFill>
        <p:spPr>
          <a:xfrm>
            <a:off x="324000" y="333360"/>
            <a:ext cx="8229600" cy="56530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7"/>
          <p:cNvSpPr/>
          <p:nvPr/>
        </p:nvSpPr>
        <p:spPr>
          <a:xfrm>
            <a:off x="3643200" y="714240"/>
            <a:ext cx="492948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Franklin Gothic Medium"/>
                <a:ea typeface="Times New Roman"/>
              </a:rPr>
              <a:t>Речевое развитие – одно из главных показателей готовности ребёнка к обучению в  школ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Franklin Gothic Medium"/>
                <a:ea typeface="Times New Roman"/>
              </a:rPr>
              <a:t>Учитель-логопед Наумова Л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73100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Речь является чрезвычайно тонкой, сложной и точной формой отражения в человеческом мозгу объективной реальности и представляет собой, по выражению И.П.Павлова, «высший регулятор человеческого поведения»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Родной язык служит «активным могучим средством всестороннего развития личности ребёнка»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А.И.Сорокина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42920" y="566064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17F9-D717-4D3C-8278-61424D899237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5ffff"/>
                </a:solidFill>
                <a:latin typeface="Tahoma"/>
              </a:rPr>
              <a:t>Критерии готовности ребёнка</a:t>
            </a:r>
            <a:br>
              <a:rPr sz="4000"/>
            </a:br>
            <a:r>
              <a:rPr b="0" lang="ru-RU" sz="4000" spc="-1" strike="noStrike">
                <a:solidFill>
                  <a:srgbClr val="b5ffff"/>
                </a:solidFill>
                <a:latin typeface="Tahoma"/>
              </a:rPr>
              <a:t> к школ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0040" y="1928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Готовность к школе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физическая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равственная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сихологическая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ыслительная 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ечева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1643040"/>
            <a:ext cx="7462800" cy="450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b5ffff"/>
                </a:solidFill>
                <a:latin typeface="Franklin Gothic Medium"/>
              </a:rPr>
              <a:t>1.</a:t>
            </a:r>
            <a:r>
              <a:rPr b="0" i="1" lang="ru-RU" sz="4400" spc="-1" strike="noStrike">
                <a:solidFill>
                  <a:srgbClr val="ffffff"/>
                </a:solidFill>
                <a:latin typeface="Franklin Gothic Medium"/>
              </a:rPr>
              <a:t> коммуникативную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b5ffff"/>
                </a:solidFill>
                <a:latin typeface="Franklin Gothic Medium"/>
              </a:rPr>
              <a:t>2.</a:t>
            </a:r>
            <a:r>
              <a:rPr b="0" i="1" lang="ru-RU" sz="4400" spc="-1" strike="noStrike">
                <a:solidFill>
                  <a:srgbClr val="ffffff"/>
                </a:solidFill>
                <a:latin typeface="Franklin Gothic Medium"/>
              </a:rPr>
              <a:t> познавательную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b5ffff"/>
                </a:solidFill>
                <a:latin typeface="Franklin Gothic Medium"/>
              </a:rPr>
              <a:t>3. </a:t>
            </a:r>
            <a:r>
              <a:rPr b="0" i="1" lang="ru-RU" sz="4400" spc="-1" strike="noStrike">
                <a:solidFill>
                  <a:srgbClr val="ffffff"/>
                </a:solidFill>
                <a:latin typeface="Franklin Gothic Medium"/>
              </a:rPr>
              <a:t>регулирующую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7430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32000" y="404280"/>
            <a:ext cx="74167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5ffff"/>
                </a:solidFill>
                <a:latin typeface="Tahoma"/>
              </a:rPr>
              <a:t>Речь выполняет три функции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5" name="Picture 5" descr="kubic"/>
          <p:cNvPicPr/>
          <p:nvPr/>
        </p:nvPicPr>
        <p:blipFill>
          <a:blip r:embed="rId1"/>
          <a:stretch/>
        </p:blipFill>
        <p:spPr>
          <a:xfrm>
            <a:off x="6429240" y="3500280"/>
            <a:ext cx="2160720" cy="25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28800" y="1785600"/>
            <a:ext cx="8215200" cy="507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db8bd"/>
                </a:solidFill>
                <a:latin typeface="Franklin Gothic Medium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Franklin Gothic Medium"/>
              </a:rPr>
              <a:t>произношение полностью сформировано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0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Franklin Gothic Medium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Franklin Gothic Medium"/>
              </a:rPr>
              <a:t>словарь составляет  от  4   до  6  тысяч слов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0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Franklin Gothic Medium"/>
              </a:rPr>
              <a:t>ребёнок овладел разговорной речью,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0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Franklin Gothic Medium"/>
              </a:rPr>
              <a:t>        </a:t>
            </a:r>
            <a:r>
              <a:rPr b="0" lang="ru-RU" sz="2600" spc="-1" strike="noStrike">
                <a:solidFill>
                  <a:srgbClr val="ffffff"/>
                </a:solidFill>
                <a:latin typeface="Franklin Gothic Medium"/>
              </a:rPr>
              <a:t>диалогом и монологом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0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Franklin Gothic Medium"/>
              </a:rPr>
              <a:t>интересуется высказываниями партнёра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0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Franklin Gothic Medium"/>
              </a:rPr>
              <a:t>выражает мысль в форме неполных и полных простых предложений, коротких текстов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090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1560600" y="-6480"/>
            <a:ext cx="6419880" cy="17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 rot="10800000">
            <a:off x="2333520" y="4465440"/>
            <a:ext cx="5848560" cy="41040"/>
          </a:xfrm>
          <a:prstGeom prst="rect">
            <a:avLst/>
          </a:prstGeom>
          <a:noFill/>
          <a:ln w="0">
            <a:noFill/>
          </a:ln>
        </p:spPr>
        <p:txBody>
          <a:bodyPr tIns="-4680" bIns="-4680" anchor="b">
            <a:normAutofit/>
          </a:bodyPr>
          <a:p>
            <a:pPr algn="r">
              <a:lnSpc>
                <a:spcPct val="60000"/>
              </a:lnSpc>
              <a:spcBef>
                <a:spcPts val="26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adb8bd"/>
                </a:solidFill>
                <a:latin typeface="Franklin Gothic Medium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755640" y="328680"/>
            <a:ext cx="7315200" cy="60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D934-8F9D-48C3-A114-F43FBC44CDF1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5ffff"/>
                </a:solidFill>
                <a:latin typeface="Tahoma"/>
              </a:rPr>
              <a:t>Развитие школьно-значимых функций: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ffff"/>
                </a:solidFill>
                <a:latin typeface="Verdana"/>
              </a:rPr>
              <a:t>развитие мелких мышц руки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рука развита хорошо, ребенок уверенно владеет карандашом, ножницами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ffff"/>
                </a:solidFill>
                <a:latin typeface="Verdana"/>
              </a:rPr>
              <a:t>пространственная организация, координация движений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(умение правильно определять выше - ниже, вперед - назад, слева - справ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ffff"/>
                </a:solidFill>
                <a:latin typeface="Verdana"/>
              </a:rPr>
              <a:t>координация в системе глаз - рука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ребенок может правильно перенести в тетрадь простейший графический образ - узор, фигуру - зрительно воспринимаемый на расстоянии (например, из книг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b5ffff"/>
                </a:solidFill>
                <a:latin typeface="Arial"/>
              </a:rPr>
              <a:t>При подготовке ребёнка к обучению в школе не бойтесь обращаться к узким специалистам: логопеду и психологу.  </a:t>
            </a:r>
            <a:endParaRPr b="0" lang="en-US" sz="37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2708"/>
                </a:solidFill>
                <a:latin typeface="Arial"/>
              </a:rPr>
              <a:t>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mal"/>
          <p:cNvPicPr/>
          <p:nvPr/>
        </p:nvPicPr>
        <p:blipFill>
          <a:blip r:embed="rId1"/>
          <a:stretch/>
        </p:blipFill>
        <p:spPr>
          <a:xfrm>
            <a:off x="785880" y="4214880"/>
            <a:ext cx="266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080" y="770040"/>
            <a:ext cx="6659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14360" y="3285720"/>
            <a:ext cx="6172200" cy="335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ahoma"/>
              </a:rPr>
              <a:t>Спасибо за внимани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Рисунок 3" descr="IMG.jpg"/>
          <p:cNvPicPr/>
          <p:nvPr/>
        </p:nvPicPr>
        <p:blipFill>
          <a:blip r:embed="rId1"/>
          <a:stretch/>
        </p:blipFill>
        <p:spPr>
          <a:xfrm>
            <a:off x="285840" y="0"/>
            <a:ext cx="8643960" cy="57862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285840" y="21420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Franklin Gothic Medium"/>
              </a:rPr>
              <a:t>Не экономьте время на общении с ребёнком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6:41:54Z</dcterms:created>
  <dc:creator>Admin</dc:creator>
  <dc:description/>
  <dc:language>en-US</dc:language>
  <cp:lastModifiedBy>Admin</cp:lastModifiedBy>
  <dcterms:modified xsi:type="dcterms:W3CDTF">2012-02-19T10:38:29Z</dcterms:modified>
  <cp:revision>52</cp:revision>
  <dc:subject/>
  <dc:title>Речь – одна из главных высших психических функций человека.</dc:title>
</cp:coreProperties>
</file>