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4EE-423B-4A07-8654-AE2EBD72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F89-39BE-4DB3-9A77-2DF43C55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D2A-9AEC-4A3D-B37D-BA216208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AE0-83B8-4541-A64C-0A975ED0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DF39-9E9A-41A1-9561-F7F310D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DF1-148F-4102-8443-48210ED8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3B1-1A3F-4F75-A1F1-91ADBC7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5480-EAF4-4F3B-BA0E-9F254D3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F364-DC3E-4435-9B39-71AFC0BA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ABEE-5498-44B6-9C18-1CB7710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02CB-6A01-42BC-8AA5-85B784D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76-C2A1-4C18-85EF-8A3997E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E966-EBCA-4857-A88A-EEA7C28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23A-25E2-49D3-9BAE-1B8D393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292-4B83-4504-A66F-8E67D200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DA8A-6F4A-421D-8BF6-CE4FF3B3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8E35-B840-4A17-A4B8-DD102DB3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CB8-1E94-4AC0-B935-07BD1E1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7B9-3362-4D61-AFDA-B81BE53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AA9-2849-42B1-8C2B-FC1DE580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C55-AAD5-4F38-B0E9-5CDF507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F6F-8645-4DA1-836F-356B3AF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076-FC6C-4BA1-AA5A-A41A8DC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623-10BC-4521-998B-4DE6140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0624-D58C-494A-93A4-097CA5AD6B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1FB-46E7-441D-8B27-58D65C94E8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Сигналы SOS для взрослых: подростковый суицид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6667560" cy="375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Если замечена  склонность     к  самоубийству, следующие  рекомендации   помогут 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изменить ситуацию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Внимательно  выслушайте  решившегося  на  самоубийство  подростка. Приложите  все  усилия, чтобы понять  проблему, скрытую за  словам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Оцените  серьезность, намерений и чувств,  глубину  эмоционального  кризиса ребенк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Внимательно  отнеситесь ко  всем   даже   самым   незначительным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дам  и жалобам. Не  пренебрегайте  ничем  из  сказанног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Не  бойтесь  прямо  спросить, не  думает   ли   он   или   она   о   самоубийстве. Опыт  показывает, что  такой   вопрос   редко  приносит   вред. Часто  подросток бывает  рад  возможности  открыто  высказать  свои  проблемы. Ребенок  может почувствовать  облегчение  после  разговора  о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оубийстве, но  вскоре  опять может  вернуться  к  тем  же  мыслям. Поэтому   важно    не   оставлять   его     в одиночестве  даже  после  успешного  разговор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Поддерживайте  его  и будьте  настойчивы. Человеку  в  состоянии  душевного кризиса  нужны  строгие  и  утвердительные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казани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Убедите  его   в  том, что  он  сделал  верный  шаг, приняв  вашу  помощь. Осознание  вашей   компетентности,   заинтересованности   в   его  судьбе  и  готовности  помочь  дадут  ему  эмоциональную  опор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Следует  принять  во  внимание  и  другие  возможные  источники  помощи: друзей,   врачей, священников, к  которым  можно  обратиться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лефон дов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диный  общероссийский    телефона доверия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8-800-2000-12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стренная психологическая помощь   «Центр социально-психологической помощи семье  и детям «Семья» в г. Ульяновске»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8(8422)42-00-25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2" descr="C:\Documents and Settings\Администратор\Мои документы\Центр\Психотерапевтический центр\Зазеркалье\Фото картин\Любовь. 2001. Бумага, цветной карандаш.jpg"/>
          <p:cNvPicPr/>
          <p:nvPr/>
        </p:nvPicPr>
        <p:blipFill>
          <a:blip r:embed="rId1"/>
          <a:stretch/>
        </p:blipFill>
        <p:spPr>
          <a:xfrm>
            <a:off x="3657600" y="4800600"/>
            <a:ext cx="1728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оссия занимает одно из первых мест по числу самоубийств среди детей и подростков в мире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9 году в России покончили с собой 1379 юношей и 369 девушек в возрасте от 15 до 19 лет. Частота суицидов составляет 19-20 случаев на 100 тысяч человек подросткового населения, в мире - 7 случаев на 100 тысяч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ые мотивы суицидального поведения у детей и подростков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Переживание обиды, одиночества, отчужденности и непонимания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Действительная или мнимая утрата любви родителей, неразделенное чувство и ревнос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Переживания, связанные со смертью, разводом или уходом родителей из семьи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Чувства вины, стыда, оскорбленного самолюбия, самообвинения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Боязнь позора, насмешек или унижения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трах наказания, нежелание извиниться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Любовные неудачи, сексуальные эксцессы, беременнос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Чувство мести, злобы, протеста; угроза или вымогательство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Желание привлечь к себе внимание, вызвать сочувствие, избежать неприятных последствий, уйти от трудной ситуации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очувствие или подражание товарищам, героям книг или филь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обенности суицидального поведения у детей и подрост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остаточно адекватная оценка последствий своих суицидальных действий из-за отсутствия четкого представления что такое смерть и предвидения смертельного исх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тсутствие в этом возрасте четких различий между истинными суицидальными намерениями и демонстративно-шантажными действ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оответствие между внешним поводом и реакцией на него, т.е. «незначительность», «мимолетность», «несерьезность», с точки зрения взрослых, мотивов суицидальных попыто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следствие-«неожиданность» факта суицида для взросл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знаки по которым можно заподозрить, что подросток задумал серьезно совершить самоубий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ове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еден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туацион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56880" y="3243960"/>
            <a:ext cx="42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подросток задумал серь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22760" y="3124080"/>
            <a:ext cx="306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ловесные признак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дросток, готовящийся совершить самоубийство, часто говорит о своём душевном состоянии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ямо говорит о смерти: «Я собираюсь покончить с собой», «Я не могу так дальше жить»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косвенно намекает о своём намерении: «Я больше не буду ни для кого проблемой», «Тебе больше не придётся обо мне волноваться»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много шутит на тему самоубийства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оявляет нездоровую заинтересованность вопросами смер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веденческие признак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дросток може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раздавать другим вещи, имеющие большую личную значимость, окончательно приводить в порядок дела, мириться с давними враг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демонстрировать радикальные перемены в поведении, такие ка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в еде - есть слишком мало или слишком много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во сне - спать слишком мало или слишком много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во внешнем виде - стать неряшливым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в школьных привычках - пропускать занятия, не выполнять  домашние задания, избегать общения с одноклассниками, проявлять раздражительность, угрюмость, находиться в подавленном настроении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замкнуться от семьи и друзей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быть чрезмерно деятельным или наоборот безразличным к окружающему миру; ощущать попеременно то внезапную эйфорию, то приступы отчаяния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проявлять признаки беспомощности, безнадёжности и отчая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Ситуационные признаки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Ребенок может решиться на самоубийство, если: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  социально изолирован, чувствует себя отверженным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живёт в нестабильном окружении (серьёзный кризис в семье; алкоголизм- личная или семейная проблема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щущает себя жертвой насилия - физического, сексуального или эмоционального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  предпринимал раньше попытки самоубийств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имеет склонность к суициду вследствие того, что он совершился кем-то из друзей, знакомых или членов семьи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перенёс тяжёлую потерю (смерть кого-то из близких, развод родителей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лишком критически относится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  подростков  склонных  к  самоубийству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ны   высокая   внушаемость и  стремление   к  подражанию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этому, когда  случается  одно  самоубийство, оно становится  сигналом   к  действию  для   других,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расположенных  к  этому подрост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огда  небольшие  группы  ребят  даже  объединяются  с  целью  создания некой  «субкультуры  самоубийств»  («эпиде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оубийств среди подростков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roN</cp:lastModifiedBy>
  <dcterms:modified xsi:type="dcterms:W3CDTF">2012-02-19T19:26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