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png" ContentType="image/png"/>
  <Override PartName="/ppt/media/image9.wmf" ContentType="image/x-wm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B22B-59F3-4410-9B28-057409D4FD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B71-8A5F-4961-BEF9-DA8446FD42DC}" type="slidenum"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59F-2A75-4D50-9E4E-52D0BC11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4B6-4BAF-409D-A4ED-AA3A8C6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D68-6060-4856-9757-BCFB3440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96A-E522-4D42-8942-8DF301AA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69C5-26C8-4530-BF55-E41C2380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D93B-A10A-450F-A91E-74E85AB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9F4D-FB2A-40F5-94A8-4E1AAAC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B25-8CF8-40F2-B816-BE650B09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4814-34AE-494B-BA30-9827BD2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7AAE-5AFB-4F14-A5AB-6BB2527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1A2A-ED2F-49C0-8D96-365A6233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05-49E9-4279-8D01-B6CA3A0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AECE-C98F-458F-B68E-1ADF138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89DB-D183-4ECD-BB41-16399E4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7A01-7642-4B22-8AA4-A336C289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CF21-8917-4E1C-92DC-6B7B4714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CA33-CE24-45D0-B6DF-83A08773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62C-D580-47D3-BB93-8C60637C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BDF-FE67-4773-BB63-9F1674C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688-8318-46C8-9D15-B4DEF174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E08-C88D-4FFF-B584-8747651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F33-5125-43D6-ABD8-8F2A619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0A8-F5C0-4C9C-ABD3-8A2B483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F0F-543D-4026-87F9-F849EE5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0EDE-CE7F-4C6F-9DAE-27C3D3914D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0F4F-E106-4FD9-888C-B5A911D50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310-9313-4F0F-9034-66A82289C919}" type="datetime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B528-9E6E-4923-AF39-215441C2316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ОЛЬ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КОМПЬЮТЕРНЫХ ТЕХНОЛОГИЙ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в процессе формирования информационной компетентности учащихся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а уроках физики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Picture 7" descr="Computer"/>
          <p:cNvPicPr/>
          <p:nvPr/>
        </p:nvPicPr>
        <p:blipFill>
          <a:blip r:embed="rId2"/>
          <a:stretch/>
        </p:blipFill>
        <p:spPr>
          <a:xfrm>
            <a:off x="7356600" y="189000"/>
            <a:ext cx="1787400" cy="178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r2"/>
          <p:cNvPicPr/>
          <p:nvPr/>
        </p:nvPicPr>
        <p:blipFill>
          <a:blip r:embed="rId3"/>
          <a:stretch/>
        </p:blipFill>
        <p:spPr>
          <a:xfrm>
            <a:off x="0" y="418464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4100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-252360" y="1413000"/>
            <a:ext cx="5400720" cy="5256000"/>
          </a:xfrm>
          <a:prstGeom prst="verticalScroll">
            <a:avLst>
              <a:gd name="adj" fmla="val 1250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вышение интереса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чащегос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 предмету за счё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щей привлекательност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омпьютерной техник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 игрового момента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граниченная степен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глядности уменьшение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ремени на подготовк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 проведение Л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зможность многократного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 быстрого повторног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спроизведения работы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4067280" y="1601640"/>
            <a:ext cx="5076720" cy="5256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агаемая технологи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 навык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альной работы,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ует различны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мыслительной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и, что позволяет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деклараций о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имуществах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ктивного обучени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йти к реализации его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актике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324000" y="189000"/>
            <a:ext cx="8820000" cy="1268280"/>
          </a:xfrm>
          <a:custGeom>
            <a:avLst/>
            <a:gdLst>
              <a:gd name="textAreaLeft" fmla="*/ 2205000 w 8820000"/>
              <a:gd name="textAreaRight" fmla="*/ 6615000 w 8820000"/>
              <a:gd name="textAreaTop" fmla="*/ 158400 h 1268280"/>
              <a:gd name="textAreaBottom" fmla="*/ 1268640 h 12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99ff99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начение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971640" y="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рок решения задач с последующей компьютерной проверкой: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3203640" y="1773360"/>
            <a:ext cx="3024000" cy="141768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задани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50920" y="2060640"/>
            <a:ext cx="2233440" cy="91440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ительно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826920" y="3284640"/>
            <a:ext cx="2521080" cy="1274760"/>
          </a:xfrm>
          <a:prstGeom prst="octagon">
            <a:avLst>
              <a:gd name="adj" fmla="val 29287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ны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2556000" y="5084640"/>
            <a:ext cx="3744720" cy="1430640"/>
          </a:xfrm>
          <a:prstGeom prst="diamond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овое зада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5364000" y="3573360"/>
            <a:ext cx="273708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е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6877080" y="907920"/>
            <a:ext cx="2016000" cy="2449800"/>
          </a:xfrm>
          <a:prstGeom prst="diamond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о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 flipV="1">
            <a:off x="6156360" y="2204640"/>
            <a:ext cx="720720" cy="7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5796000" y="2997360"/>
            <a:ext cx="720720" cy="57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4427280" y="3213000"/>
            <a:ext cx="144360" cy="194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2987640" y="2997360"/>
            <a:ext cx="720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 flipV="1">
            <a:off x="2484360" y="2276640"/>
            <a:ext cx="719280" cy="7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рок решения задач с последующей компьютерной проверкой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начение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енные задания помогают учащимся быстро овладеть управлением компьютерной моделью, способствуют осознанному усвоению учебного материала и пробуждению творческой фантазии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собенно важн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, что учащиеся получают знания в процессе самостоятельной работы, так как эти знания необходимы им для получения конкретного наблюдаемого на экране компьютера результата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 таком уроке выполняет роль помощника и консультанта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удиторные компьютерные игры в системе информационной поддержки преподавания естествознания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анимации и звукового сопровождения в обучающих программах воздействуют на несколько каналов восприятия обучаемого (аудиальный, кинестетический, визуальный), что позволяет при обучении учитывать особенности каждого учащегося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ременные компьютерные технологии способны в цвете, звуке, в динамике создать игровое пространство, организовать предъявление и смену логической и наглядно-образной информации, мгновенную реакцию на каждый игровой шаг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0" y="0"/>
            <a:ext cx="4140360" cy="170028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мпьютерные слайдовы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презентаци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лекционного материала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Document"/>
          <p:cNvSpPr/>
          <p:nvPr/>
        </p:nvSpPr>
        <p:spPr>
          <a:xfrm>
            <a:off x="0" y="1773360"/>
            <a:ext cx="4356000" cy="508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обенностью разработок данного вида презентаций является наличие автоматического контроля и ограничителя времени демонстрации слайд-фильма. Это позволяет наиболее эффективно во времени сочетать устный лекционный материал с непрерывной автоматической демонстрацией слайд-фильма во время лекции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Document"/>
          <p:cNvSpPr/>
          <p:nvPr/>
        </p:nvSpPr>
        <p:spPr>
          <a:xfrm>
            <a:off x="4500720" y="1484280"/>
            <a:ext cx="4643280" cy="5373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многоуровневый пошаговый тренинг в интерактивном режиме предварительной подготовки аудитории к такой форме оперативного контроля знаний, как компьютерное тестирование Учащийся, работая на компьютере в интерактивном режиме, выбирает из полного объема сведений по заданной теме, заложенных в презентации, те, что необходимы ему для повторения материала к предстоящему тестированию в зависимости от уровня его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наний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716360" y="189000"/>
            <a:ext cx="4427640" cy="143964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мпьютерный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презентационный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блиц-тренинг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результатов проделанной работы показал, что около 93% учащихся выражают мнение о более интересном и интенсивном прохождении занятий с использованием ЦОР. Закономерно с повышением мотивации обучения возрастает и качество знаний учащихся. Несмотря на то, что методика определения качества знаний достаточно условна, оно выше для учебных групп, где занятия проводятся с использованием ИКТ образовательного  назначения по сравнению с группами, где преподавание ведется традиционными методами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о отмечено также формирование у учащихся основных компонентов информационной компетентности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95" name="Rectangle 3" descr=""/>
          <p:cNvPicPr/>
          <p:nvPr/>
        </p:nvPicPr>
        <p:blipFill>
          <a:blip r:embed="rId2"/>
          <a:stretch/>
        </p:blipFill>
        <p:spPr>
          <a:xfrm>
            <a:off x="7812000" y="5951520"/>
            <a:ext cx="1081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2209680" y="0"/>
          <a:ext cx="693432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0"/>
                    <a:ext cx="69343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Oval 3"/>
          <p:cNvSpPr/>
          <p:nvPr/>
        </p:nvSpPr>
        <p:spPr>
          <a:xfrm>
            <a:off x="0" y="2924280"/>
            <a:ext cx="5508720" cy="342900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</a:rPr>
              <a:t>Сатонина И.В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99ff33"/>
                </a:solidFill>
                <a:latin typeface="Times New Roman"/>
              </a:rPr>
              <a:t>ОУ СОШ №104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</a:rPr>
              <a:t>г.Челябинск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1219320" y="2743200"/>
          <a:ext cx="4476600" cy="391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743200"/>
                    <a:ext cx="447660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0" y="5715000"/>
          <a:ext cx="914400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71500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Freeform 4"/>
          <p:cNvSpPr/>
          <p:nvPr/>
        </p:nvSpPr>
        <p:spPr>
          <a:xfrm>
            <a:off x="7338960" y="4975200"/>
            <a:ext cx="1278000" cy="839880"/>
          </a:xfrm>
          <a:prstGeom prst="pie">
            <a:avLst/>
          </a:prstGeom>
          <a:solidFill>
            <a:srgbClr val="00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7772400" y="3200400"/>
            <a:ext cx="558720" cy="642960"/>
            <a:chOff x="7772400" y="3200400"/>
            <a:chExt cx="558720" cy="642960"/>
          </a:xfrm>
        </p:grpSpPr>
        <p:sp>
          <p:nvSpPr>
            <p:cNvPr id="104" name="Freeform 6"/>
            <p:cNvSpPr/>
            <p:nvPr/>
          </p:nvSpPr>
          <p:spPr>
            <a:xfrm>
              <a:off x="7772400" y="3200400"/>
              <a:ext cx="558720" cy="642960"/>
            </a:xfrm>
            <a:prstGeom prst="pie">
              <a:avLst/>
            </a:pr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7773840" y="3200400"/>
              <a:ext cx="453600" cy="554040"/>
            </a:xfrm>
            <a:prstGeom prst="pie">
              <a:avLst/>
            </a:pr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7772400" y="3200400"/>
              <a:ext cx="453960" cy="462240"/>
            </a:xfrm>
            <a:prstGeom prst="pie">
              <a:avLst/>
            </a:pr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7" name="Freeform 9"/>
          <p:cNvSpPr/>
          <p:nvPr/>
        </p:nvSpPr>
        <p:spPr>
          <a:xfrm>
            <a:off x="7824960" y="4149720"/>
            <a:ext cx="1023840" cy="573120"/>
          </a:xfrm>
          <a:prstGeom prst="pie">
            <a:avLst/>
          </a:prstGeom>
          <a:solidFill>
            <a:srgbClr val="ff9f7f"/>
          </a:solidFill>
          <a:ln w="12600">
            <a:solidFill>
              <a:srgbClr val="bf3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5037120" y="4425840"/>
            <a:ext cx="873000" cy="1020960"/>
          </a:xfrm>
          <a:prstGeom prst="pie">
            <a:avLst/>
          </a:prstGeom>
          <a:solidFill>
            <a:srgbClr val="ffb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5530680" y="5226120"/>
            <a:ext cx="111240" cy="129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Freeform 12"/>
          <p:cNvSpPr/>
          <p:nvPr/>
        </p:nvSpPr>
        <p:spPr>
          <a:xfrm>
            <a:off x="5514840" y="5091120"/>
            <a:ext cx="103320" cy="196920"/>
          </a:xfrm>
          <a:prstGeom prst="pie">
            <a:avLst/>
          </a:prstGeom>
          <a:noFill/>
          <a:ln w="12600">
            <a:solidFill>
              <a:srgbClr val="ff7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4971960" y="5121360"/>
            <a:ext cx="561960" cy="42372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4903920" y="4259160"/>
            <a:ext cx="1125360" cy="94320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Freeform 15"/>
          <p:cNvSpPr/>
          <p:nvPr/>
        </p:nvSpPr>
        <p:spPr>
          <a:xfrm>
            <a:off x="5770440" y="5002200"/>
            <a:ext cx="163800" cy="17136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Freeform 16"/>
          <p:cNvSpPr/>
          <p:nvPr/>
        </p:nvSpPr>
        <p:spPr>
          <a:xfrm>
            <a:off x="6232680" y="4532400"/>
            <a:ext cx="966600" cy="1201680"/>
          </a:xfrm>
          <a:prstGeom prst="pie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6172200" y="4495680"/>
            <a:ext cx="990720" cy="101628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Freeform 18"/>
          <p:cNvSpPr/>
          <p:nvPr/>
        </p:nvSpPr>
        <p:spPr>
          <a:xfrm>
            <a:off x="6997680" y="4900680"/>
            <a:ext cx="255600" cy="30456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8051760" y="4178160"/>
            <a:ext cx="46080" cy="38160"/>
          </a:xfrm>
          <a:prstGeom prst="rect">
            <a:avLst/>
          </a:prstGeom>
          <a:solidFill>
            <a:srgbClr val="fad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Freeform 20"/>
          <p:cNvSpPr/>
          <p:nvPr/>
        </p:nvSpPr>
        <p:spPr>
          <a:xfrm>
            <a:off x="7923240" y="3613320"/>
            <a:ext cx="52200" cy="142560"/>
          </a:xfrm>
          <a:prstGeom prst="pie">
            <a:avLst/>
          </a:prstGeom>
          <a:solidFill>
            <a:srgbClr val="e56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Freeform 21"/>
          <p:cNvSpPr/>
          <p:nvPr/>
        </p:nvSpPr>
        <p:spPr>
          <a:xfrm>
            <a:off x="5853240" y="4986360"/>
            <a:ext cx="4284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Freeform 22"/>
          <p:cNvSpPr/>
          <p:nvPr/>
        </p:nvSpPr>
        <p:spPr>
          <a:xfrm>
            <a:off x="8381880" y="4475160"/>
            <a:ext cx="127080" cy="255600"/>
          </a:xfrm>
          <a:prstGeom prst="pie">
            <a:avLst/>
          </a:prstGeom>
          <a:solidFill>
            <a:srgbClr val="7f5f3f"/>
          </a:solidFill>
          <a:ln w="12600">
            <a:solidFill>
              <a:srgbClr val="3f1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6248520" y="5334120"/>
            <a:ext cx="67140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Freeform 24"/>
          <p:cNvSpPr/>
          <p:nvPr/>
        </p:nvSpPr>
        <p:spPr>
          <a:xfrm>
            <a:off x="4417920" y="5138640"/>
            <a:ext cx="4465800" cy="72576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Freeform 25"/>
          <p:cNvSpPr/>
          <p:nvPr/>
        </p:nvSpPr>
        <p:spPr>
          <a:xfrm>
            <a:off x="4905360" y="5342040"/>
            <a:ext cx="563400" cy="403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211880" y="3200400"/>
            <a:ext cx="1500120" cy="1846440"/>
            <a:chOff x="7211880" y="3200400"/>
            <a:chExt cx="1500120" cy="1846440"/>
          </a:xfrm>
        </p:grpSpPr>
        <p:sp>
          <p:nvSpPr>
            <p:cNvPr id="125" name="Freeform 27"/>
            <p:cNvSpPr/>
            <p:nvPr/>
          </p:nvSpPr>
          <p:spPr>
            <a:xfrm>
              <a:off x="7918200" y="3200400"/>
              <a:ext cx="136440" cy="576360"/>
            </a:xfrm>
            <a:prstGeom prst="pie">
              <a:avLst/>
            </a:pr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26" name="Group 28"/>
            <p:cNvGrpSpPr/>
            <p:nvPr/>
          </p:nvGrpSpPr>
          <p:grpSpPr>
            <a:xfrm>
              <a:off x="7211880" y="3416400"/>
              <a:ext cx="1500120" cy="1630440"/>
              <a:chOff x="7211880" y="3416400"/>
              <a:chExt cx="1500120" cy="1630440"/>
            </a:xfrm>
          </p:grpSpPr>
          <p:sp>
            <p:nvSpPr>
              <p:cNvPr id="127" name="Freeform 29"/>
              <p:cNvSpPr/>
              <p:nvPr/>
            </p:nvSpPr>
            <p:spPr>
              <a:xfrm>
                <a:off x="7211880" y="3416400"/>
                <a:ext cx="1500120" cy="1630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128" name="Group 30"/>
              <p:cNvGrpSpPr/>
              <p:nvPr/>
            </p:nvGrpSpPr>
            <p:grpSpPr>
              <a:xfrm>
                <a:off x="7262640" y="3681360"/>
                <a:ext cx="811080" cy="1195560"/>
                <a:chOff x="7262640" y="3681360"/>
                <a:chExt cx="811080" cy="1195560"/>
              </a:xfrm>
            </p:grpSpPr>
            <p:sp>
              <p:nvSpPr>
                <p:cNvPr id="129" name="Freeform 31"/>
                <p:cNvSpPr/>
                <p:nvPr/>
              </p:nvSpPr>
              <p:spPr>
                <a:xfrm>
                  <a:off x="7262640" y="3681360"/>
                  <a:ext cx="811080" cy="1195560"/>
                </a:xfrm>
                <a:prstGeom prst="pie">
                  <a:avLst/>
                </a:prstGeom>
                <a:solidFill>
                  <a:srgbClr val="ff9f7f"/>
                </a:solidFill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32"/>
                <p:cNvSpPr/>
                <p:nvPr/>
              </p:nvSpPr>
              <p:spPr>
                <a:xfrm>
                  <a:off x="7913520" y="3828960"/>
                  <a:ext cx="114120" cy="2232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33"/>
                <p:cNvSpPr/>
                <p:nvPr/>
              </p:nvSpPr>
              <p:spPr>
                <a:xfrm>
                  <a:off x="7897680" y="3878280"/>
                  <a:ext cx="150840" cy="3168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34"/>
                <p:cNvSpPr/>
                <p:nvPr/>
              </p:nvSpPr>
              <p:spPr>
                <a:xfrm>
                  <a:off x="7911720" y="3805200"/>
                  <a:ext cx="65160" cy="4464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35"/>
                <p:cNvSpPr/>
                <p:nvPr/>
              </p:nvSpPr>
              <p:spPr>
                <a:xfrm flipH="1" flipV="1">
                  <a:off x="7961040" y="3727440"/>
                  <a:ext cx="31680" cy="14400"/>
                </a:xfrm>
                <a:prstGeom prst="line">
                  <a:avLst/>
                </a:prstGeom>
                <a:ln w="1260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Freeform 36"/>
              <p:cNvSpPr/>
              <p:nvPr/>
            </p:nvSpPr>
            <p:spPr>
              <a:xfrm>
                <a:off x="7211880" y="3819600"/>
                <a:ext cx="382680" cy="23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7"/>
            <p:cNvGrpSpPr/>
            <p:nvPr/>
          </p:nvGrpSpPr>
          <p:grpSpPr>
            <a:xfrm>
              <a:off x="7841880" y="3559320"/>
              <a:ext cx="154080" cy="276120"/>
              <a:chOff x="7841880" y="3559320"/>
              <a:chExt cx="154080" cy="276120"/>
            </a:xfrm>
          </p:grpSpPr>
          <p:sp>
            <p:nvSpPr>
              <p:cNvPr id="136" name="Freeform 38"/>
              <p:cNvSpPr/>
              <p:nvPr/>
            </p:nvSpPr>
            <p:spPr>
              <a:xfrm>
                <a:off x="7841880" y="3564000"/>
                <a:ext cx="146160" cy="271440"/>
              </a:xfrm>
              <a:prstGeom prst="pie">
                <a:avLst/>
              </a:prstGeom>
              <a:solidFill>
                <a:srgbClr val="ff9f7f"/>
              </a:solidFill>
              <a:ln w="1260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37" name="Freeform 39"/>
              <p:cNvSpPr/>
              <p:nvPr/>
            </p:nvSpPr>
            <p:spPr>
              <a:xfrm>
                <a:off x="7934040" y="3559320"/>
                <a:ext cx="61920" cy="28440"/>
              </a:xfrm>
              <a:prstGeom prst="pie">
                <a:avLst/>
              </a:prstGeom>
              <a:solidFill>
                <a:srgbClr val="ff001f"/>
              </a:solidFill>
              <a:ln w="1260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Group 40"/>
          <p:cNvGrpSpPr/>
          <p:nvPr/>
        </p:nvGrpSpPr>
        <p:grpSpPr>
          <a:xfrm>
            <a:off x="7672320" y="2387520"/>
            <a:ext cx="865080" cy="986040"/>
            <a:chOff x="7672320" y="2387520"/>
            <a:chExt cx="865080" cy="986040"/>
          </a:xfrm>
        </p:grpSpPr>
        <p:grpSp>
          <p:nvGrpSpPr>
            <p:cNvPr id="139" name="Group 41"/>
            <p:cNvGrpSpPr/>
            <p:nvPr/>
          </p:nvGrpSpPr>
          <p:grpSpPr>
            <a:xfrm>
              <a:off x="7729200" y="2541600"/>
              <a:ext cx="628920" cy="831960"/>
              <a:chOff x="7729200" y="2541600"/>
              <a:chExt cx="628920" cy="831960"/>
            </a:xfrm>
          </p:grpSpPr>
          <p:grpSp>
            <p:nvGrpSpPr>
              <p:cNvPr id="140" name="Group 42"/>
              <p:cNvGrpSpPr/>
              <p:nvPr/>
            </p:nvGrpSpPr>
            <p:grpSpPr>
              <a:xfrm>
                <a:off x="7729200" y="2541600"/>
                <a:ext cx="628920" cy="831960"/>
                <a:chOff x="7729200" y="2541600"/>
                <a:chExt cx="628920" cy="831960"/>
              </a:xfrm>
            </p:grpSpPr>
            <p:sp>
              <p:nvSpPr>
                <p:cNvPr id="141" name="Freeform 43"/>
                <p:cNvSpPr/>
                <p:nvPr/>
              </p:nvSpPr>
              <p:spPr>
                <a:xfrm>
                  <a:off x="7854840" y="3237120"/>
                  <a:ext cx="330120" cy="134640"/>
                </a:xfrm>
                <a:prstGeom prst="pie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44"/>
                <p:cNvSpPr/>
                <p:nvPr/>
              </p:nvSpPr>
              <p:spPr>
                <a:xfrm>
                  <a:off x="7729200" y="2541600"/>
                  <a:ext cx="628920" cy="830160"/>
                </a:xfrm>
                <a:prstGeom prst="pie">
                  <a:avLst/>
                </a:pr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45"/>
                <p:cNvSpPr/>
                <p:nvPr/>
              </p:nvSpPr>
              <p:spPr>
                <a:xfrm>
                  <a:off x="7999200" y="3075120"/>
                  <a:ext cx="304920" cy="2984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Freeform 46"/>
              <p:cNvSpPr/>
              <p:nvPr/>
            </p:nvSpPr>
            <p:spPr>
              <a:xfrm>
                <a:off x="7731000" y="2954520"/>
                <a:ext cx="131760" cy="284040"/>
              </a:xfrm>
              <a:prstGeom prst="pie">
                <a:avLst/>
              </a:pr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7"/>
            <p:cNvGrpSpPr/>
            <p:nvPr/>
          </p:nvGrpSpPr>
          <p:grpSpPr>
            <a:xfrm>
              <a:off x="7881840" y="2816280"/>
              <a:ext cx="388800" cy="436680"/>
              <a:chOff x="7881840" y="2816280"/>
              <a:chExt cx="388800" cy="436680"/>
            </a:xfrm>
          </p:grpSpPr>
          <p:grpSp>
            <p:nvGrpSpPr>
              <p:cNvPr id="146" name="Group 48"/>
              <p:cNvGrpSpPr/>
              <p:nvPr/>
            </p:nvGrpSpPr>
            <p:grpSpPr>
              <a:xfrm>
                <a:off x="7968960" y="3164040"/>
                <a:ext cx="157320" cy="88920"/>
                <a:chOff x="7968960" y="3164040"/>
                <a:chExt cx="157320" cy="88920"/>
              </a:xfrm>
            </p:grpSpPr>
            <p:sp>
              <p:nvSpPr>
                <p:cNvPr id="147" name="Oval 49"/>
                <p:cNvSpPr/>
                <p:nvPr/>
              </p:nvSpPr>
              <p:spPr>
                <a:xfrm>
                  <a:off x="7986600" y="3192480"/>
                  <a:ext cx="11088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0"/>
                <p:cNvSpPr/>
                <p:nvPr/>
              </p:nvSpPr>
              <p:spPr>
                <a:xfrm>
                  <a:off x="7968960" y="3164040"/>
                  <a:ext cx="157320" cy="55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1"/>
                <p:cNvSpPr/>
                <p:nvPr/>
              </p:nvSpPr>
              <p:spPr>
                <a:xfrm>
                  <a:off x="7968960" y="3195720"/>
                  <a:ext cx="155520" cy="57240"/>
                </a:xfrm>
                <a:prstGeom prst="pie">
                  <a:avLst/>
                </a:pr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7881840" y="2816280"/>
                <a:ext cx="388800" cy="168120"/>
                <a:chOff x="7881840" y="2816280"/>
                <a:chExt cx="388800" cy="168120"/>
              </a:xfrm>
            </p:grpSpPr>
            <p:grpSp>
              <p:nvGrpSpPr>
                <p:cNvPr id="151" name="Group 53"/>
                <p:cNvGrpSpPr/>
                <p:nvPr/>
              </p:nvGrpSpPr>
              <p:grpSpPr>
                <a:xfrm>
                  <a:off x="7881840" y="2816280"/>
                  <a:ext cx="160200" cy="111240"/>
                  <a:chOff x="7881840" y="2816280"/>
                  <a:chExt cx="160200" cy="111240"/>
                </a:xfrm>
              </p:grpSpPr>
              <p:sp>
                <p:nvSpPr>
                  <p:cNvPr id="152" name="Freeform 54"/>
                  <p:cNvSpPr/>
                  <p:nvPr/>
                </p:nvSpPr>
                <p:spPr>
                  <a:xfrm>
                    <a:off x="7894440" y="2816280"/>
                    <a:ext cx="147600" cy="79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55"/>
                  <p:cNvSpPr/>
                  <p:nvPr/>
                </p:nvSpPr>
                <p:spPr>
                  <a:xfrm>
                    <a:off x="7881840" y="2865600"/>
                    <a:ext cx="142920" cy="58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Freeform 56"/>
                  <p:cNvSpPr/>
                  <p:nvPr/>
                </p:nvSpPr>
                <p:spPr>
                  <a:xfrm>
                    <a:off x="7911720" y="2903760"/>
                    <a:ext cx="65160" cy="23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Group 57"/>
                <p:cNvGrpSpPr/>
                <p:nvPr/>
              </p:nvGrpSpPr>
              <p:grpSpPr>
                <a:xfrm>
                  <a:off x="8118360" y="2870280"/>
                  <a:ext cx="152280" cy="114120"/>
                  <a:chOff x="8118360" y="2870280"/>
                  <a:chExt cx="152280" cy="114120"/>
                </a:xfrm>
              </p:grpSpPr>
              <p:sp>
                <p:nvSpPr>
                  <p:cNvPr id="156" name="Freeform 58"/>
                  <p:cNvSpPr/>
                  <p:nvPr/>
                </p:nvSpPr>
                <p:spPr>
                  <a:xfrm>
                    <a:off x="8118360" y="2870280"/>
                    <a:ext cx="152280" cy="7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Freeform 59"/>
                  <p:cNvSpPr/>
                  <p:nvPr/>
                </p:nvSpPr>
                <p:spPr>
                  <a:xfrm>
                    <a:off x="8150040" y="2916360"/>
                    <a:ext cx="120600" cy="68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60"/>
                  <p:cNvSpPr/>
                  <p:nvPr/>
                </p:nvSpPr>
                <p:spPr>
                  <a:xfrm>
                    <a:off x="8140320" y="2952720"/>
                    <a:ext cx="9720" cy="1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9" name="Freeform 61"/>
              <p:cNvSpPr/>
              <p:nvPr/>
            </p:nvSpPr>
            <p:spPr>
              <a:xfrm>
                <a:off x="8007120" y="3035520"/>
                <a:ext cx="117360" cy="64800"/>
              </a:xfrm>
              <a:prstGeom prst="pie">
                <a:avLst/>
              </a:prstGeom>
              <a:noFill/>
              <a:ln w="12600">
                <a:solidFill>
                  <a:srgbClr val="f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62"/>
            <p:cNvGrpSpPr/>
            <p:nvPr/>
          </p:nvGrpSpPr>
          <p:grpSpPr>
            <a:xfrm>
              <a:off x="7672320" y="2387520"/>
              <a:ext cx="865080" cy="843120"/>
              <a:chOff x="7672320" y="2387520"/>
              <a:chExt cx="865080" cy="843120"/>
            </a:xfrm>
          </p:grpSpPr>
          <p:sp>
            <p:nvSpPr>
              <p:cNvPr id="161" name="Freeform 63"/>
              <p:cNvSpPr/>
              <p:nvPr/>
            </p:nvSpPr>
            <p:spPr>
              <a:xfrm>
                <a:off x="7672320" y="2387520"/>
                <a:ext cx="865080" cy="843120"/>
              </a:xfrm>
              <a:prstGeom prst="pie">
                <a:avLst/>
              </a:pr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162" name="Group 64"/>
              <p:cNvGrpSpPr/>
              <p:nvPr/>
            </p:nvGrpSpPr>
            <p:grpSpPr>
              <a:xfrm>
                <a:off x="7700760" y="2419560"/>
                <a:ext cx="811080" cy="590400"/>
                <a:chOff x="7700760" y="2419560"/>
                <a:chExt cx="811080" cy="590400"/>
              </a:xfrm>
            </p:grpSpPr>
            <p:sp>
              <p:nvSpPr>
                <p:cNvPr id="163" name="Freeform 65"/>
                <p:cNvSpPr/>
                <p:nvPr/>
              </p:nvSpPr>
              <p:spPr>
                <a:xfrm>
                  <a:off x="7700760" y="2643120"/>
                  <a:ext cx="341280" cy="23508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66"/>
                <p:cNvSpPr/>
                <p:nvPr/>
              </p:nvSpPr>
              <p:spPr>
                <a:xfrm>
                  <a:off x="7754760" y="2535480"/>
                  <a:ext cx="658800" cy="19512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67"/>
                <p:cNvSpPr/>
                <p:nvPr/>
              </p:nvSpPr>
              <p:spPr>
                <a:xfrm>
                  <a:off x="7792920" y="2419560"/>
                  <a:ext cx="577800" cy="23940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68"/>
                <p:cNvSpPr/>
                <p:nvPr/>
              </p:nvSpPr>
              <p:spPr>
                <a:xfrm>
                  <a:off x="8350200" y="2644920"/>
                  <a:ext cx="161640" cy="36504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Oval 69"/>
            <p:cNvSpPr/>
            <p:nvPr/>
          </p:nvSpPr>
          <p:spPr>
            <a:xfrm>
              <a:off x="7791120" y="3036960"/>
              <a:ext cx="38160" cy="41400"/>
            </a:xfrm>
            <a:prstGeom prst="ellipse">
              <a:avLst/>
            </a:prstGeom>
            <a:solidFill>
              <a:srgbClr val="ff5fbf"/>
            </a:solidFill>
            <a:ln w="12600">
              <a:solidFill>
                <a:srgbClr val="ff0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8" name="Freeform 70"/>
          <p:cNvSpPr/>
          <p:nvPr/>
        </p:nvSpPr>
        <p:spPr>
          <a:xfrm>
            <a:off x="7974000" y="3416400"/>
            <a:ext cx="982800" cy="1176120"/>
          </a:xfrm>
          <a:prstGeom prst="pie">
            <a:avLst/>
          </a:prstGeom>
          <a:solidFill>
            <a:srgbClr val="9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Freeform 71"/>
          <p:cNvSpPr/>
          <p:nvPr/>
        </p:nvSpPr>
        <p:spPr>
          <a:xfrm>
            <a:off x="7556400" y="4386240"/>
            <a:ext cx="916200" cy="1258920"/>
          </a:xfrm>
          <a:prstGeom prst="pie">
            <a:avLst/>
          </a:prstGeom>
          <a:solidFill>
            <a:srgbClr val="ffb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Freeform 72"/>
          <p:cNvSpPr/>
          <p:nvPr/>
        </p:nvSpPr>
        <p:spPr>
          <a:xfrm>
            <a:off x="7556400" y="4338720"/>
            <a:ext cx="959040" cy="113976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Rectangle 73"/>
          <p:cNvSpPr/>
          <p:nvPr/>
        </p:nvSpPr>
        <p:spPr>
          <a:xfrm>
            <a:off x="380880" y="304920"/>
            <a:ext cx="692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«Ребенок - это не сосуд, который необходимо наполнить,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а светильник, который надо зажечь»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Дж. Дью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на современном рынке труда во многом зависит о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пособности приобретать и развивать умения, навыки,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могут применяться или трансформироваться применительно к целому ряду жизненных ситуаций, осваивать новые технологии, принципиальная смена которых по дан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 примерно раз в пять лет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0" y="2941560"/>
          <a:ext cx="4476600" cy="391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941560"/>
                    <a:ext cx="447660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1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Информатизация образования</a:t>
            </a: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0" y="5715000"/>
          <a:ext cx="914400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71500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324000" y="1844640"/>
            <a:ext cx="7126200" cy="3408480"/>
          </a:xfrm>
          <a:prstGeom prst="rect">
            <a:avLst/>
          </a:prstGeom>
          <a:solidFill>
            <a:srgbClr val="0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7338960" y="4975200"/>
            <a:ext cx="1278000" cy="839880"/>
          </a:xfrm>
          <a:prstGeom prst="pie">
            <a:avLst/>
          </a:prstGeom>
          <a:solidFill>
            <a:srgbClr val="00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7745400" y="3216240"/>
            <a:ext cx="558720" cy="642960"/>
            <a:chOff x="7745400" y="3216240"/>
            <a:chExt cx="558720" cy="642960"/>
          </a:xfrm>
        </p:grpSpPr>
        <p:sp>
          <p:nvSpPr>
            <p:cNvPr id="180" name="Freeform 8"/>
            <p:cNvSpPr/>
            <p:nvPr/>
          </p:nvSpPr>
          <p:spPr>
            <a:xfrm>
              <a:off x="7745400" y="3216240"/>
              <a:ext cx="558720" cy="642960"/>
            </a:xfrm>
            <a:prstGeom prst="pie">
              <a:avLst/>
            </a:pr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7746840" y="3216240"/>
              <a:ext cx="453600" cy="554040"/>
            </a:xfrm>
            <a:prstGeom prst="pie">
              <a:avLst/>
            </a:pr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7745400" y="3216240"/>
              <a:ext cx="453960" cy="462240"/>
            </a:xfrm>
            <a:prstGeom prst="pie">
              <a:avLst/>
            </a:pr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3" name="Freeform 11"/>
          <p:cNvSpPr/>
          <p:nvPr/>
        </p:nvSpPr>
        <p:spPr>
          <a:xfrm>
            <a:off x="7824960" y="4149720"/>
            <a:ext cx="1023840" cy="573120"/>
          </a:xfrm>
          <a:prstGeom prst="pie">
            <a:avLst/>
          </a:prstGeom>
          <a:solidFill>
            <a:srgbClr val="ff9f7f"/>
          </a:solidFill>
          <a:ln w="12600">
            <a:solidFill>
              <a:srgbClr val="bf3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5037120" y="4425840"/>
            <a:ext cx="873000" cy="1020960"/>
          </a:xfrm>
          <a:prstGeom prst="pie">
            <a:avLst/>
          </a:prstGeom>
          <a:solidFill>
            <a:srgbClr val="ffb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5530680" y="5226120"/>
            <a:ext cx="111240" cy="129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Freeform 14"/>
          <p:cNvSpPr/>
          <p:nvPr/>
        </p:nvSpPr>
        <p:spPr>
          <a:xfrm>
            <a:off x="5514840" y="5091120"/>
            <a:ext cx="103320" cy="196920"/>
          </a:xfrm>
          <a:prstGeom prst="pie">
            <a:avLst/>
          </a:prstGeom>
          <a:noFill/>
          <a:ln w="12600">
            <a:solidFill>
              <a:srgbClr val="ff7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Freeform 15"/>
          <p:cNvSpPr/>
          <p:nvPr/>
        </p:nvSpPr>
        <p:spPr>
          <a:xfrm>
            <a:off x="4971960" y="5121360"/>
            <a:ext cx="561960" cy="42372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Freeform 16"/>
          <p:cNvSpPr/>
          <p:nvPr/>
        </p:nvSpPr>
        <p:spPr>
          <a:xfrm>
            <a:off x="4903920" y="4259160"/>
            <a:ext cx="1125360" cy="94320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Freeform 17"/>
          <p:cNvSpPr/>
          <p:nvPr/>
        </p:nvSpPr>
        <p:spPr>
          <a:xfrm>
            <a:off x="5770440" y="5002200"/>
            <a:ext cx="163800" cy="17136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Freeform 18"/>
          <p:cNvSpPr/>
          <p:nvPr/>
        </p:nvSpPr>
        <p:spPr>
          <a:xfrm>
            <a:off x="6232680" y="4532400"/>
            <a:ext cx="966600" cy="1201680"/>
          </a:xfrm>
          <a:prstGeom prst="pie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Freeform 19"/>
          <p:cNvSpPr/>
          <p:nvPr/>
        </p:nvSpPr>
        <p:spPr>
          <a:xfrm>
            <a:off x="6156360" y="4475160"/>
            <a:ext cx="990720" cy="101592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Freeform 20"/>
          <p:cNvSpPr/>
          <p:nvPr/>
        </p:nvSpPr>
        <p:spPr>
          <a:xfrm>
            <a:off x="6997680" y="4900680"/>
            <a:ext cx="255600" cy="30456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8051760" y="4178160"/>
            <a:ext cx="46080" cy="38160"/>
          </a:xfrm>
          <a:prstGeom prst="rect">
            <a:avLst/>
          </a:prstGeom>
          <a:solidFill>
            <a:srgbClr val="fad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7923240" y="3613320"/>
            <a:ext cx="52200" cy="142560"/>
          </a:xfrm>
          <a:prstGeom prst="pie">
            <a:avLst/>
          </a:prstGeom>
          <a:solidFill>
            <a:srgbClr val="e56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5853240" y="4986360"/>
            <a:ext cx="4284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Freeform 24"/>
          <p:cNvSpPr/>
          <p:nvPr/>
        </p:nvSpPr>
        <p:spPr>
          <a:xfrm>
            <a:off x="8381880" y="4475160"/>
            <a:ext cx="127080" cy="255600"/>
          </a:xfrm>
          <a:prstGeom prst="pie">
            <a:avLst/>
          </a:prstGeom>
          <a:solidFill>
            <a:srgbClr val="7f5f3f"/>
          </a:solidFill>
          <a:ln w="12600">
            <a:solidFill>
              <a:srgbClr val="3f1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Freeform 25"/>
          <p:cNvSpPr/>
          <p:nvPr/>
        </p:nvSpPr>
        <p:spPr>
          <a:xfrm>
            <a:off x="6230880" y="5316480"/>
            <a:ext cx="67140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Freeform 26"/>
          <p:cNvSpPr/>
          <p:nvPr/>
        </p:nvSpPr>
        <p:spPr>
          <a:xfrm>
            <a:off x="4417920" y="5138640"/>
            <a:ext cx="4465800" cy="72576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Freeform 27"/>
          <p:cNvSpPr/>
          <p:nvPr/>
        </p:nvSpPr>
        <p:spPr>
          <a:xfrm>
            <a:off x="4905360" y="5342040"/>
            <a:ext cx="563400" cy="403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Group 28"/>
          <p:cNvGrpSpPr/>
          <p:nvPr/>
        </p:nvGrpSpPr>
        <p:grpSpPr>
          <a:xfrm>
            <a:off x="7211880" y="3200400"/>
            <a:ext cx="1500120" cy="1846440"/>
            <a:chOff x="7211880" y="3200400"/>
            <a:chExt cx="1500120" cy="1846440"/>
          </a:xfrm>
        </p:grpSpPr>
        <p:sp>
          <p:nvSpPr>
            <p:cNvPr id="201" name="Freeform 29"/>
            <p:cNvSpPr/>
            <p:nvPr/>
          </p:nvSpPr>
          <p:spPr>
            <a:xfrm>
              <a:off x="7918200" y="3200400"/>
              <a:ext cx="136440" cy="576360"/>
            </a:xfrm>
            <a:prstGeom prst="pie">
              <a:avLst/>
            </a:pr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02" name="Group 30"/>
            <p:cNvGrpSpPr/>
            <p:nvPr/>
          </p:nvGrpSpPr>
          <p:grpSpPr>
            <a:xfrm>
              <a:off x="7211880" y="3416400"/>
              <a:ext cx="1500120" cy="1630440"/>
              <a:chOff x="7211880" y="3416400"/>
              <a:chExt cx="1500120" cy="1630440"/>
            </a:xfrm>
          </p:grpSpPr>
          <p:sp>
            <p:nvSpPr>
              <p:cNvPr id="203" name="Freeform 31"/>
              <p:cNvSpPr/>
              <p:nvPr/>
            </p:nvSpPr>
            <p:spPr>
              <a:xfrm>
                <a:off x="7211880" y="3416400"/>
                <a:ext cx="1500120" cy="1630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32"/>
              <p:cNvGrpSpPr/>
              <p:nvPr/>
            </p:nvGrpSpPr>
            <p:grpSpPr>
              <a:xfrm>
                <a:off x="7262640" y="3681360"/>
                <a:ext cx="811080" cy="1195560"/>
                <a:chOff x="7262640" y="3681360"/>
                <a:chExt cx="811080" cy="1195560"/>
              </a:xfrm>
            </p:grpSpPr>
            <p:sp>
              <p:nvSpPr>
                <p:cNvPr id="205" name="Freeform 33"/>
                <p:cNvSpPr/>
                <p:nvPr/>
              </p:nvSpPr>
              <p:spPr>
                <a:xfrm>
                  <a:off x="7262640" y="3681360"/>
                  <a:ext cx="811080" cy="1195560"/>
                </a:xfrm>
                <a:prstGeom prst="pie">
                  <a:avLst/>
                </a:prstGeom>
                <a:solidFill>
                  <a:srgbClr val="ff9f7f"/>
                </a:solidFill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7913520" y="3828960"/>
                  <a:ext cx="114120" cy="2232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7897680" y="3878280"/>
                  <a:ext cx="150840" cy="3168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7911720" y="3805200"/>
                  <a:ext cx="65160" cy="4464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37"/>
                <p:cNvSpPr/>
                <p:nvPr/>
              </p:nvSpPr>
              <p:spPr>
                <a:xfrm flipH="1" flipV="1">
                  <a:off x="7961040" y="3727440"/>
                  <a:ext cx="31680" cy="14400"/>
                </a:xfrm>
                <a:prstGeom prst="line">
                  <a:avLst/>
                </a:prstGeom>
                <a:ln w="1260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Freeform 38"/>
              <p:cNvSpPr/>
              <p:nvPr/>
            </p:nvSpPr>
            <p:spPr>
              <a:xfrm>
                <a:off x="7211880" y="3819600"/>
                <a:ext cx="382680" cy="23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39"/>
            <p:cNvGrpSpPr/>
            <p:nvPr/>
          </p:nvGrpSpPr>
          <p:grpSpPr>
            <a:xfrm>
              <a:off x="7841880" y="3559320"/>
              <a:ext cx="154080" cy="276120"/>
              <a:chOff x="7841880" y="3559320"/>
              <a:chExt cx="154080" cy="276120"/>
            </a:xfrm>
          </p:grpSpPr>
          <p:sp>
            <p:nvSpPr>
              <p:cNvPr id="212" name="Freeform 40"/>
              <p:cNvSpPr/>
              <p:nvPr/>
            </p:nvSpPr>
            <p:spPr>
              <a:xfrm>
                <a:off x="7841880" y="3564000"/>
                <a:ext cx="146160" cy="271440"/>
              </a:xfrm>
              <a:prstGeom prst="pie">
                <a:avLst/>
              </a:prstGeom>
              <a:solidFill>
                <a:srgbClr val="ff9f7f"/>
              </a:solidFill>
              <a:ln w="1260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3" name="Freeform 41"/>
              <p:cNvSpPr/>
              <p:nvPr/>
            </p:nvSpPr>
            <p:spPr>
              <a:xfrm>
                <a:off x="7934040" y="3559320"/>
                <a:ext cx="61920" cy="28440"/>
              </a:xfrm>
              <a:prstGeom prst="pie">
                <a:avLst/>
              </a:prstGeom>
              <a:solidFill>
                <a:srgbClr val="ff001f"/>
              </a:solidFill>
              <a:ln w="1260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Group 42"/>
          <p:cNvGrpSpPr/>
          <p:nvPr/>
        </p:nvGrpSpPr>
        <p:grpSpPr>
          <a:xfrm>
            <a:off x="7672320" y="2387520"/>
            <a:ext cx="865080" cy="986040"/>
            <a:chOff x="7672320" y="2387520"/>
            <a:chExt cx="865080" cy="986040"/>
          </a:xfrm>
        </p:grpSpPr>
        <p:grpSp>
          <p:nvGrpSpPr>
            <p:cNvPr id="215" name="Group 43"/>
            <p:cNvGrpSpPr/>
            <p:nvPr/>
          </p:nvGrpSpPr>
          <p:grpSpPr>
            <a:xfrm>
              <a:off x="7729200" y="2541600"/>
              <a:ext cx="628920" cy="831960"/>
              <a:chOff x="7729200" y="2541600"/>
              <a:chExt cx="628920" cy="831960"/>
            </a:xfrm>
          </p:grpSpPr>
          <p:grpSp>
            <p:nvGrpSpPr>
              <p:cNvPr id="216" name="Group 44"/>
              <p:cNvGrpSpPr/>
              <p:nvPr/>
            </p:nvGrpSpPr>
            <p:grpSpPr>
              <a:xfrm>
                <a:off x="7729200" y="2541600"/>
                <a:ext cx="628920" cy="831960"/>
                <a:chOff x="7729200" y="2541600"/>
                <a:chExt cx="628920" cy="831960"/>
              </a:xfrm>
            </p:grpSpPr>
            <p:sp>
              <p:nvSpPr>
                <p:cNvPr id="217" name="Freeform 45"/>
                <p:cNvSpPr/>
                <p:nvPr/>
              </p:nvSpPr>
              <p:spPr>
                <a:xfrm>
                  <a:off x="7854840" y="3237120"/>
                  <a:ext cx="330120" cy="134640"/>
                </a:xfrm>
                <a:prstGeom prst="pie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>
                  <a:off x="7729200" y="2541600"/>
                  <a:ext cx="628920" cy="830160"/>
                </a:xfrm>
                <a:prstGeom prst="pie">
                  <a:avLst/>
                </a:pr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>
                  <a:off x="7999200" y="3075120"/>
                  <a:ext cx="304920" cy="2984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Freeform 48"/>
              <p:cNvSpPr/>
              <p:nvPr/>
            </p:nvSpPr>
            <p:spPr>
              <a:xfrm>
                <a:off x="7731000" y="2954520"/>
                <a:ext cx="131760" cy="284040"/>
              </a:xfrm>
              <a:prstGeom prst="pie">
                <a:avLst/>
              </a:pr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49"/>
            <p:cNvGrpSpPr/>
            <p:nvPr/>
          </p:nvGrpSpPr>
          <p:grpSpPr>
            <a:xfrm>
              <a:off x="7881840" y="2816280"/>
              <a:ext cx="388800" cy="436680"/>
              <a:chOff x="7881840" y="2816280"/>
              <a:chExt cx="388800" cy="436680"/>
            </a:xfrm>
          </p:grpSpPr>
          <p:grpSp>
            <p:nvGrpSpPr>
              <p:cNvPr id="222" name="Group 50"/>
              <p:cNvGrpSpPr/>
              <p:nvPr/>
            </p:nvGrpSpPr>
            <p:grpSpPr>
              <a:xfrm>
                <a:off x="7968960" y="3164040"/>
                <a:ext cx="157320" cy="88920"/>
                <a:chOff x="7968960" y="3164040"/>
                <a:chExt cx="157320" cy="88920"/>
              </a:xfrm>
            </p:grpSpPr>
            <p:sp>
              <p:nvSpPr>
                <p:cNvPr id="223" name="Oval 51"/>
                <p:cNvSpPr/>
                <p:nvPr/>
              </p:nvSpPr>
              <p:spPr>
                <a:xfrm>
                  <a:off x="7986600" y="3192480"/>
                  <a:ext cx="11088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52"/>
                <p:cNvSpPr/>
                <p:nvPr/>
              </p:nvSpPr>
              <p:spPr>
                <a:xfrm>
                  <a:off x="7968960" y="3164040"/>
                  <a:ext cx="157320" cy="55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53"/>
                <p:cNvSpPr/>
                <p:nvPr/>
              </p:nvSpPr>
              <p:spPr>
                <a:xfrm>
                  <a:off x="7968960" y="3195720"/>
                  <a:ext cx="155520" cy="57240"/>
                </a:xfrm>
                <a:prstGeom prst="pie">
                  <a:avLst/>
                </a:pr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54"/>
              <p:cNvGrpSpPr/>
              <p:nvPr/>
            </p:nvGrpSpPr>
            <p:grpSpPr>
              <a:xfrm>
                <a:off x="7881840" y="2816280"/>
                <a:ext cx="388800" cy="168120"/>
                <a:chOff x="7881840" y="2816280"/>
                <a:chExt cx="388800" cy="168120"/>
              </a:xfrm>
            </p:grpSpPr>
            <p:grpSp>
              <p:nvGrpSpPr>
                <p:cNvPr id="227" name="Group 55"/>
                <p:cNvGrpSpPr/>
                <p:nvPr/>
              </p:nvGrpSpPr>
              <p:grpSpPr>
                <a:xfrm>
                  <a:off x="7881840" y="2816280"/>
                  <a:ext cx="160200" cy="111240"/>
                  <a:chOff x="7881840" y="2816280"/>
                  <a:chExt cx="160200" cy="111240"/>
                </a:xfrm>
              </p:grpSpPr>
              <p:sp>
                <p:nvSpPr>
                  <p:cNvPr id="228" name="Freeform 56"/>
                  <p:cNvSpPr/>
                  <p:nvPr/>
                </p:nvSpPr>
                <p:spPr>
                  <a:xfrm>
                    <a:off x="7894440" y="2816280"/>
                    <a:ext cx="147600" cy="79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57"/>
                  <p:cNvSpPr/>
                  <p:nvPr/>
                </p:nvSpPr>
                <p:spPr>
                  <a:xfrm>
                    <a:off x="7881840" y="2865600"/>
                    <a:ext cx="142920" cy="58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>
                    <a:off x="7911720" y="2903760"/>
                    <a:ext cx="65160" cy="23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Group 59"/>
                <p:cNvGrpSpPr/>
                <p:nvPr/>
              </p:nvGrpSpPr>
              <p:grpSpPr>
                <a:xfrm>
                  <a:off x="8118360" y="2870280"/>
                  <a:ext cx="152280" cy="114120"/>
                  <a:chOff x="8118360" y="2870280"/>
                  <a:chExt cx="152280" cy="114120"/>
                </a:xfrm>
              </p:grpSpPr>
              <p:sp>
                <p:nvSpPr>
                  <p:cNvPr id="232" name="Freeform 60"/>
                  <p:cNvSpPr/>
                  <p:nvPr/>
                </p:nvSpPr>
                <p:spPr>
                  <a:xfrm>
                    <a:off x="8118360" y="2870280"/>
                    <a:ext cx="152280" cy="7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61"/>
                  <p:cNvSpPr/>
                  <p:nvPr/>
                </p:nvSpPr>
                <p:spPr>
                  <a:xfrm>
                    <a:off x="8150040" y="2916360"/>
                    <a:ext cx="120600" cy="68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Freeform 62"/>
                  <p:cNvSpPr/>
                  <p:nvPr/>
                </p:nvSpPr>
                <p:spPr>
                  <a:xfrm>
                    <a:off x="8140320" y="2952720"/>
                    <a:ext cx="9720" cy="1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Freeform 63"/>
              <p:cNvSpPr/>
              <p:nvPr/>
            </p:nvSpPr>
            <p:spPr>
              <a:xfrm>
                <a:off x="8007120" y="3035520"/>
                <a:ext cx="117360" cy="64800"/>
              </a:xfrm>
              <a:prstGeom prst="pie">
                <a:avLst/>
              </a:prstGeom>
              <a:noFill/>
              <a:ln w="12600">
                <a:solidFill>
                  <a:srgbClr val="f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64"/>
            <p:cNvGrpSpPr/>
            <p:nvPr/>
          </p:nvGrpSpPr>
          <p:grpSpPr>
            <a:xfrm>
              <a:off x="7672320" y="2387520"/>
              <a:ext cx="865080" cy="843120"/>
              <a:chOff x="7672320" y="2387520"/>
              <a:chExt cx="865080" cy="843120"/>
            </a:xfrm>
          </p:grpSpPr>
          <p:sp>
            <p:nvSpPr>
              <p:cNvPr id="237" name="Freeform 65"/>
              <p:cNvSpPr/>
              <p:nvPr/>
            </p:nvSpPr>
            <p:spPr>
              <a:xfrm>
                <a:off x="7672320" y="2387520"/>
                <a:ext cx="865080" cy="843120"/>
              </a:xfrm>
              <a:prstGeom prst="pie">
                <a:avLst/>
              </a:pr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238" name="Group 66"/>
              <p:cNvGrpSpPr/>
              <p:nvPr/>
            </p:nvGrpSpPr>
            <p:grpSpPr>
              <a:xfrm>
                <a:off x="7700760" y="2419560"/>
                <a:ext cx="811080" cy="590400"/>
                <a:chOff x="7700760" y="2419560"/>
                <a:chExt cx="811080" cy="590400"/>
              </a:xfrm>
            </p:grpSpPr>
            <p:sp>
              <p:nvSpPr>
                <p:cNvPr id="239" name="Freeform 67"/>
                <p:cNvSpPr/>
                <p:nvPr/>
              </p:nvSpPr>
              <p:spPr>
                <a:xfrm>
                  <a:off x="7700760" y="2643120"/>
                  <a:ext cx="341280" cy="23508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68"/>
                <p:cNvSpPr/>
                <p:nvPr/>
              </p:nvSpPr>
              <p:spPr>
                <a:xfrm>
                  <a:off x="7754760" y="2535480"/>
                  <a:ext cx="658800" cy="19512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69"/>
                <p:cNvSpPr/>
                <p:nvPr/>
              </p:nvSpPr>
              <p:spPr>
                <a:xfrm>
                  <a:off x="7792920" y="2419560"/>
                  <a:ext cx="577800" cy="23940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70"/>
                <p:cNvSpPr/>
                <p:nvPr/>
              </p:nvSpPr>
              <p:spPr>
                <a:xfrm>
                  <a:off x="8350200" y="2644920"/>
                  <a:ext cx="161640" cy="36504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Oval 71"/>
            <p:cNvSpPr/>
            <p:nvPr/>
          </p:nvSpPr>
          <p:spPr>
            <a:xfrm>
              <a:off x="7791120" y="3036960"/>
              <a:ext cx="38160" cy="41400"/>
            </a:xfrm>
            <a:prstGeom prst="ellipse">
              <a:avLst/>
            </a:prstGeom>
            <a:solidFill>
              <a:srgbClr val="ff5fbf"/>
            </a:solidFill>
            <a:ln w="12600">
              <a:solidFill>
                <a:srgbClr val="ff0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44" name="Freeform 72"/>
          <p:cNvSpPr/>
          <p:nvPr/>
        </p:nvSpPr>
        <p:spPr>
          <a:xfrm>
            <a:off x="7974000" y="3416400"/>
            <a:ext cx="982800" cy="1176120"/>
          </a:xfrm>
          <a:prstGeom prst="pie">
            <a:avLst/>
          </a:prstGeom>
          <a:solidFill>
            <a:srgbClr val="9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Freeform 73"/>
          <p:cNvSpPr/>
          <p:nvPr/>
        </p:nvSpPr>
        <p:spPr>
          <a:xfrm>
            <a:off x="7556400" y="4386240"/>
            <a:ext cx="916200" cy="1258920"/>
          </a:xfrm>
          <a:prstGeom prst="pie">
            <a:avLst/>
          </a:prstGeom>
          <a:solidFill>
            <a:srgbClr val="ffb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Freeform 74"/>
          <p:cNvSpPr/>
          <p:nvPr/>
        </p:nvSpPr>
        <p:spPr>
          <a:xfrm>
            <a:off x="7556400" y="4338720"/>
            <a:ext cx="959040" cy="113976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Rectangle 75"/>
          <p:cNvSpPr/>
          <p:nvPr/>
        </p:nvSpPr>
        <p:spPr>
          <a:xfrm>
            <a:off x="324000" y="1700280"/>
            <a:ext cx="6553080" cy="2665440"/>
          </a:xfrm>
          <a:prstGeom prst="rect">
            <a:avLst/>
          </a:prstGeom>
          <a:solidFill>
            <a:srgbClr val="0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сс обеспечения сферы образования теорией и практикой разработки и использования современных информационных технологий, ориентированных на реализацию психолого-педагогических целей обучения и воспитания.  Использование ИКТ в учебном процессе - один из путей решения проблемы повышения качества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ИКТ в школьном курсе естествознания эффективно способствует развитию у учащихся наблюдательности, умений анализировать, систематизировать и обобщать полученную информацию, что в конечном итоге способствует повышению качества знаний учащихся и уровня сформированности умений использовать информацию, получаемую с помощью ИКТ, то есть ориентировано на достижение качественно новых образовательных результатов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9" name="UpRibbonSharp"/>
          <p:cNvSpPr/>
          <p:nvPr/>
        </p:nvSpPr>
        <p:spPr>
          <a:xfrm>
            <a:off x="324000" y="260280"/>
            <a:ext cx="8532720" cy="1219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Необходимо!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 курса «Естествознания»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ическими материалами, помогающими учителю эффективно использовать в учебном процессе ИКТ;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риалами, обеспечивающими возможность использования различных форм учебной работы (индивидуальное обучение, групповая работа, фронтальная работа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я для того, чтобы ученики приобрели опыт выполнения заданий,  требующих выбора стратегии собственных действий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е насыщение уроков материалами с использованием ЦОР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дем понимать соответствие между достигнутым и проектируемым результатами обучения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Бабанский Ю.К., Блинов В.М., Назарова Т.С., Полат Е.С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189000"/>
            <a:ext cx="110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5" name="Picture 16" descr="BS02064_"/>
          <p:cNvPicPr/>
          <p:nvPr/>
        </p:nvPicPr>
        <p:blipFill>
          <a:blip r:embed="rId2"/>
          <a:stretch/>
        </p:blipFill>
        <p:spPr>
          <a:xfrm>
            <a:off x="5003640" y="1916280"/>
            <a:ext cx="3673800" cy="365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9"/>
          <p:cNvSpPr/>
          <p:nvPr/>
        </p:nvSpPr>
        <p:spPr>
          <a:xfrm>
            <a:off x="395280" y="476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ффективностью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бу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ahoma"/>
              </a:rPr>
              <a:t>Элементы интегрированного курса информатики-естествознания в школе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859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ля интегрированного урока информатики-физики используется материал, который находится на стыке этих дисциплин, а выполняемые задания носят творческий и в то же время ярко выраженный практический характе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собенности решаемых задач заключаются в возможности, наряду с получением графической и численной информации о физических зависимостях, траекториях движения и т.д., моделирования самого физического объекта исследования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32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им из удачных примеров такой интеграции может служить содружество физики с электронными таблицами: задачи, условие которых задано графически, задачи требующие вычислений с помощью различных функций, задачи, решаемые графически; пересчет формул при изменении данных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Это дает возможность </a:t>
            </a: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</a:rPr>
              <a:t>моделирова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есложных физических явлений, как недоступных для показа в лаборатор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Изучение физики не подменяется, а дополняется освоением компьютерных технологий, которые в свою очередь входят в школьную программу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46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Живая физика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Компьютерная проектная среда для изучения основных разделов школьной физики. В ней легко и быстро создаются физические объекты, проводится управляемый эксперимент с автоматическим отображением процесса в виде графиков, таблиц, диаграмм, векторов. Программа позволяет “оживить” эксперименты и иллюстрации к задачам курса физики и разработать новые задачи. Использование при изучении механики программы “Живая физика” дает возможность ученикам наглядно, в удобном для каждого темпе наблюдать изучаемые физические явления. Все это облегчает усвоение программы по физике.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61" name="Picture 103" descr="Математический маятник"/>
          <p:cNvPicPr/>
          <p:nvPr/>
        </p:nvPicPr>
        <p:blipFill>
          <a:blip r:embed="rId2"/>
          <a:stretch/>
        </p:blipFill>
        <p:spPr>
          <a:xfrm>
            <a:off x="4788000" y="3716280"/>
            <a:ext cx="20174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6" descr="Колебательный контур"/>
          <p:cNvPicPr/>
          <p:nvPr/>
        </p:nvPicPr>
        <p:blipFill>
          <a:blip r:embed="rId3"/>
          <a:stretch/>
        </p:blipFill>
        <p:spPr>
          <a:xfrm>
            <a:off x="6877080" y="3716280"/>
            <a:ext cx="2038320" cy="188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9" descr="Пружинный маятник"/>
          <p:cNvPicPr/>
          <p:nvPr/>
        </p:nvPicPr>
        <p:blipFill>
          <a:blip r:embed="rId4"/>
          <a:stretch/>
        </p:blipFill>
        <p:spPr>
          <a:xfrm>
            <a:off x="4859280" y="2349360"/>
            <a:ext cx="3959280" cy="104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0" descr="Треугольная призма"/>
          <p:cNvPicPr/>
          <p:nvPr/>
        </p:nvPicPr>
        <p:blipFill>
          <a:blip r:embed="rId5"/>
          <a:stretch/>
        </p:blipFill>
        <p:spPr>
          <a:xfrm>
            <a:off x="6804000" y="333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1" descr="Движение"/>
          <p:cNvPicPr/>
          <p:nvPr/>
        </p:nvPicPr>
        <p:blipFill>
          <a:blip r:embed="rId6"/>
          <a:stretch/>
        </p:blipFill>
        <p:spPr>
          <a:xfrm>
            <a:off x="4211640" y="5970600"/>
            <a:ext cx="4932360" cy="56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2" descr="Пизанская башня"/>
          <p:cNvPicPr/>
          <p:nvPr/>
        </p:nvPicPr>
        <p:blipFill>
          <a:blip r:embed="rId7"/>
          <a:stretch/>
        </p:blipFill>
        <p:spPr>
          <a:xfrm>
            <a:off x="5076720" y="189000"/>
            <a:ext cx="12765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15:25Z</dcterms:created>
  <dc:creator>Свистун</dc:creator>
  <dc:description/>
  <dc:language>en-US</dc:language>
  <cp:lastModifiedBy>Ольга Петрова</cp:lastModifiedBy>
  <dcterms:modified xsi:type="dcterms:W3CDTF">2012-02-19T08:21:51Z</dcterms:modified>
  <cp:revision>141</cp:revision>
  <dc:subject/>
  <dc:title>Заголовок слайда отсутствует</dc:title>
</cp:coreProperties>
</file>