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26.gif" ContentType="image/gif"/>
  <Override PartName="/ppt/media/image29.png" ContentType="image/png"/>
  <Override PartName="/ppt/media/image4.gif" ContentType="image/gif"/>
  <Override PartName="/ppt/media/image3.png" ContentType="image/png"/>
  <Override PartName="/ppt/media/image23.gif" ContentType="image/gif"/>
  <Override PartName="/ppt/media/image27.png" ContentType="image/png"/>
  <Override PartName="/ppt/media/image15.png" ContentType="image/png"/>
  <Override PartName="/ppt/media/image25.wmf" ContentType="image/x-wmf"/>
  <Override PartName="/ppt/media/image24.wmf" ContentType="image/x-wmf"/>
  <Override PartName="/ppt/media/image20.gif" ContentType="image/gif"/>
  <Override PartName="/ppt/media/image17.png" ContentType="image/png"/>
  <Override PartName="/ppt/media/image16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2.gif" ContentType="image/gif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dt" idx="6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ftr" idx="6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 type="sldNum" idx="6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C41A-34AA-4483-B384-42F17299EA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9BD6-0CE3-4CB1-94BB-95DCEAB7985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F6FF-082A-488A-A3F5-355B3801F9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A021-AB4B-4F95-8ABD-59050BF59F8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DCE-9ED5-4EED-9CED-FA65E794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F3C-9757-4AFC-8295-4610235E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0619A-CFE6-4ADA-9461-0B51086F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FDA4C-AC06-4BB4-B6AC-FF98477F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09187-127D-4734-8255-39D94CFC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DBF5A-7EFF-4FCB-A8BB-915B06A0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51D07-6EAD-490D-973D-930A419A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B1192-E263-429F-95EA-E782C646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7781D-EF8B-4275-8D30-06B5B336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FD6DC-F523-45E7-9D65-7E6FD3B2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9ED18-18AE-4464-A8EE-A70827F1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ADDC6-AB92-4F51-89C5-F0F869B8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A58-88EF-4BE7-AC9F-1145DE7A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3A73F-DFC4-41FC-B384-DB8F9749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1BD56-237D-4398-AEE2-A5D91F9D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C09E2-63A8-4B19-AED3-B0087BEA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44694-DF67-4F29-ABC0-7DC89382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1DAFA-5750-479E-A358-CA556267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3602C-269B-4DD0-A234-B5B60ADD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6E08C-1253-4B11-AF72-AC756BCB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0DCDE-973E-47BB-8FB3-A3B9A450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776BE-6BF3-4A6A-95D4-ED1D46F4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0BF01-2224-4F1C-8487-61030354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8B9-D628-4E61-8881-DDDC15A4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2E74C-51D6-409F-BBEA-1F5D446A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BB9F4-4E72-456E-9313-081E33A3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699B7-2071-4EFB-B82E-66724982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AA8CB-8E2F-4D4B-AA9E-76376492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A533F-9A43-4B48-A496-EA57A9FF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18FF7-C684-454C-BBCE-8BCAD179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96D20-0637-47A0-8A57-EAAB17F3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2702E-4656-4AD6-A436-2BDFCAB3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A6D35-5C7B-43AD-8ECC-805E0C82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4A2B6-37A1-47DF-BC6D-EC28FD9A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C9E3-A8AA-4BC1-8487-6D8493C7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69D94-B5B6-4ED4-8697-7AC9EFCE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9E92B-64B7-4E9A-ABC4-DCB84447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D97F5-1E92-4B6C-B52C-62F1398D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5155F-1228-46DC-9F2D-72ABE46D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8BFE7-A51D-4225-8A3B-4CD33AB8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73C3A-6394-4333-8A4B-10B8D123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77E93-A0FF-47B7-86B8-A8740E5E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086F0-3BB1-4C6D-977F-A2D8C4DF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1E535-A32B-4E31-B0E7-00430DC4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A6C3B-1363-4668-B47F-E9523D5B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6E5A-9B2A-49B7-98D0-912FD320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19ED8-C0BF-44CF-8CF6-870B9338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4FDB1-27BD-418E-9398-4BFA2EDE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5CE1D-4882-45F3-BF1A-97A6CD18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1B659-CA7C-42A9-90DB-A408AD84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06CE2-0257-4C5F-9D04-023907FC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7A60B-FCEF-4CFA-9C46-60680E96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1D233-A075-4FBC-B63D-4C45C833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A4EB6-8873-467D-BCF7-E612F6BE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A1BEB-7997-4AEF-B8B4-0A201783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A8CDF-9F0B-44BE-991A-43A4E163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A622-E1BC-4AA5-9AD2-6F3DE4A8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F6F73-C251-433E-A342-73F63D18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F111E-BA64-4690-8F14-03EDE930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FAFCE0-6094-4745-A7E3-2CED8118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91B4F-8C20-4B54-BD20-D9A49F66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38127-4096-4A49-AA5F-9196FE7B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7CCB1-092A-47EB-8971-4CC79FB5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D19AF-72F5-4C4A-A9A0-664E7D02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9B4B5-2A23-4EF7-B796-12D75160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52380-6AF9-4853-841F-6ABD2DE9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E08AA-61C7-46B8-BD51-30CB6465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4DB5-9521-4D74-BFB7-6F9A5C9E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B3C6E8-52E0-4E42-9170-14D0BA35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06998-3A11-4252-A33B-F42F7839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2F766-21A0-4FE1-88C2-F4624475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3D328-5BCB-4A49-82A0-5CF404D8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4B407-58BC-4699-BC9F-FCAED7C2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4E5653-CD05-4842-AE05-BD9B0FAD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EBB9D-9BB6-4536-99D4-66348300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3ED47C-E9C6-41E6-943A-C96D5440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2BB41-C648-4DB6-ADEC-40260736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786DA-E4E9-46C1-82BA-795EF89B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70EB-8825-4160-8D73-06F3884E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A3D15-4251-4D79-B79D-9BB8579D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BFBC8-CEF7-4D20-A87C-B55FD400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22756-B7F3-472C-A6A1-EF1F1489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274844-8F52-40FB-9194-2CB5AD7C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59887-FBDB-4E0B-BBF2-291EC5D7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1D4400-2ADC-411C-8809-46A6FBB6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EE0CB-5E28-42FE-84F0-7BF0287D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2D1DFC-FC87-4F08-98BE-8A22D16D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AEAA6-8D87-4E09-A99E-16838022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7A138-CF4A-452D-B4D5-794A7EBB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79A1-86B7-4102-88FF-0F06D6F3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CDE92-AB26-4E31-81BF-08E0C9A8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F562C5-2599-4ED2-8CED-11074C44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0BA97A-7412-439C-8B85-92DBBD43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69A4B-817A-4BB2-AED2-A18392F1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5CBC1-F15D-4060-B580-99B64EAA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A4A34-7120-44BC-82FF-BD6DAB77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05EAD9-19AC-44A8-ACA8-E7AFADF2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697D37-F149-471E-8128-30EDAA8A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08CCF8-14FD-4B71-9506-35CC4B36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69E020-00AB-4C4E-8F17-3B6F63E6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C71F-2F78-4F01-8087-01BB20ED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362592-321F-4AEA-9D62-1A2CF62B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BC47B-EFC4-49AF-B30A-C68B032A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9719FA-D0BA-442A-9E0B-8B6D7692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F6212-56E4-4793-8C6C-E8D78EEF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421960-6E06-47BE-9F88-13CB1520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DF51CC-C3F0-4A24-B175-C77C2320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7D0BEF-7B40-46F0-A654-08B47A64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8A6154-2047-4770-909E-D6C74A22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80FB17-09EB-4135-AD8E-13EBBA02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481272-37CD-4BD1-A3FE-C225DCB6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E43-0693-41E9-A1F4-C2ED9FBA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1AEB-A119-45CC-BD41-56A76CBD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0BBC6E-F0D0-4858-A7F1-31412846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0C599B-D5A6-4F48-9DEF-D751758B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370D18-AAB0-465B-9A8E-F755A234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79327E-FE4F-42FF-BECE-47AE78EC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416DA1-5D6F-49D8-8440-4AB1D561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5934FC-3E0C-45C2-ACEC-4058ED53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0EE092-A954-4332-9002-DEE37BA0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19ABF-9DD6-4894-AF97-8F9297DA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18B8C9-5715-42CF-AB41-FDBD650F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950951-1674-481E-A30E-9E2588B7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C6BE-D1A3-447F-A33D-01615B48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0E143D-7C67-4AFD-9294-816EE35A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7F3420-1897-4BE0-91F5-27CE876F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F21B92-29EB-4911-8C3F-9FBF7C9C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AE337E-4C36-4EBB-AB9C-34C185D2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EC7AB-B9E8-4F7E-B8FC-85578235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450460-4929-4D1E-90A0-103156FC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5EC55A-367B-4B2C-9381-8C9E159A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3FEB82-F173-4593-BA6F-1D3F969E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EF884A-BE1A-4F59-9CB3-03BF4216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7EDA0D-4F09-4A59-A9C9-3E8AFE5E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2E62-FCAB-4419-A973-210E6408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39666C-BAA3-47D1-AF8B-4CE9D1FE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4EF03D-B4B6-4477-98CA-7F29F524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8D6B41-9C17-438D-BBA5-A804E344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0DD7DF-DBC0-499B-95C4-AEFED0F7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F81EDC-6037-4F86-8CF3-E593CE18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EE5D71-6E33-4EE3-AF6A-FC7D49BD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A6C660-95A8-4326-AA41-C9199788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04837E-3470-4FA9-AFC7-07A0CEAF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039122-D4F8-4A00-BD62-113B5019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48F408-FEDF-4B33-9DDC-D6040574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E338-4B7E-4A26-A52C-3BE17FF3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317041-BD5A-4647-AB2D-A73DB252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71CC92-A836-46BD-9FAB-6C37F489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F1213E-F58C-456F-9F8C-DF226685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D4D3E2-76B1-4399-876B-730E5E2D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43B962-800A-46A2-858E-830F2A73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D7A4DC-AE2B-4830-A2D7-154C8BAA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C35077-56E6-489D-94AD-E6129503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FCE8C7-C01F-4B05-93BF-D02EA86E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83DF12-B839-4309-9AC2-98543B82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4AB9DC-20E3-46A4-ACB9-51D445E4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1E90-9F18-4B4D-9841-7CBC402D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269BD9-69DE-4EAD-99E4-F407EA42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8E713B-7C5C-4DC9-8DB1-21E187D3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6DBF76-8EB7-41B1-91A9-8D9E51DD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7B596C-F369-4017-9D76-ECFE4D4D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86B29E-A27B-44B8-85C9-F8CBB809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DC52FE-682A-46BC-A225-FFADFBBC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505251-EFF6-4A98-83F0-7BCC246B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C03DF1-5D43-4A0E-AA19-D7BC7823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4BE031-B86C-4F72-9C39-574654CD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BA9146-5546-444B-8083-F8288D95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F740D-B330-4FDC-9178-BC026F74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B4D95E-C9EB-4F58-B76D-2464280D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DD7A57-2D77-4FDD-BD4D-02232385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D75450-A6D6-4046-BD12-450E4707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FBB8F8-2719-402B-8A0E-A685C4D9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2347FF-B138-4650-B212-0B0326A9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D8F60A-56E6-46F5-9FA5-2248E28E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433BD5-555F-47AB-8318-EE1BF30E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E9AB2B-8973-4901-B1DA-D149D258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E28A7C-9DA6-46DA-91B1-F1C602AF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4B9AC1-F3B8-4A62-970D-04BADBA3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F75A-1FCD-4C66-BD1D-B6C0AFDF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F38203-E792-4888-AFB6-70D7ED91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C30EC2-59B1-4044-A3B7-32D7F763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FBF0BE-EF83-44F1-9E07-77AC0BA0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0279AD-3BB5-4CC9-8DDB-4791CFF7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4891B9-6312-4DE3-B21B-0D9F9CC0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98D50-F93F-4D01-AF01-34B05B70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93A8D-E2F4-4CCE-AE66-F309B594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EC187-75B4-416E-BFB0-6C186CFD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B08-A6F3-4FF2-AA72-07AD4A77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58C0D-9A76-4433-9189-E7C330E0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8F4EE-3A6A-4A42-A774-12B68B46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7DBE-46FE-4DEE-A77F-3FB33DFE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A28BD-E044-4F53-8FA1-21C891C9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4E346-4AD4-4A39-849F-812770BD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054B-DCA0-406D-9A9D-6AABB2FF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37683-EE4A-4B2D-9170-E0D4AB7A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C1C4C-B856-4CCA-BE59-73CA0ECC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B676D-CD7B-4FCA-959B-3C0FEDDB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73182-2346-41AA-A214-867A3BFE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3FB-C0C7-4EF0-BE41-BD02C362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9965F-0E6C-4DEE-BE55-9DD7FFB1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A900C-6887-49F7-B963-89B29E9B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21FB5-62D8-445E-9134-D02816A4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020DD-3AD1-46C0-8FFF-8613E69B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B728E-8C7A-45EF-8208-CE477C93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2CB6E-EF10-410B-9FF1-575F8BDC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B7FBD-3271-4F65-9824-AC18F7EA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90424-AD9B-4890-9CED-41779432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BE1CB-D3E8-432F-9EB0-F7D27C7B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E8B32-0322-4B17-8F5A-7BCF990D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8D91-45F1-4AFB-8CB0-8CAE4031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D4678-66B3-4E09-9C96-445152F0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E5814-5930-438A-8345-C274BAC0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0915F-732A-4E00-B2DC-9270A087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A2A18-17F5-46C7-8A1E-E29DE6EE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35F7A-BE55-4524-A4FD-CDBE1951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E02CA-9480-4112-8A8A-0F9D3B7B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D00EA-69E0-4175-B49D-D741D72B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059A3-DD19-4AEB-830A-E6E30E8B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AC45A-02B0-4BE8-8162-B672086F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80D86-A999-412D-B861-D060731B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BC5-1276-4344-A843-64625F1A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7CD17-C17A-4CA0-B7A0-05227E80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39857-5906-49FF-9186-E73CFFAF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FE2BA-DBDB-4F2F-B4D2-34A5F228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49D93-B649-4413-9060-8934CE2F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D766B-7906-4729-AA41-E7D4E510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34F14-3F7A-4022-9FF8-9245DA41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30863-337A-4195-9CA7-05037FEF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6DB5E-E41D-4251-9DD5-5150BD93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6604B-E8AE-4B18-A8EB-FD52AD9D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964AD-90DD-4265-8D9A-C10A77ED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356-1A1C-47CF-9ABA-B3CF0EE7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183AA-2E2B-4EFB-96D3-6D486CA6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FCD83-9321-4E98-9F7B-E7DB6C58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F7618-E2DB-49BD-969B-FFD58D43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FF6B2-C069-4604-9343-383B2B67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E794D-4CF2-4444-8473-39C6D604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E7628-573D-4F94-9C8D-0FA0EB02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13F92-2D33-4D08-8799-82333CF5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E3813-FDEB-4AF7-81EC-B0C73572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5176A-58E0-44A2-92ED-8A128DF8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B8A7C-1530-4456-8F05-A1CD022C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965-BBE0-47A9-A890-A3433FFF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CFBDD-5EA6-4A30-A24A-3C8D6414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AC034-AB88-4B3D-AC1B-265D41BB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1F6D2-FB04-46C9-BF30-C0CA7BC6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8CD5D-17B9-44EA-8E66-558BD93D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08A3D-83F5-462B-95E1-91A57950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A1B90-D65A-43D8-AB90-D8CC91E5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FEAC6-8BD1-4506-B5B1-D5DA700C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872F4-E098-4FA7-A2AA-E5E10BF2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FB518-641C-4549-A1B4-B0727D91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BE5B4-961B-47DA-BF52-BD4390FC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9C0-008E-4BDB-813E-40A91A5F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85436-3B72-4703-8151-5EB59E90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529EC-5494-44BF-ACAB-489B9953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B47D4-7B7F-479E-A702-399B9D85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08A54-1521-4ACE-9E65-7FCC413C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1DB79-45B7-4CC8-9AE8-2A839557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64961-ED88-4674-AB0D-9F546E15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460F6-BC29-4A77-BF5D-52416390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03DB5-B5CB-4061-AA86-3A5CB8E7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E0ADD-549D-40F6-8381-4EDA83BA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85050-5EC1-4261-9117-63F48ACD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3EFB-EEC2-4E06-9FC6-BAED25A941D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51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455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59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CD8C-1B4B-4F11-AB7A-215AF62C926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4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0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2A98-1C92-43A5-8C97-C3259B693C0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55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69A0-E03A-4A05-B4A6-F9E84CC9F69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E1BA-CA9C-4F15-B7D7-C6D48DEB776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3CCB-61A9-4E7C-9FE5-A38D61A251B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8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B22D-9A65-4A40-ADC9-A8EDD64514C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4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2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E417-D6E6-471E-88EB-306B4507E9D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5031-570D-4911-ACFD-DD626B3677C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E904-398C-4E75-B64F-1669E9EFC24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4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85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5C66-765B-4A43-B378-759701A7DDE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23B6-0E16-4B72-8C13-5451E9196CC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0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7EFC-D2C0-47E7-995F-2D29E467BF8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9E53-924D-4B4E-8259-FC66EF542AF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6FFB-A204-4DC9-953F-59D6D320B55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6C31-B234-48DD-95C3-9412767AC0D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88C0-387E-47F7-9E3C-31C812B7D2B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6D3C-91C5-4FFA-ADF5-53533A86E88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5130-575A-4E2E-B4DF-CD9789DC8AF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B55E-EE41-4951-9705-8E0C8811F6F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3276-FE5E-4CC3-905B-DC26F097FC8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3A8D-D722-43D1-8C6D-D7CDE9C7F7E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gi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9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29" descr="ser"/>
          <p:cNvPicPr/>
          <p:nvPr/>
        </p:nvPicPr>
        <p:blipFill>
          <a:blip r:embed="rId1"/>
          <a:stretch/>
        </p:blipFill>
        <p:spPr>
          <a:xfrm>
            <a:off x="285840" y="214200"/>
            <a:ext cx="1314360" cy="1314720"/>
          </a:xfrm>
          <a:prstGeom prst="rect">
            <a:avLst/>
          </a:prstGeom>
          <a:ln w="0">
            <a:noFill/>
          </a:ln>
        </p:spPr>
      </p:pic>
      <p:sp>
        <p:nvSpPr>
          <p:cNvPr id="1036" name="TextBox 4"/>
          <p:cNvSpPr/>
          <p:nvPr/>
        </p:nvSpPr>
        <p:spPr>
          <a:xfrm>
            <a:off x="1332000" y="4724280"/>
            <a:ext cx="73832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d13b"/>
                </a:solidFill>
                <a:latin typeface="Corbel"/>
              </a:rPr>
              <a:t>Работ</a:t>
            </a:r>
            <a:r>
              <a:rPr b="1" lang="en-US" sz="2000" spc="-1" strike="noStrike">
                <a:solidFill>
                  <a:srgbClr val="7fd13b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7fd13b"/>
                </a:solidFill>
                <a:latin typeface="Corbel"/>
              </a:rPr>
              <a:t> выпо</a:t>
            </a:r>
            <a:r>
              <a:rPr b="1" lang="en-US" sz="2000" spc="-1" strike="noStrike">
                <a:solidFill>
                  <a:srgbClr val="7fd13b"/>
                </a:solidFill>
                <a:latin typeface="Arial"/>
              </a:rPr>
              <a:t>лн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d13b"/>
                </a:solidFill>
                <a:latin typeface="Arial"/>
              </a:rPr>
              <a:t>ученица  8 «А» клас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d13b"/>
                </a:solidFill>
                <a:latin typeface="Arial"/>
              </a:rPr>
              <a:t>МБОУ СОШ № 21 г.Владими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d13b"/>
                </a:solidFill>
                <a:latin typeface="Arial"/>
              </a:rPr>
              <a:t>Тихомирова Светл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ководитель: учитель физики Саркисова А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157a"/>
                </a:solidFill>
                <a:latin typeface="Arial"/>
              </a:rPr>
              <a:t>           </a:t>
            </a:r>
            <a:r>
              <a:rPr b="1" i="1" lang="en-US" sz="4000" spc="-1" strike="noStrike">
                <a:solidFill>
                  <a:srgbClr val="ea157a"/>
                </a:solidFill>
                <a:latin typeface="Arial"/>
              </a:rPr>
              <a:t>«Сила трения»</a:t>
            </a:r>
            <a:r>
              <a:rPr b="0" lang="en-US" sz="4000" spc="-1" strike="noStrike">
                <a:solidFill>
                  <a:srgbClr val="c1ee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1038" name="" descr="Картинка 3 из 10069"/>
          <p:cNvPicPr/>
          <p:nvPr/>
        </p:nvPicPr>
        <p:blipFill>
          <a:blip r:embed="rId2"/>
          <a:stretch/>
        </p:blipFill>
        <p:spPr>
          <a:xfrm>
            <a:off x="2700360" y="1341360"/>
            <a:ext cx="456084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TextBox 1"/>
          <p:cNvSpPr/>
          <p:nvPr/>
        </p:nvSpPr>
        <p:spPr>
          <a:xfrm>
            <a:off x="285840" y="214200"/>
            <a:ext cx="84294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ЗАВИСИМОСТЬ ТРЕНИЯ ОТ ВНЕШНИХ ФАКТОР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ла трения  ЗАВИСИТ от материала, из которого изготовлены те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ла трения ЗАВИСИТ  от качества обработки   поверхнос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ла трения  ЗАВИСИТ от нагруз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ла трения СЛАБО ЗАВИСИТ от относительной скорости трущихся поверхностей взаимодействующих те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ла трения  НЕ ЗАВИСИТ от площади трущихся поверх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5" name="Рисунок 12" descr="TN00211_.WMF"/>
          <p:cNvPicPr/>
          <p:nvPr/>
        </p:nvPicPr>
        <p:blipFill>
          <a:blip r:embed="rId1"/>
          <a:stretch/>
        </p:blipFill>
        <p:spPr>
          <a:xfrm flipH="1">
            <a:off x="7000560" y="2714760"/>
            <a:ext cx="2143080" cy="112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Box 1"/>
          <p:cNvSpPr/>
          <p:nvPr/>
        </p:nvSpPr>
        <p:spPr>
          <a:xfrm>
            <a:off x="1643040" y="50004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ОРЬБА  С  ТРЕНИЕМ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ОСОБЫ УМЕНЬШЕНИ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7" name="Прямая со стрелкой 3"/>
          <p:cNvCxnSpPr/>
          <p:nvPr/>
        </p:nvCxnSpPr>
        <p:spPr>
          <a:xfrm flipH="1">
            <a:off x="1285560" y="1141920"/>
            <a:ext cx="1643760" cy="1215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138" name="TextBox 4"/>
          <p:cNvSpPr/>
          <p:nvPr/>
        </p:nvSpPr>
        <p:spPr>
          <a:xfrm>
            <a:off x="222840" y="250020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меньшение</a:t>
            </a:r>
            <a:r>
              <a:rPr b="1" lang="en-US" sz="1800" spc="-1" strike="noStrike">
                <a:solidFill>
                  <a:srgbClr val="0d5a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гру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9" name="Прямая со стрелкой 6"/>
          <p:cNvCxnSpPr/>
          <p:nvPr/>
        </p:nvCxnSpPr>
        <p:spPr>
          <a:xfrm>
            <a:off x="5715000" y="1213920"/>
            <a:ext cx="1357920" cy="1358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140" name="TextBox 7"/>
          <p:cNvSpPr/>
          <p:nvPr/>
        </p:nvSpPr>
        <p:spPr>
          <a:xfrm>
            <a:off x="6008400" y="26431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Шлифо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41" name="Прямая со стрелкой 9"/>
          <p:cNvCxnSpPr/>
          <p:nvPr/>
        </p:nvCxnSpPr>
        <p:spPr>
          <a:xfrm flipH="1">
            <a:off x="2571480" y="1356840"/>
            <a:ext cx="1359360" cy="2072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142" name="TextBox 10"/>
          <p:cNvSpPr/>
          <p:nvPr/>
        </p:nvSpPr>
        <p:spPr>
          <a:xfrm>
            <a:off x="2080080" y="3500280"/>
            <a:ext cx="13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маз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шарни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лыж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TextBox 11"/>
          <p:cNvSpPr/>
          <p:nvPr/>
        </p:nvSpPr>
        <p:spPr>
          <a:xfrm>
            <a:off x="1930320" y="39290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44" name="Прямая со стрелкой 14"/>
          <p:cNvCxnSpPr/>
          <p:nvPr/>
        </p:nvCxnSpPr>
        <p:spPr>
          <a:xfrm>
            <a:off x="4500720" y="1285920"/>
            <a:ext cx="1000800" cy="2358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145" name="TextBox 15"/>
          <p:cNvSpPr/>
          <p:nvPr/>
        </p:nvSpPr>
        <p:spPr>
          <a:xfrm>
            <a:off x="3929040" y="364320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мена трения скольжения трением ка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6" name="Рисунок 17" descr="mashina.gif"/>
          <p:cNvPicPr/>
          <p:nvPr/>
        </p:nvPicPr>
        <p:blipFill>
          <a:blip r:embed="rId1"/>
          <a:stretch/>
        </p:blipFill>
        <p:spPr>
          <a:xfrm flipH="1">
            <a:off x="428400" y="5072040"/>
            <a:ext cx="2500200" cy="10954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4" descr=""/>
          <p:cNvPicPr/>
          <p:nvPr/>
        </p:nvPicPr>
        <p:blipFill>
          <a:blip r:embed="rId2"/>
          <a:stretch/>
        </p:blipFill>
        <p:spPr>
          <a:xfrm>
            <a:off x="6715080" y="4000680"/>
            <a:ext cx="2065320" cy="157932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/>
          <p:cNvPicPr/>
          <p:nvPr/>
        </p:nvPicPr>
        <p:blipFill>
          <a:blip r:embed="rId3"/>
          <a:stretch/>
        </p:blipFill>
        <p:spPr>
          <a:xfrm>
            <a:off x="3492360" y="5013360"/>
            <a:ext cx="22338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TextBox 1"/>
          <p:cNvSpPr/>
          <p:nvPr/>
        </p:nvSpPr>
        <p:spPr>
          <a:xfrm>
            <a:off x="357120" y="428760"/>
            <a:ext cx="8429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6ec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d6ecff"/>
                </a:solidFill>
                <a:latin typeface="Arial"/>
              </a:rPr>
              <a:t>В знаете ли вы, что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ec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d6ecff"/>
                </a:solidFill>
                <a:latin typeface="Arial"/>
              </a:rPr>
              <a:t>18 августа 1851 года император Николай 1 совершил первую поездку из Петербурга в Москву по железной дороге. Императорский поезд был готов к отправлению в 4 утра. Начальник строительства дороги, генерал Клейнмихель, чтобы подчеркнуть особенную торжественность события, приказал первую версту железнодорожного полотна покрасить белой масляной краской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ec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d6ecff"/>
                </a:solidFill>
                <a:latin typeface="Arial"/>
              </a:rPr>
              <a:t>Это было красиво и подчёркивало то обстоятельство, что императорский поезд первым пройдёт по нетронутой белизне уходящих вдаль рельсов. Однако Клейнмихель не учёл одного обстоятельства… Он  забыл о смазочном действии масляной краски, уменьшающем трение- паровоз буксовал. А что же было  дальш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ec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d6ecff"/>
                </a:solidFill>
                <a:latin typeface="Arial"/>
              </a:rPr>
              <a:t>Жандармы, подобрав полы шинелей, бежали эту версту перед поездом и посыпали песком покрашенные рельсы. Заче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Рисунок 2" descr="TN00255_.WMF"/>
          <p:cNvPicPr/>
          <p:nvPr/>
        </p:nvPicPr>
        <p:blipFill>
          <a:blip r:embed="rId1"/>
          <a:stretch/>
        </p:blipFill>
        <p:spPr>
          <a:xfrm>
            <a:off x="1920960" y="4638600"/>
            <a:ext cx="5156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5292720" y="3068640"/>
            <a:ext cx="2219400" cy="154296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2"/>
          <a:stretch/>
        </p:blipFill>
        <p:spPr>
          <a:xfrm>
            <a:off x="2556000" y="2708280"/>
            <a:ext cx="1380960" cy="1371600"/>
          </a:xfrm>
          <a:prstGeom prst="rect">
            <a:avLst/>
          </a:prstGeom>
          <a:ln w="0">
            <a:noFill/>
          </a:ln>
        </p:spPr>
      </p:pic>
      <p:pic>
        <p:nvPicPr>
          <p:cNvPr id="1041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286000" cy="1581120"/>
          </a:xfrm>
          <a:prstGeom prst="rect">
            <a:avLst/>
          </a:prstGeom>
          <a:ln w="0">
            <a:noFill/>
          </a:ln>
        </p:spPr>
      </p:pic>
      <p:pic>
        <p:nvPicPr>
          <p:cNvPr id="1042" name="" descr=""/>
          <p:cNvPicPr/>
          <p:nvPr/>
        </p:nvPicPr>
        <p:blipFill>
          <a:blip r:embed="rId4"/>
          <a:stretch/>
        </p:blipFill>
        <p:spPr>
          <a:xfrm>
            <a:off x="5796000" y="5013360"/>
            <a:ext cx="1905120" cy="1514520"/>
          </a:xfrm>
          <a:prstGeom prst="rect">
            <a:avLst/>
          </a:prstGeom>
          <a:ln w="0">
            <a:noFill/>
          </a:ln>
        </p:spPr>
      </p:pic>
      <p:pic>
        <p:nvPicPr>
          <p:cNvPr id="1043" name="" descr=""/>
          <p:cNvPicPr/>
          <p:nvPr/>
        </p:nvPicPr>
        <p:blipFill>
          <a:blip r:embed="rId5"/>
          <a:stretch/>
        </p:blipFill>
        <p:spPr>
          <a:xfrm>
            <a:off x="3419640" y="4365720"/>
            <a:ext cx="1739880" cy="198108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6"/>
          <a:stretch/>
        </p:blipFill>
        <p:spPr>
          <a:xfrm>
            <a:off x="7543800" y="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045" name="Текст 12" descr=""/>
          <p:cNvPicPr/>
          <p:nvPr/>
        </p:nvPicPr>
        <p:blipFill>
          <a:blip r:embed="rId7"/>
          <a:stretch/>
        </p:blipFill>
        <p:spPr>
          <a:xfrm>
            <a:off x="1619280" y="549360"/>
            <a:ext cx="576108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3000" fill="hold"/>
                                        <p:tgtEl>
                                          <p:spTgt spid="10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TextBox 9"/>
          <p:cNvSpPr/>
          <p:nvPr/>
        </p:nvSpPr>
        <p:spPr>
          <a:xfrm>
            <a:off x="642960" y="30718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Box 11"/>
          <p:cNvSpPr/>
          <p:nvPr/>
        </p:nvSpPr>
        <p:spPr>
          <a:xfrm>
            <a:off x="285840" y="3429000"/>
            <a:ext cx="8643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рение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механическое сопротивление движению, возникающее в плоскости касаний двух соприкасающихся прижатых друг к другу тел при их относительном перемещ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Прямоугольник 4"/>
          <p:cNvSpPr/>
          <p:nvPr/>
        </p:nvSpPr>
        <p:spPr>
          <a:xfrm>
            <a:off x="571680" y="92880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рение – вид взаимодействия т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Причины возникновения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трения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142920" y="3142800"/>
            <a:ext cx="40384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Шероховатости    трущихся поверхностей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72000" y="3214440"/>
            <a:ext cx="403848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Силы молекулярного взаимодействия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1052" name="Прямая со стрелкой 5"/>
          <p:cNvCxnSpPr/>
          <p:nvPr/>
        </p:nvCxnSpPr>
        <p:spPr>
          <a:xfrm flipH="1">
            <a:off x="2142720" y="1714680"/>
            <a:ext cx="1572480" cy="14292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53" name="Прямая со стрелкой 7"/>
          <p:cNvCxnSpPr/>
          <p:nvPr/>
        </p:nvCxnSpPr>
        <p:spPr>
          <a:xfrm>
            <a:off x="5643720" y="1643040"/>
            <a:ext cx="1429200" cy="15724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054" name="Picture 6" descr=""/>
          <p:cNvPicPr/>
          <p:nvPr/>
        </p:nvPicPr>
        <p:blipFill>
          <a:blip r:embed="rId1"/>
          <a:stretch/>
        </p:blipFill>
        <p:spPr>
          <a:xfrm>
            <a:off x="390600" y="4925880"/>
            <a:ext cx="3535200" cy="1650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2"/>
          <a:stretch/>
        </p:blipFill>
        <p:spPr>
          <a:xfrm>
            <a:off x="5000760" y="4929120"/>
            <a:ext cx="328608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10"/>
          <p:cNvSpPr/>
          <p:nvPr/>
        </p:nvSpPr>
        <p:spPr>
          <a:xfrm>
            <a:off x="6877080" y="2276640"/>
            <a:ext cx="1657440" cy="936360"/>
          </a:xfrm>
          <a:prstGeom prst="rect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8"/>
          <p:cNvSpPr/>
          <p:nvPr/>
        </p:nvSpPr>
        <p:spPr>
          <a:xfrm>
            <a:off x="3492360" y="2205000"/>
            <a:ext cx="2089440" cy="1008000"/>
          </a:xfrm>
          <a:prstGeom prst="rect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6"/>
          <p:cNvSpPr/>
          <p:nvPr/>
        </p:nvSpPr>
        <p:spPr>
          <a:xfrm>
            <a:off x="611280" y="2205000"/>
            <a:ext cx="1368360" cy="1008000"/>
          </a:xfrm>
          <a:prstGeom prst="rect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        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Виды тр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0" name="Text Box 5"/>
          <p:cNvSpPr/>
          <p:nvPr/>
        </p:nvSpPr>
        <p:spPr>
          <a:xfrm>
            <a:off x="539640" y="2205000"/>
            <a:ext cx="14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о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7"/>
          <p:cNvSpPr/>
          <p:nvPr/>
        </p:nvSpPr>
        <p:spPr>
          <a:xfrm>
            <a:off x="3348000" y="227664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коль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9"/>
          <p:cNvSpPr/>
          <p:nvPr/>
        </p:nvSpPr>
        <p:spPr>
          <a:xfrm>
            <a:off x="6659640" y="220500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Line 11"/>
          <p:cNvSpPr/>
          <p:nvPr/>
        </p:nvSpPr>
        <p:spPr>
          <a:xfrm flipH="1">
            <a:off x="1258560" y="1052640"/>
            <a:ext cx="2663640" cy="86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12"/>
          <p:cNvSpPr/>
          <p:nvPr/>
        </p:nvSpPr>
        <p:spPr>
          <a:xfrm>
            <a:off x="4427640" y="1052640"/>
            <a:ext cx="0" cy="1152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Line 13"/>
          <p:cNvSpPr/>
          <p:nvPr/>
        </p:nvSpPr>
        <p:spPr>
          <a:xfrm>
            <a:off x="4859280" y="1052640"/>
            <a:ext cx="2881440" cy="1081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6" name="Picture 15" descr=""/>
          <p:cNvPicPr/>
          <p:nvPr/>
        </p:nvPicPr>
        <p:blipFill>
          <a:blip r:embed="rId1"/>
          <a:srcRect l="14441" t="0" r="0" b="0"/>
          <a:stretch/>
        </p:blipFill>
        <p:spPr>
          <a:xfrm>
            <a:off x="179280" y="5157720"/>
            <a:ext cx="2579760" cy="13208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6" descr=""/>
          <p:cNvPicPr/>
          <p:nvPr/>
        </p:nvPicPr>
        <p:blipFill>
          <a:blip r:embed="rId2"/>
          <a:srcRect l="6589" t="0" r="0" b="0"/>
          <a:stretch/>
        </p:blipFill>
        <p:spPr>
          <a:xfrm>
            <a:off x="6156360" y="5157720"/>
            <a:ext cx="2789280" cy="12430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7" descr=""/>
          <p:cNvPicPr/>
          <p:nvPr/>
        </p:nvPicPr>
        <p:blipFill>
          <a:blip r:embed="rId3"/>
          <a:srcRect l="2630" t="0" r="2630" b="0"/>
          <a:stretch/>
        </p:blipFill>
        <p:spPr>
          <a:xfrm>
            <a:off x="3059280" y="5084640"/>
            <a:ext cx="2895480" cy="13543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9" descr="4BC55034"/>
          <p:cNvPicPr/>
          <p:nvPr/>
        </p:nvPicPr>
        <p:blipFill>
          <a:blip r:embed="rId4"/>
          <a:srcRect l="0" t="24387" r="61258" b="53346"/>
          <a:stretch/>
        </p:blipFill>
        <p:spPr>
          <a:xfrm>
            <a:off x="3132000" y="3500280"/>
            <a:ext cx="3168720" cy="13287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21" descr="4BC55034"/>
          <p:cNvPicPr/>
          <p:nvPr/>
        </p:nvPicPr>
        <p:blipFill>
          <a:blip r:embed="rId5"/>
          <a:srcRect l="61258" t="24387" r="0" b="53346"/>
          <a:stretch/>
        </p:blipFill>
        <p:spPr>
          <a:xfrm>
            <a:off x="179280" y="3500280"/>
            <a:ext cx="2880000" cy="14414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22" descr="4BC55034"/>
          <p:cNvPicPr/>
          <p:nvPr/>
        </p:nvPicPr>
        <p:blipFill>
          <a:blip r:embed="rId6"/>
          <a:srcRect l="37697" t="22862" r="35341" b="53346"/>
          <a:stretch/>
        </p:blipFill>
        <p:spPr>
          <a:xfrm>
            <a:off x="6516720" y="3429000"/>
            <a:ext cx="2627280" cy="1406520"/>
          </a:xfrm>
          <a:prstGeom prst="rect">
            <a:avLst/>
          </a:prstGeom>
          <a:ln w="0">
            <a:noFill/>
          </a:ln>
        </p:spPr>
      </p:pic>
      <p:sp>
        <p:nvSpPr>
          <p:cNvPr id="1072" name=""/>
          <p:cNvSpPr/>
          <p:nvPr/>
        </p:nvSpPr>
        <p:spPr>
          <a:xfrm>
            <a:off x="1547640" y="4221000"/>
            <a:ext cx="358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97964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050920" y="4148280"/>
            <a:ext cx="144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1331640" y="443700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116000" y="4508640"/>
            <a:ext cx="8636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Tahoma"/>
              </a:rPr>
              <a:t>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3995280" y="4508640"/>
            <a:ext cx="505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636000" y="405144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708360" y="407664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7164360" y="4437000"/>
            <a:ext cx="503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734520" y="3933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877080" y="3933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95280" y="1341360"/>
            <a:ext cx="1008000" cy="36036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Box 4"/>
          <p:cNvSpPr/>
          <p:nvPr/>
        </p:nvSpPr>
        <p:spPr>
          <a:xfrm>
            <a:off x="1214280" y="50004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Виды  тре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Прямоугольник 3"/>
          <p:cNvSpPr/>
          <p:nvPr/>
        </p:nvSpPr>
        <p:spPr>
          <a:xfrm>
            <a:off x="4357800" y="3143160"/>
            <a:ext cx="785880" cy="3571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86" name="Прямая со стрелкой 7"/>
          <p:cNvCxnSpPr/>
          <p:nvPr/>
        </p:nvCxnSpPr>
        <p:spPr>
          <a:xfrm>
            <a:off x="4928760" y="2857680"/>
            <a:ext cx="7866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7" name="TextBox 8"/>
          <p:cNvSpPr/>
          <p:nvPr/>
        </p:nvSpPr>
        <p:spPr>
          <a:xfrm>
            <a:off x="5072040" y="2357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Прямая соединительная линия 10"/>
          <p:cNvSpPr/>
          <p:nvPr/>
        </p:nvSpPr>
        <p:spPr>
          <a:xfrm>
            <a:off x="3714840" y="3500280"/>
            <a:ext cx="1857240" cy="1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89" name="Прямая со стрелкой 12"/>
          <p:cNvCxnSpPr/>
          <p:nvPr/>
        </p:nvCxnSpPr>
        <p:spPr>
          <a:xfrm flipH="1">
            <a:off x="4071240" y="3357720"/>
            <a:ext cx="68004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0" name="TextBox 37"/>
          <p:cNvSpPr/>
          <p:nvPr/>
        </p:nvSpPr>
        <p:spPr>
          <a:xfrm>
            <a:off x="857160" y="4071960"/>
            <a:ext cx="7643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зникает при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скольжении</a:t>
            </a:r>
            <a:r>
              <a:rPr b="0" i="1" lang="en-US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ного тела по поверхности друго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3f04"/>
                </a:solidFill>
                <a:latin typeface="Arial"/>
              </a:rPr>
              <a:t>При движении саней, лыж по сне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Box 31"/>
          <p:cNvSpPr/>
          <p:nvPr/>
        </p:nvSpPr>
        <p:spPr>
          <a:xfrm>
            <a:off x="3149280" y="1714680"/>
            <a:ext cx="32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3f04"/>
                </a:solidFill>
                <a:latin typeface="Arial"/>
              </a:rPr>
              <a:t>1.Трение сколь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Box 9"/>
          <p:cNvSpPr/>
          <p:nvPr/>
        </p:nvSpPr>
        <p:spPr>
          <a:xfrm>
            <a:off x="4071960" y="364320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F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Verdana"/>
              </a:rPr>
              <a:t>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93" name="Прямая со стрелкой 15"/>
          <p:cNvCxnSpPr/>
          <p:nvPr/>
        </p:nvCxnSpPr>
        <p:spPr>
          <a:xfrm>
            <a:off x="5072040" y="2356920"/>
            <a:ext cx="286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4" name="Прямая со стрелкой 25"/>
          <p:cNvCxnSpPr>
            <a:endCxn id="1092" idx="0"/>
          </p:cNvCxnSpPr>
          <p:nvPr/>
        </p:nvCxnSpPr>
        <p:spPr>
          <a:xfrm>
            <a:off x="4071960" y="3642840"/>
            <a:ext cx="28656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095" name="Group 12"/>
          <p:cNvGrpSpPr/>
          <p:nvPr/>
        </p:nvGrpSpPr>
        <p:grpSpPr>
          <a:xfrm>
            <a:off x="6443640" y="0"/>
            <a:ext cx="2700360" cy="2808360"/>
            <a:chOff x="6443640" y="0"/>
            <a:chExt cx="2700360" cy="2808360"/>
          </a:xfrm>
        </p:grpSpPr>
        <p:grpSp>
          <p:nvGrpSpPr>
            <p:cNvPr id="1096" name="Group 13"/>
            <p:cNvGrpSpPr/>
            <p:nvPr/>
          </p:nvGrpSpPr>
          <p:grpSpPr>
            <a:xfrm>
              <a:off x="6443640" y="0"/>
              <a:ext cx="2700360" cy="2808360"/>
              <a:chOff x="6443640" y="0"/>
              <a:chExt cx="2700360" cy="2808360"/>
            </a:xfrm>
          </p:grpSpPr>
          <p:pic>
            <p:nvPicPr>
              <p:cNvPr id="1097" name="Picture 14" descr="AG00420_"/>
              <p:cNvPicPr/>
              <p:nvPr/>
            </p:nvPicPr>
            <p:blipFill>
              <a:blip r:embed="rId1"/>
              <a:stretch/>
            </p:blipFill>
            <p:spPr>
              <a:xfrm>
                <a:off x="6443640" y="0"/>
                <a:ext cx="2700360" cy="280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8" name="Line 15"/>
              <p:cNvSpPr/>
              <p:nvPr/>
            </p:nvSpPr>
            <p:spPr>
              <a:xfrm flipV="1">
                <a:off x="7214760" y="1141920"/>
                <a:ext cx="870120" cy="684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9" name="Text Box 16"/>
            <p:cNvSpPr/>
            <p:nvPr/>
          </p:nvSpPr>
          <p:spPr>
            <a:xfrm rot="19402200">
              <a:off x="8077320" y="1095120"/>
              <a:ext cx="870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 т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00" name="Прямая со стрелкой 20"/>
          <p:cNvCxnSpPr/>
          <p:nvPr/>
        </p:nvCxnSpPr>
        <p:spPr>
          <a:xfrm flipV="1">
            <a:off x="8001000" y="1213920"/>
            <a:ext cx="286560" cy="21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101" name="Picture 4" descr="j0283043"/>
          <p:cNvPicPr/>
          <p:nvPr/>
        </p:nvPicPr>
        <p:blipFill>
          <a:blip r:embed="rId2"/>
          <a:stretch/>
        </p:blipFill>
        <p:spPr>
          <a:xfrm>
            <a:off x="0" y="1000080"/>
            <a:ext cx="330372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TextBox 4"/>
          <p:cNvSpPr/>
          <p:nvPr/>
        </p:nvSpPr>
        <p:spPr>
          <a:xfrm>
            <a:off x="357120" y="500040"/>
            <a:ext cx="83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Виды  тр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Овал 13"/>
          <p:cNvSpPr/>
          <p:nvPr/>
        </p:nvSpPr>
        <p:spPr>
          <a:xfrm>
            <a:off x="4643280" y="3357720"/>
            <a:ext cx="500400" cy="428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Прямая соединительная линия 15"/>
          <p:cNvSpPr/>
          <p:nvPr/>
        </p:nvSpPr>
        <p:spPr>
          <a:xfrm>
            <a:off x="3929040" y="3786120"/>
            <a:ext cx="2071800" cy="1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5" name="Прямая со стрелкой 19"/>
          <p:cNvCxnSpPr/>
          <p:nvPr/>
        </p:nvCxnSpPr>
        <p:spPr>
          <a:xfrm flipH="1">
            <a:off x="4500000" y="3571920"/>
            <a:ext cx="3942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06" name="Прямая со стрелкой 20"/>
          <p:cNvCxnSpPr/>
          <p:nvPr/>
        </p:nvCxnSpPr>
        <p:spPr>
          <a:xfrm>
            <a:off x="5214960" y="3357720"/>
            <a:ext cx="643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7" name="TextBox 22"/>
          <p:cNvSpPr/>
          <p:nvPr/>
        </p:nvSpPr>
        <p:spPr>
          <a:xfrm>
            <a:off x="5356800" y="2928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Box 39"/>
          <p:cNvSpPr/>
          <p:nvPr/>
        </p:nvSpPr>
        <p:spPr>
          <a:xfrm>
            <a:off x="928800" y="442908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одно тело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катитс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поверхности друго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3f04"/>
                </a:solidFill>
                <a:latin typeface="Arial"/>
              </a:rPr>
              <a:t>При движении колёс вагона, автомобиля, при перекатывании брёвен или бочек по зем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30"/>
          <p:cNvSpPr/>
          <p:nvPr/>
        </p:nvSpPr>
        <p:spPr>
          <a:xfrm>
            <a:off x="2857680" y="1500120"/>
            <a:ext cx="307152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3f04"/>
                </a:solidFill>
                <a:latin typeface="Arial"/>
              </a:rPr>
              <a:t>2.Трение к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Прямоугольник 9"/>
          <p:cNvSpPr/>
          <p:nvPr/>
        </p:nvSpPr>
        <p:spPr>
          <a:xfrm>
            <a:off x="4628880" y="3929040"/>
            <a:ext cx="46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F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Verdana"/>
              </a:rPr>
              <a:t>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1" name="Прямая со стрелкой 14"/>
          <p:cNvCxnSpPr/>
          <p:nvPr/>
        </p:nvCxnSpPr>
        <p:spPr>
          <a:xfrm>
            <a:off x="5357880" y="292896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2" name="Прямая со стрелкой 17"/>
          <p:cNvCxnSpPr/>
          <p:nvPr/>
        </p:nvCxnSpPr>
        <p:spPr>
          <a:xfrm>
            <a:off x="4642920" y="3929040"/>
            <a:ext cx="3582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113" name="Picture 26" descr="boyonskateboard2"/>
          <p:cNvPicPr/>
          <p:nvPr/>
        </p:nvPicPr>
        <p:blipFill>
          <a:blip r:embed="rId1"/>
          <a:stretch/>
        </p:blipFill>
        <p:spPr>
          <a:xfrm>
            <a:off x="6215040" y="2071800"/>
            <a:ext cx="2303640" cy="18651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7" descr="j0234683"/>
          <p:cNvPicPr/>
          <p:nvPr/>
        </p:nvPicPr>
        <p:blipFill>
          <a:blip r:embed="rId2"/>
          <a:stretch/>
        </p:blipFill>
        <p:spPr>
          <a:xfrm flipH="1">
            <a:off x="357120" y="1571760"/>
            <a:ext cx="20001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Box 4"/>
          <p:cNvSpPr/>
          <p:nvPr/>
        </p:nvSpPr>
        <p:spPr>
          <a:xfrm>
            <a:off x="357120" y="500040"/>
            <a:ext cx="83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Виды  тр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Прямая соединительная линия 24"/>
          <p:cNvSpPr/>
          <p:nvPr/>
        </p:nvSpPr>
        <p:spPr>
          <a:xfrm>
            <a:off x="3571920" y="3429000"/>
            <a:ext cx="200016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Прямоугольник 25"/>
          <p:cNvSpPr/>
          <p:nvPr/>
        </p:nvSpPr>
        <p:spPr>
          <a:xfrm>
            <a:off x="4143240" y="2643120"/>
            <a:ext cx="642960" cy="7858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8" name="Прямая со стрелкой 27"/>
          <p:cNvCxnSpPr/>
          <p:nvPr/>
        </p:nvCxnSpPr>
        <p:spPr>
          <a:xfrm>
            <a:off x="4142880" y="2786040"/>
            <a:ext cx="50076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19" name="Прямая со стрелкой 29"/>
          <p:cNvCxnSpPr/>
          <p:nvPr/>
        </p:nvCxnSpPr>
        <p:spPr>
          <a:xfrm flipH="1">
            <a:off x="3999960" y="3071520"/>
            <a:ext cx="4640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20" name="TextBox 32"/>
          <p:cNvSpPr/>
          <p:nvPr/>
        </p:nvSpPr>
        <p:spPr>
          <a:xfrm>
            <a:off x="4985280" y="2714760"/>
            <a:ext cx="5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TextBox 40"/>
          <p:cNvSpPr/>
          <p:nvPr/>
        </p:nvSpPr>
        <p:spPr>
          <a:xfrm>
            <a:off x="928800" y="4000680"/>
            <a:ext cx="7572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ет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между покоящимис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руг относительно друга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телами;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783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3f04"/>
                </a:solidFill>
                <a:latin typeface="Arial"/>
              </a:rPr>
              <a:t>Удерживается гвоздь, забитый в доску, не даёт развязаться банту на лен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TextBox 26"/>
          <p:cNvSpPr/>
          <p:nvPr/>
        </p:nvSpPr>
        <p:spPr>
          <a:xfrm>
            <a:off x="4138920" y="22147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Box 30"/>
          <p:cNvSpPr/>
          <p:nvPr/>
        </p:nvSpPr>
        <p:spPr>
          <a:xfrm>
            <a:off x="2857680" y="1500120"/>
            <a:ext cx="307152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3f04"/>
                </a:solidFill>
                <a:latin typeface="Arial"/>
              </a:rPr>
              <a:t>3.Трение поко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Прямоугольник 10"/>
          <p:cNvSpPr/>
          <p:nvPr/>
        </p:nvSpPr>
        <p:spPr>
          <a:xfrm>
            <a:off x="4128840" y="3214800"/>
            <a:ext cx="46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F</a:t>
            </a:r>
            <a:r>
              <a:rPr b="1" lang="ru-RU" sz="1800" spc="-1" strike="noStrike" baseline="-25000">
                <a:solidFill>
                  <a:srgbClr val="ff0000"/>
                </a:solidFill>
                <a:latin typeface="Verdana"/>
              </a:rPr>
              <a:t>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5" name="Прямая со стрелкой 14"/>
          <p:cNvCxnSpPr/>
          <p:nvPr/>
        </p:nvCxnSpPr>
        <p:spPr>
          <a:xfrm>
            <a:off x="4143240" y="221472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6" name="Прямая со стрелкой 20"/>
          <p:cNvCxnSpPr/>
          <p:nvPr/>
        </p:nvCxnSpPr>
        <p:spPr>
          <a:xfrm>
            <a:off x="4214880" y="3214800"/>
            <a:ext cx="2880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127" name="Picture 32" descr="molotok"/>
          <p:cNvPicPr/>
          <p:nvPr/>
        </p:nvPicPr>
        <p:blipFill>
          <a:blip r:embed="rId1"/>
          <a:stretch/>
        </p:blipFill>
        <p:spPr>
          <a:xfrm>
            <a:off x="4714920" y="4357800"/>
            <a:ext cx="129528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Рисунок 1" descr="SO00299_.WMF"/>
          <p:cNvPicPr/>
          <p:nvPr/>
        </p:nvPicPr>
        <p:blipFill>
          <a:blip r:embed="rId1"/>
          <a:stretch/>
        </p:blipFill>
        <p:spPr>
          <a:xfrm>
            <a:off x="571680" y="571680"/>
            <a:ext cx="8143560" cy="4071600"/>
          </a:xfrm>
          <a:prstGeom prst="rect">
            <a:avLst/>
          </a:prstGeom>
          <a:ln w="0">
            <a:noFill/>
          </a:ln>
        </p:spPr>
      </p:pic>
      <p:sp>
        <p:nvSpPr>
          <p:cNvPr id="1129" name="TextBox 2"/>
          <p:cNvSpPr/>
          <p:nvPr/>
        </p:nvSpPr>
        <p:spPr>
          <a:xfrm>
            <a:off x="857160" y="5214960"/>
            <a:ext cx="77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Сила трения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то сила, возникающая при движении одного тела по поверхности другого, и направленная противоположно движ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0" name="Прямая со стрелкой 6"/>
          <p:cNvCxnSpPr/>
          <p:nvPr/>
        </p:nvCxnSpPr>
        <p:spPr>
          <a:xfrm flipH="1" flipV="1">
            <a:off x="785160" y="3499560"/>
            <a:ext cx="1143720" cy="25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131" name="Прямая со стрелкой 8"/>
          <p:cNvCxnSpPr/>
          <p:nvPr/>
        </p:nvCxnSpPr>
        <p:spPr>
          <a:xfrm>
            <a:off x="3429000" y="2999880"/>
            <a:ext cx="128664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132" name="TextBox 9"/>
          <p:cNvSpPr/>
          <p:nvPr/>
        </p:nvSpPr>
        <p:spPr>
          <a:xfrm>
            <a:off x="642960" y="30718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Скор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Box 10"/>
          <p:cNvSpPr/>
          <p:nvPr/>
        </p:nvSpPr>
        <p:spPr>
          <a:xfrm>
            <a:off x="3429000" y="31431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Сила т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2-19T11:36:52Z</dcterms:modified>
  <cp:revision>121</cp:revision>
  <dc:subject/>
  <dc:title>Слайд 1</dc:title>
</cp:coreProperties>
</file>